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58A86F2-4A9E-4194-A08E-64291E36289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ED42E3D-4BBA-4E50-954D-FEF91B85A5CD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stance Vector Routing Protoco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50520" y="4734000"/>
            <a:ext cx="6940440" cy="6732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15440" y="3492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Discove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4600" y="1220760"/>
            <a:ext cx="7969320" cy="5400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Ex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routing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figu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rs will exchange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updates received from other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r checks update for new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re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w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etric is upd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ew information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d in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59320" y="4040280"/>
            <a:ext cx="354348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1360" y="30636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Discove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80720" y="1141560"/>
            <a:ext cx="8962920" cy="4913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hange of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 conver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ached 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l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ing t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network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tain the sam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etwork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continue to exchange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o new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ou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n Conver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867040" y="4105440"/>
            <a:ext cx="388152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0760" y="45720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Discove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1880" y="14889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onvergence must be rea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a network is considered completely op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achieving convergence consists of 2 interdependent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ed of broadcasting ro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peed of calculating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944960" y="3699000"/>
            <a:ext cx="4000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5560" y="15001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dic Upd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IPv1 &amp; RIP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ime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which a router sen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its entire 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82600" y="3365640"/>
            <a:ext cx="631368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23720" y="15145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 uses 4 ti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i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valid ti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Holddown tim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Flush tim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182760" y="2013120"/>
            <a:ext cx="55897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37920" y="1536480"/>
            <a:ext cx="794052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ed Updates: 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RPG routing update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rtial upd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riggered by topology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ou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Non period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60760" y="3670200"/>
            <a:ext cx="537696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55200" y="329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82480" y="135252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ggered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ditions in which triggered updates are 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rface changes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 becomes unreac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Route is placed in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95600" y="4006800"/>
            <a:ext cx="53877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343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Maintenanc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9600" y="1289160"/>
            <a:ext cx="7804080" cy="4827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dom Ji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ynchroniz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dition where multiple routers on multi access LAN segments transmit routing updates at the sam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Problems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ynchroniz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Bandwidth con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cket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roblem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of random vari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ed RIP_JI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451480" y="3773520"/>
            <a:ext cx="327960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41292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7440" y="1719360"/>
            <a:ext cx="3587760" cy="4486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loo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ditio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packet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tinuousl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mit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rout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out e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ing i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071960" y="1214280"/>
            <a:ext cx="4591080" cy="51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55560" y="1780920"/>
            <a:ext cx="7940880" cy="42433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be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aused b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orrectly configured sta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orrectly configured route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low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orrectly configured discard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loo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reate the follow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cess use of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PU resources may be st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convergence is de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7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updates may be lost or not processed in a time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racteristics of distance vector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network discovery process of distance vector routing protocols using Routing Information Protocol (RIP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processes to maintain accurate routing tables used by distance vector routing protoc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onditions leading to a routing loop and explain the implications for router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at distance vector routing protocols are in use to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 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 to In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routing loop whereby packets bounc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finitely around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81360" y="3244680"/>
            <a:ext cx="561816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18840" y="150984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 a 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tance Vector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t a specified metric value to indicate in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router “counts to infinity” it marks the rou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unreac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00160" y="3699000"/>
            <a:ext cx="538020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97040" y="3279600"/>
            <a:ext cx="7545240" cy="30402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5200" y="3963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4840" y="143352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ing loops with holddown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Holddown tim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ow a router to not accept any changes to a route for a specified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Point of using holddown ti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routing updates to propagate through network with the most current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55200" y="3445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82480" y="12920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 Horiz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d to prevent rout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 Horizon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should not advertise a network through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from which the update c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52600" y="3660840"/>
            <a:ext cx="61596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04840" y="1512360"/>
            <a:ext cx="4075200" cy="519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lit horiz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oison rever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 states t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a router learn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nreachable rou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an interfa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rtise it a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reachable ba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sa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487760" y="1430280"/>
            <a:ext cx="43783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41520" y="29952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Loop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6080" y="1085400"/>
            <a:ext cx="7940520" cy="54183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&amp; TT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urpose of the TTL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TL field is found in an IP header and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used to prevent packets from endlessl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veling on a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he TTL field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TL field contains a numeric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umeric value is decreased by 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router on the route to the destin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numeric value rea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Pack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discar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3456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Toda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06080"/>
            <a:ext cx="7940880" cy="1954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0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s used to determine whether to use RIP or EIGRP 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mpatibility between models of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ministrative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20840" y="3213000"/>
            <a:ext cx="833724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Toda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eatures of R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pport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plit horizon &amp; split horizon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oison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apable of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ad balan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asy to con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9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ks in a multi vendor router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Protocols Toda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8000"/>
          </a:bodyPr>
          <a:p>
            <a:pPr marL="208080" indent="-20808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IG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5440">
              <a:lnSpc>
                <a:spcPct val="8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Features of EIGR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riggered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IGRP hello protocol used to establis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 adjac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upports VLSM &amp; route summa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se of topology table to maintain all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lassless distance vector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8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isco proprietary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64920" y="1582560"/>
            <a:ext cx="7940520" cy="4811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Distance Vector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 routing updates include the entir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ghbors are defined as routers that share a link and are configured to use the same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network discovery process for D.V. routing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connected routes are placed in routing tabl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routing protocol is configured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will exchange rou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gence is reached when all network routers have th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network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36480" y="1582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 of Distance Vector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outing Information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I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terior Gateway Routing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GRP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7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hanced Interior Gateway Routing Protoc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IGR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74760" y="1379520"/>
            <a:ext cx="8221680" cy="5021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V. routing protocols maintains routing tables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 sending out periodic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 using 4 different timers to  ensure information is accurate and convergence is achieved in a timely m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RP sending out trigger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.V. routing protocols may be prone to routing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loops are a condition in which packets continuously traverse a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used to minimize routing loops include defining maximum hop count, holddown timers, split horizon, route poisoning and triggered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3682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5560" y="1335240"/>
            <a:ext cx="7940880" cy="5200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ditions that can lead to routing loop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ly configured static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ly configured route re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ow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rectly configured discard ro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routing loops can impact network performance inclu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ss use of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resources may be st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vergence is degra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updates may be lost or not proces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55560" y="1781280"/>
            <a:ext cx="7940880" cy="416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Information Protocol (R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tance vector protocol that has 2 ver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v1 – a classful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Pv2  - a classless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d Interior Gateway Routing Protocol (EIGR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stance vector routing protocols that has some features of link state routing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sco proprietary rout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73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74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418760"/>
            <a:ext cx="7940880" cy="4465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Vecto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aning of Distance V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•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using distance vector routing protocols knows 2 th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sta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inal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1500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ctor, or dire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hould be dir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5200" y="29952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36480" y="1211040"/>
            <a:ext cx="7940880" cy="3571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acteristics of Distance Vector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ic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cas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routing table is included with routing up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85840" y="3505320"/>
            <a:ext cx="4992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8260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0680" y="2274480"/>
            <a:ext cx="6441840" cy="4583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42840" y="2287440"/>
            <a:ext cx="7293240" cy="4400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2520" y="1127160"/>
            <a:ext cx="827064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ing Protocol 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Defined a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 procedure for accomplishing a certain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5840" y="1517760"/>
            <a:ext cx="794052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Protoc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049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riteria used to compare routing protoc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2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ime to converg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2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calabi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225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Resource us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Implementation &amp; mainten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Distance Vector Routing Protocol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085760" y="1630440"/>
            <a:ext cx="725328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Network Discove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5560" y="148284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ter initial start 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ld Sta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049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itial networ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1049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connected networks are initially placed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89120" y="3637080"/>
            <a:ext cx="771192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09:13Z</dcterms:modified>
  <cp:revision>332</cp:revision>
  <dc:subject/>
  <dc:title>Distance Vector Routing Protoco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