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156CF58-59EE-4AF8-8490-7992D591168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2.5.2 topology.  If you can fit the router output that would be great but if not just use th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3.1.2….in particular the “debug 1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associated with CDP protocols (graphic 2.3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router output graphic 2.3.4.1 (all 3) – this will cover this slide and the previous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6.1.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6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2.5.1….would suggest modifying graphic such that each component is identified prior to placing on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2BCD891-953F-41E9-BDDD-C494CD318615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5552C14-0005-400A-AE7B-8DC0BBCEEF4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ic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serial links in a lab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de of a serial connection must be considered a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placing a clocking signal – use the clock rate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nterface serial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clockrate 6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Interfaces require a clock signal to control the timing of the communcation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the debug ip routing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view changes that the router performs when adding or removing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#debug ip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routing debugging i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an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)#interface fastethernet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-if)#ip address 172.16.1.1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-if)#no shutd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45160" y="4017960"/>
            <a:ext cx="4254480" cy="140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14280" y="3846600"/>
            <a:ext cx="4398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has it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terfaces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o other routing protocols ar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routing table contains only the 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nly devices on the directly connected networks are reach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50920" y="3149640"/>
            <a:ext cx="6372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5440" y="1712880"/>
            <a:ext cx="408312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7360" y="3179880"/>
            <a:ext cx="4051440" cy="1355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6680" y="2467080"/>
            <a:ext cx="4286160" cy="188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881360" y="4665600"/>
            <a:ext cx="50958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8720" y="1391760"/>
            <a:ext cx="25686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each rout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is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d to check end to end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35200" y="1187280"/>
            <a:ext cx="6129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3800" y="3416400"/>
            <a:ext cx="552132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C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 2 cisco proprietary tool used to gather information about other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irectly conn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sco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types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Layer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Layer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P show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play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devi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time value, in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device capabi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hardwar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remote por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ful in determining if an IP address configuration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C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able CDP globally use the following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no cdp r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ly configured route used when routing from a network to a stub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76320" y="2514600"/>
            <a:ext cx="7148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general role a router plays in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rectly connected networks, different router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irectly connected networks in the routing table and use the CDP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ic routes with exit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ummary and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how packets get forwarded when using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ow to manage and troubleshoot static ro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391760"/>
            <a:ext cx="82155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gure a static route use the following command: 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(config)# ip route network-address subnet-mask {ip-address | exit-interfac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15880" y="3303720"/>
            <a:ext cx="67248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ecting static route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route - Static rout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16.1.0 – Destination network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.255.255.0 - Subnet mask of destin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16.2.2 - Serial 0/0/0 interface IP address on R2, which is the "next-hop" to th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22400" y="3846600"/>
            <a:ext cx="5630760" cy="2836800"/>
            <a:chOff x="1922400" y="3846600"/>
            <a:chExt cx="5630760" cy="28368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922400" y="3981600"/>
              <a:ext cx="563076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573360" y="3846600"/>
              <a:ext cx="261324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routes to 2 or more remo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commands for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p route 192.168.1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p route 192.168.2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95520" y="3422520"/>
            <a:ext cx="6140520" cy="3033720"/>
            <a:chOff x="1595520" y="3422520"/>
            <a:chExt cx="6140520" cy="30337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595520" y="3510000"/>
              <a:ext cx="6140520" cy="29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438360" y="3422520"/>
              <a:ext cx="261324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Zinin’s 3 routing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Every router makes its decision alone, based on the information it has in its own routing table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The fact that one router has certain information in its routing table does not mean that other routers have the same information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Routing information about a path from one network to another does not provide routing information about the reverse, or return path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5600" y="4189320"/>
            <a:ext cx="5170320" cy="2489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Zinin’s 3 routing principles, how would you answer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ould packets from PC1 reach their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ckets destined for 172.16.1.0/24 and 192.168.1.0/24 networks would reach their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oes this mean that any packets from these networks destined for 172.16.3.0/24 network will reach their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neither R2 nor R3 router has a route to the 172.16.3.0/24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5320" y="1391760"/>
            <a:ext cx="82407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ving to an Exi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Recursive route loo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ccurs when the router has to perform multiple lookups in the routing table before forwarding a packet.  A static route that forwards all packets to the next-hop IP address goes through the following process (reclusive route loo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first must match static route’s destination IP address with the Next ho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hop address is then matched to an exit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78200" y="4179960"/>
            <a:ext cx="4449600" cy="2427120"/>
            <a:chOff x="1978200" y="4179960"/>
            <a:chExt cx="4449600" cy="24271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44960" y="4179960"/>
              <a:ext cx="248580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978200" y="4464000"/>
              <a:ext cx="4449600" cy="21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0270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a Static route with an Exit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atic routes configured with an exit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more 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ing table can resolve the exit interface in a single search instead of 2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 of syntax require to configure a static route with an exit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54440" y="3390840"/>
            <a:ext cx="5181120" cy="3299760"/>
            <a:chOff x="2854440" y="3390840"/>
            <a:chExt cx="5181120" cy="329976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854440" y="3661200"/>
              <a:ext cx="5181120" cy="30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3672360" y="3390840"/>
              <a:ext cx="2998800" cy="24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ying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isting static ro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odified.  The old static route must be deleted by placing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ont of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2.168.2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tatic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rewritten in the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5440" y="3848040"/>
            <a:ext cx="55674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the Static Rout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the follow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ic route has been entere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 was configured in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 issu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to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s can reach destination and that Return path is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76240" y="4533840"/>
            <a:ext cx="43880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255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968400"/>
            <a:ext cx="7940880" cy="5556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interfaces and A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static route is configured on an Etherne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e packet is sent to the next-hop router t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stination MAC address will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ext hop’s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found by the router consul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ntry isn’t found then an AR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ill be sent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19160" y="4754520"/>
            <a:ext cx="4091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General Role of the Ro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of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2000" spc="-1" strike="noStrike">
                <a:solidFill>
                  <a:srgbClr val="35297d"/>
                </a:solidFill>
                <a:latin typeface="Arial"/>
              </a:rPr>
              <a:t>Path S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35297d"/>
                </a:solidFill>
                <a:latin typeface="Arial"/>
              </a:rPr>
              <a:t>Forwarding 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th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1800 series routers connected via WAN lin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ch router connected to a LAN represented by a switch and a 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0880" y="3936960"/>
            <a:ext cx="54993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ing ro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edu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routing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summa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of combining a number of static routes into a single static rou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  Delete the current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 Configure the summary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 Verify the new static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0280" y="3119400"/>
            <a:ext cx="4405320" cy="294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60920" y="3608280"/>
            <a:ext cx="43448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is is a route that will match all 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tub routers that have a number of static routes all exiting the same interface are good candidates for a default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ike route summarization this will help reduce the size of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default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configuring a static route.  Except that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estination IP address and subnet mask are all z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(config)#ip route 0.0.0.0 0.0.0.0 [exit-interface | ip-address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 and subnet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ing table lookup process will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 the most specific m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comparing destination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static routes and subnet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subnet mask used on a default static route is 0.0.0.0 all packets will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8560" y="1391760"/>
            <a:ext cx="34398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arrives on R1’s Fastethernet 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does not have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to the destin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2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uses the defaul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76760" y="1022400"/>
            <a:ext cx="5389560" cy="2876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38640" y="4417920"/>
            <a:ext cx="49053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2880" y="277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7120" y="980640"/>
            <a:ext cx="8213760" cy="2287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ket arrives on the Serial 0/0/0 interface on 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has a static route to 192.168.2.0/24 out Serial0/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27000" y="3446640"/>
            <a:ext cx="5451480" cy="2908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181480" y="3930480"/>
            <a:ext cx="3629160" cy="123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91120" y="4595760"/>
            <a:ext cx="761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ket arrives on the Serial0/0/1 interface on R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has a connected route to 192.168.2.0/24 out Fastethernet 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25400" y="3808440"/>
            <a:ext cx="5693040" cy="3049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19640" y="5052960"/>
            <a:ext cx="39243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that can be used to isolate routing problem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ests end to end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Tracer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– used to discover all of the hops (routers) along the path between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to display routing table &amp; ascertain forward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to show status of 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to gather configuration information about directly connected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missing or mis-configured route requires methodically using the corr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art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ping fails then use traceroute to determine where packets are failing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: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amin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is a problem with a mis-configured static route remove the static route then reconfigure the new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11080" y="2048040"/>
            <a:ext cx="3961080" cy="250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950000" y="3691080"/>
            <a:ext cx="37954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General Role of the Ro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of a Router for W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router has a DB-60 port that can support 5 different cabl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of a Router fo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types of connectors can be used: Straight through and Cross-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through used to 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itch-to-Router, Switch-to-PC, Router-to-Server, Hub-to-PC, Hub-to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over used to conn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itch-to-Switch, PC-to-PC, Switch-to-Hub, Hub-to-Hub, Router-to-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33600" y="1839960"/>
            <a:ext cx="5074920" cy="4814640"/>
            <a:chOff x="2433600" y="1839960"/>
            <a:chExt cx="5074920" cy="48146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3000240" y="4330800"/>
              <a:ext cx="3980160" cy="23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433600" y="1839960"/>
              <a:ext cx="5074920" cy="247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9760" y="256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5200" y="1157400"/>
            <a:ext cx="828504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perate at lay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unctions include best path selection &amp; forward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W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cables are connected to router serial por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 environment clock rates must be configured for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through cables or cross over cables are used to connect to fastethernet port.  (The type of cable used depends on what devices are being conn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Discovery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 2 proprietary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iscover information about directly connected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Cis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56920" y="1219320"/>
            <a:ext cx="794052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is a manually configured path that specifies how the router will get to a certain point using a certain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is several static routes that have been condensed into a single static ro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t is the route packets use if there is no other possible match for their destination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of packets when static route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inin’s 3 routing principles describe how packets are for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ubleshooting static ro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require some of the following command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ac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ip interface brie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cdp neighbors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2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Rout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view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status of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a por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the interfa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file in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44720" y="4205160"/>
            <a:ext cx="4197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n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By 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serial and Ethernet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nterfaces are 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o enable an interface use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98720" y="4502160"/>
            <a:ext cx="513864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60520" y="2646360"/>
            <a:ext cx="45133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84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3960" y="993240"/>
            <a:ext cx="794052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 for fastEthernet 0/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mmand used to sh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fast Ethe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12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hernet interfaces participate in AR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0880" y="4002120"/>
            <a:ext cx="7378560" cy="253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60800" y="1712880"/>
            <a:ext cx="3984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8720" y="14842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Seri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nterface configura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in the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in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nterface serial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ip address 172.16.2.1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no shu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60800" y="0"/>
            <a:ext cx="418320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77920" y="4815000"/>
            <a:ext cx="61232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Rout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hysically connecting a WAN Interfa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WAN Physical Layer connection has s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ircuit-terminating Equipment (DCE) – This is the service provider.  CSU/DSU is a DCE devi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rminal Equipment (DTE) – Typically the router is the DTE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6:19Z</dcterms:modified>
  <cp:revision>313</cp:revision>
  <dc:subject/>
  <dc:title>Static Ro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