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2.png" ContentType="image/png"/>
  <Override PartName="/ppt/media/image10.png" ContentType="image/png"/>
  <Override PartName="/ppt/media/image1.jpeg" ContentType="image/jpe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55200" y="6271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4044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532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5556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4044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532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5200" y="6271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93680" y="6565680"/>
            <a:ext cx="9619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PC v4.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hapte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141B1C97-EE1B-4C57-B930-D8F3969EA0DA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4509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7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1229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1893960"/>
            <a:ext cx="9140760" cy="2449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09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7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229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565680"/>
            <a:ext cx="9619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PC v4.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hapte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C796B475-4C0F-49C0-8CA4-D28FCDBCA939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0680" y="267192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483160" y="5940360"/>
            <a:ext cx="3354480" cy="474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246240" y="119160"/>
            <a:ext cx="1171440" cy="904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0680" y="267192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OSPF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10680" y="4672080"/>
            <a:ext cx="4103640" cy="658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uting Protocols and Concepts – Chapter 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Introduction to OSPF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45760" y="1579680"/>
            <a:ext cx="79405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 protocol packets contain information that is used in elec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Designated Router (D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 is responsible for updating all other OSPF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Backup Designated Router (BD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outer takes over DR’s responsibilities if DR f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544680"/>
            <a:ext cx="8145360" cy="628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Introduction to OSPF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07880" y="1098360"/>
            <a:ext cx="7940880" cy="2336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SPF Link-state Upd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pose of a Link State Update (LS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o deliver link state advertis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pose of a Link State Advertisement (LS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ins information about neighbors &amp; path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728720" y="2868480"/>
            <a:ext cx="543708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978360" y="2147760"/>
            <a:ext cx="5056200" cy="36133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73040" y="337680"/>
            <a:ext cx="814536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Introduction to OSPF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36240" y="1193760"/>
            <a:ext cx="4143240" cy="53992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PF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PF routers build &amp; maintain link-state database containing LSA received from other ro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found in database is utilized upon execution of  Dijkstra SPF  algorit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F algorithm used to create SPF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F tree used to populate routing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3680" y="35100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Introduction to OSPF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18840" y="1424160"/>
            <a:ext cx="7940520" cy="1404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ministrative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ault Administrative Distance for OSPF is 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93880" y="2525760"/>
            <a:ext cx="7073640" cy="38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173320" y="3697200"/>
            <a:ext cx="4710240" cy="3032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55200" y="31068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Introduction to OSPF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76080" y="1054080"/>
            <a:ext cx="79405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PF Authent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1049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 is to encrypt &amp; authenticate rout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1049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n interface specific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1049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rs will only accept routing information from other routers that have been configured with the same password or authentication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630440" y="3487680"/>
            <a:ext cx="5816520" cy="30463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Basic OSPF Configura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74560" y="15256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 Top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ology used for this chap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ontiguous IP addressing sch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OSPF is a classless routing protocol the subnet mask is configured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54040" y="34776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Basic OSPF Configura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18840" y="1450800"/>
            <a:ext cx="79405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outer ospf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nable OSPF on a router use the following comm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(config)#</a:t>
            </a:r>
            <a:r>
              <a:rPr b="1" lang="en-US" sz="2000" spc="-1" strike="noStrike">
                <a:solidFill>
                  <a:srgbClr val="b21a1a"/>
                </a:solidFill>
                <a:latin typeface="Arial"/>
              </a:rPr>
              <a:t>router ospf </a:t>
            </a:r>
            <a:r>
              <a:rPr b="1" i="1" lang="en-US" sz="2000" spc="-1" strike="noStrike">
                <a:solidFill>
                  <a:srgbClr val="b21a1a"/>
                </a:solidFill>
                <a:latin typeface="Arial"/>
              </a:rPr>
              <a:t>process-id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i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locally significant number betwee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55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his means it does not have to match other OSP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267000" y="4154400"/>
            <a:ext cx="2865600" cy="7844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898800" y="4975200"/>
            <a:ext cx="2903760" cy="7318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4535640" y="5738760"/>
            <a:ext cx="283500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139760" y="4103640"/>
            <a:ext cx="5821560" cy="2583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0120" y="310680"/>
            <a:ext cx="814536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Basic OSPF Configura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5560" y="1104840"/>
            <a:ext cx="7940880" cy="5400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PF network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Requires entering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twork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dcard mas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the inverse of the subne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a-id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a-id refers to the OSPF area.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PF area  is a group of routers tha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e link state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Example:  Router(config-router)#</a:t>
            </a:r>
            <a:r>
              <a:rPr b="1" lang="en-US" sz="2000" spc="-1" strike="noStrike">
                <a:solidFill>
                  <a:srgbClr val="b21a1a"/>
                </a:solidFill>
                <a:latin typeface="Arial"/>
              </a:rPr>
              <a:t>netw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network-address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ildcard-ask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rea-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32880" y="3985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Basic OSPF Configura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33080" y="1528560"/>
            <a:ext cx="794052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r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n IP address used to identify a ro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criteria for deriving the router 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IP address configured with OSPF </a:t>
            </a:r>
            <a:r>
              <a:rPr b="0" i="1" lang="en-US" sz="2000" spc="-1" strike="noStrike">
                <a:solidFill>
                  <a:srgbClr val="b21a1a"/>
                </a:solidFill>
                <a:latin typeface="Arial"/>
              </a:rPr>
              <a:t>router-i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akes precedence over loopback and physical interface addr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router-id command not used then router chooses highest IP address of any loopback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o loopback interfaces are configured then the highest IP address on any active interface is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714920" y="3433680"/>
            <a:ext cx="4429080" cy="24224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3680" y="34776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Basic OSPF Configura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31560" y="1346040"/>
            <a:ext cx="79405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PF Router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s used to verify current router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Show ip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Show ip osp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Show ip ospf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23880" y="3490920"/>
            <a:ext cx="425772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background and basic features of OSP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and apply the basic OSPF configuration comm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, modify and calculate the metric used by OSP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Designated Router/Backup Designated Router (DR/BDR) election process in multiaccess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uses of additional configuration commands in OSP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63600" y="34776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Basic OSPF Configura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93760" y="1484280"/>
            <a:ext cx="832464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9000"/>
          </a:bodyPr>
          <a:p>
            <a:pPr marL="23400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PF Router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4000" indent="-23400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r ID &amp; Loopback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Highest loopback address will be used as router ID if router-id command isn’t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dvantage of using loopback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oopback interface cannot fail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SPF st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4000" indent="-23400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SPF router-id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800">
              <a:lnSpc>
                <a:spcPct val="8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d in IOS 12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800">
              <a:lnSpc>
                <a:spcPct val="8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nd syn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5040">
              <a:lnSpc>
                <a:spcPct val="8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(config)#router ospfprocess-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5040">
              <a:lnSpc>
                <a:spcPct val="8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(config-router)#router-idip-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4000" indent="-23400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ying the Router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800">
              <a:lnSpc>
                <a:spcPct val="8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command</a:t>
            </a: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</a:t>
            </a: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#clear i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ospf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164120" y="1074600"/>
            <a:ext cx="4800600" cy="7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66760" y="31608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Basic OSPF Configura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63240" y="1143000"/>
            <a:ext cx="7940520" cy="4694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ing OSP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how ip ospf command to verify &amp; trouble shoot OSPF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nd will display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ighbor adjac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No adjacency indicated by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>
              <a:lnSpc>
                <a:spcPct val="8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ighboring router’s Router ID is not display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>
              <a:lnSpc>
                <a:spcPct val="8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tate o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not display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onsequence of no adjacency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>
              <a:lnSpc>
                <a:spcPct val="8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link state information exchan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>
              <a:lnSpc>
                <a:spcPct val="8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accurate SPF trees &amp; routing 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03360" y="5222880"/>
            <a:ext cx="764532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12840" y="682560"/>
            <a:ext cx="8145360" cy="5270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Basic OSPF Configura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655560" y="2021040"/>
          <a:ext cx="7940880" cy="3849480"/>
        </p:xfrm>
        <a:graphic>
          <a:graphicData uri="http://schemas.openxmlformats.org/drawingml/2006/table">
            <a:tbl>
              <a:tblPr/>
              <a:tblGrid>
                <a:gridCol w="3970440"/>
                <a:gridCol w="3970440"/>
              </a:tblGrid>
              <a:tr h="650520"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0200"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 ip protoco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2000" spc="-1" strike="noStrike">
                          <a:solidFill>
                            <a:srgbClr val="b21a1a"/>
                          </a:solidFill>
                          <a:latin typeface="Arial"/>
                        </a:rPr>
                        <a:t>Display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SPF process ID, 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router I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networks router is advertising &amp; 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administrative dist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0200"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 ip osp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2000" spc="-1" strike="noStrike">
                          <a:solidFill>
                            <a:srgbClr val="b21a1a"/>
                          </a:solidFill>
                          <a:latin typeface="Arial"/>
                        </a:rPr>
                        <a:t>Display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PF process ID, 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router I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OSPF area information 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&amp; the last time SPF algorithm calcula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560">
                <a:tc>
                  <a:txBody>
                    <a:bodyPr lIns="82440" rIns="82440" tIns="36720" bIns="3672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 ip ospf interf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2440" marR="82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814320"/>
                          <a:tab algn="l" pos="1628640"/>
                          <a:tab algn="l" pos="2443320"/>
                          <a:tab algn="l" pos="3257640"/>
                          <a:tab algn="l" pos="4071960"/>
                          <a:tab algn="l" pos="4886280"/>
                          <a:tab algn="l" pos="5700600"/>
                          <a:tab algn="l" pos="6515280"/>
                          <a:tab algn="l" pos="7329600"/>
                          <a:tab algn="l" pos="8143920"/>
                          <a:tab algn="l" pos="8958240"/>
                          <a:tab algn="l" pos="9772560"/>
                          <a:tab algn="l" pos="10586880"/>
                        </a:tabLst>
                      </a:pPr>
                      <a:r>
                        <a:rPr b="0" lang="en-US" sz="2000" spc="-1" strike="noStrike">
                          <a:solidFill>
                            <a:srgbClr val="b21a1a"/>
                          </a:solidFill>
                          <a:latin typeface="Arial"/>
                        </a:rPr>
                        <a:t>Display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hello interval and 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dead interv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>
            <a:off x="566640" y="1252440"/>
            <a:ext cx="794088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ing OSPF - Additional Comm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5920" y="520200"/>
            <a:ext cx="8145360" cy="6462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Basic OSPF Configura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91840" y="1249200"/>
            <a:ext cx="79405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ing the routing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how ip route command to display the routing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n “O’ at the beginning of a route indicates that the router source is OSP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Note OSPF does not automatically summarize at major network bound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789200" y="3613320"/>
            <a:ext cx="5757840" cy="30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OSPF Metric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9400" y="1552680"/>
            <a:ext cx="7691400" cy="488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PF us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the metric for determining the best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The best route will have the lowest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Co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based on bandwidth of an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is calculated using the form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1137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/ bandwid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Reference 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aults to 100M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modified u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b21a1a"/>
                </a:solidFill>
                <a:latin typeface="Arial"/>
              </a:rPr>
              <a:t>auto-cost reference-bandwidt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796000" y="3586320"/>
            <a:ext cx="2662200" cy="17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73040" y="35568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OSPF Metric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55560" y="1147680"/>
            <a:ext cx="7940880" cy="998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an OSPF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accumulated value from one router to the 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165320" y="2212920"/>
            <a:ext cx="632916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3120" y="302760"/>
            <a:ext cx="814536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OSPF Metric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22080" y="1114560"/>
            <a:ext cx="7940520" cy="2985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0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the actual speed of a link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differ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n the default 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0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akes it imperative that the bandwidth value reflects link’s actual sp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son: so routing table has best path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b21a1a"/>
                </a:solidFill>
                <a:latin typeface="Arial"/>
              </a:rPr>
              <a:t>show interf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mand will display interface’s 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Most serial link default to 1.544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087640" y="3825720"/>
            <a:ext cx="441000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85760" y="3524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Basic OSPF Configura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177920"/>
            <a:ext cx="7991280" cy="4294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ying the Cost of a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sides of a serial link should be configured with the same 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0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nds used to modify bandwidth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b21a1a"/>
                </a:solidFill>
                <a:latin typeface="Arial"/>
              </a:rPr>
              <a:t>Bandwid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>
              <a:lnSpc>
                <a:spcPct val="80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Router(config-if)#</a:t>
            </a:r>
            <a:r>
              <a:rPr b="1" lang="en-US" sz="2000" spc="-1" strike="noStrike">
                <a:solidFill>
                  <a:srgbClr val="b21a1a"/>
                </a:solidFill>
                <a:latin typeface="Arial"/>
              </a:rPr>
              <a:t>bandwidth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andwidth-kb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b21a1a"/>
                </a:solidFill>
                <a:latin typeface="Arial"/>
              </a:rPr>
              <a:t>ip ospf co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and – allows you to directly specify interface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Example:R1(config)#interface serial 0/0/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(config-if)#ip ospf cost 15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476600" y="4842000"/>
            <a:ext cx="4473720" cy="12445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189000" y="4830840"/>
            <a:ext cx="4116240" cy="131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3680" y="393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Basic OSPF Configura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7000" y="1316160"/>
            <a:ext cx="79405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ying the Cost of the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ce between bandwidth command &amp; the ip ospf cost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b21a1a"/>
                </a:solidFill>
                <a:latin typeface="Arial"/>
              </a:rPr>
              <a:t>Ip ospf co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s cost to a specific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b21a1a"/>
                </a:solidFill>
                <a:latin typeface="Arial"/>
              </a:rPr>
              <a:t>Bandwid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 cost is calcul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206960" y="3322800"/>
            <a:ext cx="471492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097080" y="3236760"/>
            <a:ext cx="5153040" cy="34164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33360" y="39060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OSPF and Multiaccess Network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5760" y="1206360"/>
            <a:ext cx="79405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llenges in Multiaccess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PF defines five network 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int-to-po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adcast Multiacc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broadcast Multiaccess (NBM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int-to-multipo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 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Introduc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193760" y="1392120"/>
            <a:ext cx="6927840" cy="50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728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OSPF in Multiaccess Network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5560" y="141444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challenges presented by multiaccess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adjac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sive LSA flo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424240" y="2759040"/>
            <a:ext cx="4322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81160" y="38736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OSPF in Multiaccess Network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55560" y="1378080"/>
            <a:ext cx="7940880" cy="3836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ve flooding of L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very LSA sent out there must be an acknowledgement of receipt sent back to transmitting rou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equence:  lots of bandwidth consumed and chaotic traf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440080" y="2982960"/>
            <a:ext cx="397980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84320" y="39528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OSPF in Multiaccess Network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86920" y="1378080"/>
            <a:ext cx="4653000" cy="5479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to LSA flooding issue is the us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ated router (D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up designated router (BD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 &amp; BDR se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s are elected to send &amp; receive L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ing &amp; Receiving L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others send LSAs via multicast 224.0.0.6 to DR &amp; BD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 forward LSA via multicast address 224.0.0.5 to all other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686480" y="3973680"/>
            <a:ext cx="4136760" cy="27432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4836960" y="1257480"/>
            <a:ext cx="407844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785960" y="2465280"/>
            <a:ext cx="5783400" cy="401796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OSPF in Multiaccess Network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9760" y="1469880"/>
            <a:ext cx="79405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/BDR Elec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/BDR election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ccur in point to point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OSPF in Multiaccess Network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37920" y="1671480"/>
            <a:ext cx="79405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/BDR election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ll take place on multiaccess networ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shown be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763640" y="2448000"/>
            <a:ext cx="521028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5419800" y="1325520"/>
            <a:ext cx="3477960" cy="177156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4960" y="449280"/>
            <a:ext cx="6329520" cy="6732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OSPF in Multiaccess Networks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5689440" cy="25700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8000"/>
          </a:bodyPr>
          <a:p>
            <a:pPr marL="372960" indent="-37296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eria for getting elected DR/B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9280" indent="-335880">
              <a:lnSpc>
                <a:spcPct val="85000"/>
              </a:lnSpc>
              <a:spcBef>
                <a:spcPts val="876"/>
              </a:spcBef>
              <a:buClr>
                <a:srgbClr val="708ca1"/>
              </a:buClr>
              <a:buFont typeface="Arial"/>
              <a:buAutoNum type="arabicPeriod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outer with th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high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SPF interfac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rior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928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D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Router with th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cond high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SPF  interfac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rior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928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PF interfac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riorities are equ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928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highest router 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used to break the t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559400" y="3956040"/>
            <a:ext cx="4465440" cy="26845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233280" y="3954600"/>
            <a:ext cx="423252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OSPF in Multiaccess Network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ing of DR/BDR E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curs as soon a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outer has its interface enabled on multiacces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 DR is elected it remains as the DR until one of the following occ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he DR fai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he OSPF process on the DR fai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he multiaccess interface on the DR fai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OSPF in Multiaccess Network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45840" y="1663560"/>
            <a:ext cx="7940520" cy="4749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ipulating the elec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If you want to influence the election of DR &amp; BDR then do one of the follow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ot up the DR first, followed by the BDR, and then boot all other router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ut down the interface on all routers, followed by a </a:t>
            </a:r>
            <a:r>
              <a:rPr b="1" lang="en-US" sz="2000" spc="-1" strike="noStrike">
                <a:solidFill>
                  <a:srgbClr val="b21a1a"/>
                </a:solidFill>
                <a:latin typeface="Arial"/>
              </a:rPr>
              <a:t>no shutdow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the DR, then the BDR, and then all other rou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7160" y="34452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OSPF in Multiaccess Network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1880" y="1176120"/>
            <a:ext cx="7940880" cy="2904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PF Interface Pri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ipulating the DR/BDR election process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</a:t>
            </a: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ip ospf priority interf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Router(config-if)#</a:t>
            </a:r>
            <a:r>
              <a:rPr b="1" lang="en-US" sz="2000" spc="-1" strike="noStrike">
                <a:solidFill>
                  <a:srgbClr val="b21a1a"/>
                </a:solidFill>
                <a:latin typeface="Arial"/>
              </a:rPr>
              <a:t>ip ospf prior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1" lang="en-US" sz="2000" spc="-1" strike="noStrike">
                <a:solidFill>
                  <a:srgbClr val="b21a1a"/>
                </a:solidFill>
                <a:latin typeface="Arial"/>
              </a:rPr>
              <a:t>0 - 25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ity number range 0 to 2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>
              <a:lnSpc>
                <a:spcPct val="8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means the router cannot become the DR or BD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>
              <a:lnSpc>
                <a:spcPct val="8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is the default priority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349200" y="3902040"/>
            <a:ext cx="3240000" cy="22654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3749760" y="4178160"/>
            <a:ext cx="5268960" cy="15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5421240" y="582480"/>
            <a:ext cx="3722760" cy="22464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2920" y="474840"/>
            <a:ext cx="5367240" cy="847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More OSPF Configura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6400" y="1590840"/>
            <a:ext cx="7940520" cy="4590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0000"/>
          </a:bodyPr>
          <a:p>
            <a:pPr marL="2127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istributing an OSPF Default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760" indent="-21276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ology includes a link to I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69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 connected to I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2296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ed an autonomous system border ro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2296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o propagate a default ro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2860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 of static default ro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286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(config)#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p route 0.0.0.0 0.0.0.0 loopback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2860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s the use of the </a:t>
            </a:r>
            <a:r>
              <a:rPr b="1" lang="en-US" sz="2000" spc="-1" strike="noStrike">
                <a:solidFill>
                  <a:srgbClr val="b21a1a"/>
                </a:solidFill>
                <a:latin typeface="Arial"/>
              </a:rPr>
              <a:t>default-information origin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2860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 of default-information originate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286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(config-router)#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ault-information origin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2120" y="30492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Introduction to OSPF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5560" y="118440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 of OSP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7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an in 19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7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89 OSPFv1 released in RFC 11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7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version was experimental &amp; never deplo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7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1 OSPFv2 released in RFC 12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7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8 OSPFv2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pd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RFC 23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7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99 OSPFv3 published in RFC 274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812960" y="4395960"/>
            <a:ext cx="537372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4600" y="337680"/>
            <a:ext cx="814536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More OSPF Configura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61720" y="1608120"/>
            <a:ext cx="4422600" cy="4186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Tuning OSP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link speeds are getting faster it may be necessary to change reference bandwidth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this using the </a:t>
            </a:r>
            <a:r>
              <a:rPr b="1" lang="en-US" sz="2000" spc="-1" strike="noStrike">
                <a:solidFill>
                  <a:srgbClr val="b21a1a"/>
                </a:solidFill>
                <a:latin typeface="Arial"/>
              </a:rPr>
              <a:t>auto-cost reference-bandwid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b21a1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1(config-router)#</a:t>
            </a:r>
            <a:r>
              <a:rPr b="1" lang="en-US" sz="2000" spc="-1" strike="noStrike">
                <a:solidFill>
                  <a:srgbClr val="b21a1a"/>
                </a:solidFill>
                <a:latin typeface="Arial"/>
              </a:rPr>
              <a:t>auto-cost reference-bandwidth 1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692600" y="1123920"/>
            <a:ext cx="4111560" cy="25448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729320" y="3720960"/>
            <a:ext cx="42224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74840" y="33660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More OSPF Configura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96640" y="1714320"/>
            <a:ext cx="794052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6000"/>
          </a:bodyPr>
          <a:p>
            <a:pPr marL="226800" indent="0">
              <a:lnSpc>
                <a:spcPct val="9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e-Tuning OSP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6800" indent="-22680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ying OSPF ti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152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son to modify ti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7768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er detection of network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152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ually modifying Hello &amp; Dead interv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7768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(config-if)#</a:t>
            </a:r>
            <a:r>
              <a:rPr b="1" lang="en-US" sz="2000" spc="-1" strike="noStrike">
                <a:solidFill>
                  <a:srgbClr val="b21a1a"/>
                </a:solidFill>
                <a:latin typeface="Arial"/>
              </a:rPr>
              <a:t>ip ospf hello-interval  sec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7768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(config-if)#</a:t>
            </a:r>
            <a:r>
              <a:rPr b="1" lang="en-US" sz="2000" spc="-1" strike="noStrike">
                <a:solidFill>
                  <a:srgbClr val="b21a1a"/>
                </a:solidFill>
                <a:latin typeface="Arial"/>
              </a:rPr>
              <a:t>ip ospf dead-interval sec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152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int to be m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7768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lo &amp; Dead intervals must be the same between neighb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356000" y="1192320"/>
            <a:ext cx="427536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3280" y="33336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55560" y="1241280"/>
            <a:ext cx="7940880" cy="5470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0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FC 2328 describes OSPF link state concepts and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PF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0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monly deployed link state routing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0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loy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&amp;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D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on multi-access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s &amp; BDRs are el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 &amp; BDRs are used to transmit and receive L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0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5 packet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b21a1a"/>
                </a:solidFill>
                <a:latin typeface="Arial"/>
              </a:rPr>
              <a:t>1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048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b21a1a"/>
                </a:solidFill>
                <a:latin typeface="Arial"/>
              </a:rPr>
              <a:t>2: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A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E</a:t>
            </a:r>
            <a:r>
              <a:rPr b="1" lang="en-US" sz="1800" spc="-1" strike="noStrike">
                <a:solidFill>
                  <a:srgbClr val="b21a1a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048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b21a1a"/>
                </a:solidFill>
                <a:latin typeface="Arial"/>
              </a:rPr>
              <a:t>3: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K</a:t>
            </a:r>
            <a:r>
              <a:rPr b="1" lang="en-US" sz="1800" spc="-1" strike="noStrike">
                <a:solidFill>
                  <a:srgbClr val="b21a1a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TE</a:t>
            </a:r>
            <a:r>
              <a:rPr b="1" lang="en-US" sz="1800" spc="-1" strike="noStrike">
                <a:solidFill>
                  <a:srgbClr val="b21a1a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048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b21a1a"/>
                </a:solidFill>
                <a:latin typeface="Arial"/>
              </a:rPr>
              <a:t>4: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K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TE</a:t>
            </a:r>
            <a:r>
              <a:rPr b="1" lang="en-US" sz="1800" spc="-1" strike="noStrike">
                <a:solidFill>
                  <a:srgbClr val="b21a1a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ATE </a:t>
            </a:r>
            <a:r>
              <a:rPr b="1" lang="en-US" sz="1800" spc="-1" strike="noStrike">
                <a:solidFill>
                  <a:srgbClr val="b21a1a"/>
                </a:solidFill>
                <a:latin typeface="Arial"/>
              </a:rPr>
              <a:t>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048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b21a1a"/>
                </a:solidFill>
                <a:latin typeface="Arial"/>
              </a:rPr>
              <a:t>5: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K</a:t>
            </a:r>
            <a:r>
              <a:rPr b="1" lang="en-US" sz="1800" spc="-1" strike="noStrike">
                <a:solidFill>
                  <a:srgbClr val="b21a1a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TE</a:t>
            </a:r>
            <a:r>
              <a:rPr b="1" lang="en-US" sz="1800" spc="-1" strike="noStrike">
                <a:solidFill>
                  <a:srgbClr val="b21a1a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KNOWLED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048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b21a1a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55560" y="1534680"/>
            <a:ext cx="7940880" cy="4451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PF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ric =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est cost = best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OSPF on a router using the following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(config)#</a:t>
            </a:r>
            <a:r>
              <a:rPr b="1" lang="en-US" sz="2000" spc="-1" strike="noStrike">
                <a:solidFill>
                  <a:srgbClr val="b21a1a"/>
                </a:solidFill>
                <a:latin typeface="Arial"/>
              </a:rPr>
              <a:t>router ospf </a:t>
            </a:r>
            <a:r>
              <a:rPr b="1" i="1" lang="en-US" sz="2000" spc="-1" strike="noStrike">
                <a:solidFill>
                  <a:srgbClr val="b21a1a"/>
                </a:solidFill>
                <a:latin typeface="Arial"/>
              </a:rPr>
              <a:t>process-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network command to define which interfaces will participate in a given OSPF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(config-router)#</a:t>
            </a:r>
            <a:r>
              <a:rPr b="1" lang="en-US" sz="2000" spc="-1" strike="noStrike">
                <a:solidFill>
                  <a:srgbClr val="b21a1a"/>
                </a:solidFill>
                <a:latin typeface="Arial"/>
              </a:rPr>
              <a:t>netw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network-address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wildcard-mask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rea-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45840" y="1681200"/>
            <a:ext cx="79405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ing OSPF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following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ip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ip ro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ip ospf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ip ospf neighb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"/>
          <p:cNvGrpSpPr/>
          <p:nvPr/>
        </p:nvGrpSpPr>
        <p:grpSpPr>
          <a:xfrm>
            <a:off x="0" y="0"/>
            <a:ext cx="9144000" cy="4374360"/>
            <a:chOff x="0" y="0"/>
            <a:chExt cx="9144000" cy="4374360"/>
          </a:xfrm>
        </p:grpSpPr>
        <p:grpSp>
          <p:nvGrpSpPr>
            <p:cNvPr id="221" name=""/>
            <p:cNvGrpSpPr/>
            <p:nvPr/>
          </p:nvGrpSpPr>
          <p:grpSpPr>
            <a:xfrm>
              <a:off x="2741760" y="2365200"/>
              <a:ext cx="3800880" cy="2009160"/>
              <a:chOff x="2741760" y="2365200"/>
              <a:chExt cx="3800880" cy="2009160"/>
            </a:xfrm>
          </p:grpSpPr>
          <p:sp>
            <p:nvSpPr>
              <p:cNvPr id="222" name="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9760" y="307440"/>
            <a:ext cx="814536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Introduction to OSPF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69640" y="1114560"/>
            <a:ext cx="4475160" cy="5292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PF Message Encaps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37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SPF packet typ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96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exist 5 typ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37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SPF packet head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96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66ff"/>
                </a:solidFill>
                <a:latin typeface="Arial"/>
              </a:rPr>
              <a:t>Contain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- Router ID an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ea ID</a:t>
            </a:r>
            <a:r>
              <a:rPr b="0" lang="en-US" sz="2200" spc="-1" strike="noStrike">
                <a:solidFill>
                  <a:srgbClr val="b21a1a"/>
                </a:solidFill>
                <a:latin typeface="Arial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ype code for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SPF packet typ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37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P packet hea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66ff"/>
                </a:solidFill>
                <a:latin typeface="Arial"/>
              </a:rPr>
              <a:t>Contain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- Source IP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ress, Destination IP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ress, &amp; Protocol fiel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t to 89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835520" y="1846440"/>
            <a:ext cx="406404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Introduction to OSPF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99760" y="1508040"/>
            <a:ext cx="79405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PF Message Encaps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link frame 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s - Source MAC address and Destin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919160" y="3206880"/>
            <a:ext cx="524844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Introduction to OSPF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0120" y="1517760"/>
            <a:ext cx="794052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PF Packet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19200" y="2328840"/>
            <a:ext cx="79405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371680" y="3500280"/>
            <a:ext cx="4711680" cy="33577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53520" y="501120"/>
            <a:ext cx="8145720" cy="636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Introduction to OSPF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3320" y="1055520"/>
            <a:ext cx="79405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7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lo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7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PF Hello Pa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0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pose of Hello Pa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ver OSPF neighbors &amp; establish adjac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ertise guidelines on which routers must agree to become neighb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by multi-access networks to elect a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ignated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er and a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kup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ignated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32400" y="3502080"/>
            <a:ext cx="4383000" cy="32209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64680" y="32076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Introduction to OSPF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85480" y="1230480"/>
            <a:ext cx="7940520" cy="5216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 Packets 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s of a Hello Pa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 ID of transmitting ro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PF Hello Interv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ually multicast (224.0.0.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t every 30 seconds for NBMA seg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PF Dead Interv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the time that must trans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ore the neighbor is consider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ault time is 4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hello inter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Global Knowledge</dc:creator>
  <dc:description/>
  <cp:keywords/>
  <dc:language>en-US</dc:language>
  <cp:lastModifiedBy>Alison DuBose</cp:lastModifiedBy>
  <cp:lastPrinted>1999-01-27T00:54:54Z</cp:lastPrinted>
  <dcterms:modified xsi:type="dcterms:W3CDTF">2007-06-26T21:08:36Z</dcterms:modified>
  <cp:revision>341</cp:revision>
  <dc:subject>Module 07 Lesson 01</dc:subject>
  <dc:title>BSCI 2.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