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43A0E96-360E-4145-9868-06258ED97DE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54EA3AB-9646-4ECC-81CA-7E0E6644D27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P version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520" y="3524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RIPv1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440" y="1383840"/>
            <a:ext cx="4487760" cy="5218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224640" indent="-224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RIP on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ng to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tise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 R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o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81680" y="1203480"/>
            <a:ext cx="3582720" cy="184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41960" y="3135240"/>
            <a:ext cx="3135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804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760" y="1761840"/>
            <a:ext cx="4495680" cy="450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erify and troubleshoo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 ip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bug ip r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94080" y="1765440"/>
            <a:ext cx="4240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7520" y="390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5520" y="1468440"/>
            <a:ext cx="3122640" cy="431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 ip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s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2080" y="1309680"/>
            <a:ext cx="52880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333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5600" y="1009440"/>
            <a:ext cx="8018280" cy="1393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 ip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d to display RIP routing updates as they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68280" y="2260440"/>
            <a:ext cx="71438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6920" y="1781280"/>
            <a:ext cx="8582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d to prevent a router from sending updates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-router)#passive-interface interface-type 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19240" y="2063880"/>
            <a:ext cx="5307120" cy="450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" y="1409760"/>
            <a:ext cx="85816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948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8480" y="1065240"/>
            <a:ext cx="5786280" cy="524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21744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scenario has been modified such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classful networks are u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0.0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.4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.5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72.30.0.0/16 network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ted into three subn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1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2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3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devices are part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0.0/16 classful network add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erfaces on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0/0/0 and Fa0/0 on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89600" y="1523880"/>
            <a:ext cx="4000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6240" y="1568520"/>
            <a:ext cx="4789440" cy="4641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remove the RIP ro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use the follow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router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check the configu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38840" y="2347920"/>
            <a:ext cx="3924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314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0640" y="10429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ary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automatically summarizes classfu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routers summarize RIP subnets from one major network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14760" y="3027240"/>
            <a:ext cx="5241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3840" y="3218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8080" y="1333080"/>
            <a:ext cx="5692680" cy="4992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RIP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rules govern RIPv1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a routing update and the interface it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on belong 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net mask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is applied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 the rou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a routing update and the interface it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on belong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ful subnet mask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applied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 the routing upd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56400" y="1222200"/>
            <a:ext cx="2906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functions, characteristics, and operation of the RIPv1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 a device for using RIPv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roper RIPv1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RIPv1 performs automatic summar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, verify, and troubleshoot default routes propagated in a routed network implementing RIPv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commended techniques to solve problems related to RIP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15271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ing RIP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uses automatic summarization to reduce the size of a routing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27640" y="2484360"/>
            <a:ext cx="36622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2200" y="4381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200" y="1450800"/>
            <a:ext cx="4157640" cy="5010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automatic summ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siz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update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ingle routes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e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ou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result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lookup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14760" y="1459080"/>
            <a:ext cx="42102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5040" y="324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1880" y="1179360"/>
            <a:ext cx="82216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of Automatic Summ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es not support discontiguou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79800" y="2151000"/>
            <a:ext cx="4356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4160" y="1644480"/>
            <a:ext cx="3755880" cy="450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tiguous Topologies do not converge with RIPv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r will only advertise major network addresses out interfaces that do not belong to the advertised ro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07000" y="1238400"/>
            <a:ext cx="38750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2120" y="336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efault Route and 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760" y="1314360"/>
            <a:ext cx="7920000" cy="458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Topology: 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ro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that are not defined specifically in a routing table will go to the specified interface for the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Customer routers use default route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onnect to an ISP rou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used to configure a default rout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 route 0.0.0.0 0.0.0.0 s0/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3720" y="339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efault Route and 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28760" y="1284120"/>
            <a:ext cx="6226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3938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efault Route and 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436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ng the Default Route in RIP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ault-information orig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command is used to specify that the router is to originate default information, by propagating the static default route in RIP upd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70360" y="3095640"/>
            <a:ext cx="48290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characteristic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, distance vector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is Hop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upport VLSM or discontiguous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messages are encapsulated in a UDP segment with source and destination ports of 5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:  Commands used by RI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55560" y="1900080"/>
          <a:ext cx="7940520" cy="3571560"/>
        </p:xfrm>
        <a:graphic>
          <a:graphicData uri="http://schemas.openxmlformats.org/drawingml/2006/table">
            <a:tbl>
              <a:tblPr/>
              <a:tblGrid>
                <a:gridCol w="3970080"/>
                <a:gridCol w="3970440"/>
              </a:tblGrid>
              <a:tr h="46404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and’s 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)#router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ables RIP rout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-router)#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es a network with a RIP rout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#debug ip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to view real time RIP routing 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-router)#passive-interface fa0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ent RIP updates from going out an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-router)#default-information origin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by RIP to propagate default ro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#show ip protoc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to display timers used by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762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 classful, Distance Vector (DV)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ric =  hop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s with a hop count &gt; 15 are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pdates are broadcast 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324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5880" y="1136160"/>
            <a:ext cx="3801960" cy="551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Messa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header - divided into 3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man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ersion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st be z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Entry - composed of 3 fie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dress family 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75040" y="2092320"/>
            <a:ext cx="523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68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uses 2 messag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is sent out on startup by each R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quests all RIP enabled neighbors to 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ssage sent to requesting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ing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371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1000" y="1390320"/>
            <a:ext cx="4535280" cy="503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initially divided in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is a classful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es not send subn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in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9360" y="1069920"/>
            <a:ext cx="43182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3640" y="1201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v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’s default administrative distance is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66960" y="2144880"/>
            <a:ext cx="4206960" cy="2136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440" y="4440240"/>
            <a:ext cx="3838320" cy="214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33920" y="4365720"/>
            <a:ext cx="374976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RIPv1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60960" y="1982880"/>
            <a:ext cx="4357440" cy="464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1446120"/>
            <a:ext cx="5167440" cy="456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ypical topology suitable for use by RIPv1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ree router set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 PCs attached to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 of 5 different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7520" y="372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RIPv1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4680" y="14018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RIP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RIP en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global configuration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ompt will look lik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1(config-router)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68400" y="3722760"/>
            <a:ext cx="5345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1:48Z</dcterms:modified>
  <cp:revision>329</cp:revision>
  <dc:subject/>
  <dc:title>RIP ver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