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F18E091-A57B-4924-A947-892EEBE630F9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773A9244-70A4-4037-961D-D43E962D23F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Pv2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339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v1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lassful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bnet mask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are not s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mmarizes networks at major network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network is discontiguous and RIPv1 configu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gence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not be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299120" y="3846600"/>
            <a:ext cx="431928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120" y="376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00440" y="1319040"/>
            <a:ext cx="4281480" cy="2340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81560" y="3855960"/>
            <a:ext cx="4483080" cy="22622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-162000" y="1306080"/>
            <a:ext cx="5362560" cy="553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the rout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examine the content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updates us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debug ip r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RIPv1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d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s will not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d wit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068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6000" y="1166400"/>
            <a:ext cx="4457880" cy="553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1 does not support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RIPv1 does no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subnet m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1 does summarize routes to the Classful bound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s the Subnet m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going interf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i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s to adv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78200" y="1241280"/>
            <a:ext cx="4327560" cy="49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320" y="1780920"/>
            <a:ext cx="4010040" cy="462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CIDR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diagram R2 will not include the static route in its upda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: Classful routing protocol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do not support CID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outes that are summarized with a smaller mask than the classful subnet mas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389480" y="1679400"/>
            <a:ext cx="44481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1200" y="3636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3480" y="1292040"/>
            <a:ext cx="7940880" cy="2657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ng RIPv1 &amp; RIPv2 Message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IPv2 Message format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imi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IPv1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st extension is the subnet mask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nd extension is the addition of next ho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95360" y="3475080"/>
            <a:ext cx="52912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and Verifying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RIP on a Cisco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run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9200" y="353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635280" y="1538280"/>
            <a:ext cx="5278680" cy="46162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2160" y="1456920"/>
            <a:ext cx="4056120" cy="5265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v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 Cisco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quires using 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version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IPv2 ignores RIPv1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erify RIPv2 is configured us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show ip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440" y="398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1743120"/>
            <a:ext cx="3681360" cy="4719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-Summary &amp;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2 will automatically summarize routes at major network boundari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also summarize routes with a subnet mask that is smaller than the classful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116240" y="1033560"/>
            <a:ext cx="4154760" cy="2506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083120" y="3787920"/>
            <a:ext cx="475128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47320" y="1724040"/>
            <a:ext cx="35830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ing Auto-Summary in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able automatic summarization issue the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no auto-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63960" y="1133640"/>
            <a:ext cx="4510080" cy="55339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63520" y="297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604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760" y="1633320"/>
            <a:ext cx="8680320" cy="4622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RIPv2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RIPv2 with automatic summarization turned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bnet and mask has its own specific entry, alo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exit interface and next-hop address to reach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verify information being sent by RIPv2 us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debug ip r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nter and describe the limitations of RIPv1’s limi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basic Routing Information Protocol Version 2 (RIPv2) configuration commands and evaluate RIPv2 classless routing upd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router output to see RIPv2 support for VLSM and CI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RIPv2 verification commands and common RIPv2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, verify, and troubleshoot RIPv2 in “hands-on”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0280" y="307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 &amp; CID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2520" y="1780920"/>
            <a:ext cx="4086360" cy="4738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2 and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using a VLSM IP addressing sche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assles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v2)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subn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594320" y="1057320"/>
            <a:ext cx="3759120" cy="197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6480" y="3059280"/>
            <a:ext cx="4298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 &amp; CID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uses Super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netting is a bunch of contiguous class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 that is addressed as a sing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 &amp; CID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200" y="1625400"/>
            <a:ext cx="31942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upern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being sent and received use the following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ow ip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bug ip 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807000" y="1420920"/>
            <a:ext cx="522900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ying &amp; Troubleshoot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55560" y="1211400"/>
            <a:ext cx="7940880" cy="5378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Troubleshoo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eck the status of all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eck ca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heck IP address &amp; subnet mask configu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move any unneeded configuration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used to verify proper operation of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p interfaces 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p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ip 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p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ying &amp; Troubleshoot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609200"/>
            <a:ext cx="8077320" cy="450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RIPv2 Iss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rouble shooting RIPv2 examine the following issu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to make sure you are using version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stat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twork statements may be incorrectly typ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ummarized routes are not needed then disabl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tomatic summar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5120" y="388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ying &amp; Troubleshooting RIPv2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760" y="1410840"/>
            <a:ext cx="8329680" cy="4799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sons why it’s good to authenticate routing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vent the possibility of accepting invalid rout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tents of routing updates are encry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routing protocols that can use 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IP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-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176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54160" y="2036880"/>
          <a:ext cx="8781840" cy="3956040"/>
        </p:xfrm>
        <a:graphic>
          <a:graphicData uri="http://schemas.openxmlformats.org/drawingml/2006/table">
            <a:tbl>
              <a:tblPr/>
              <a:tblGrid>
                <a:gridCol w="922320"/>
                <a:gridCol w="906480"/>
                <a:gridCol w="1058760"/>
                <a:gridCol w="841320"/>
                <a:gridCol w="843120"/>
                <a:gridCol w="725400"/>
                <a:gridCol w="976320"/>
                <a:gridCol w="812880"/>
                <a:gridCol w="915840"/>
                <a:gridCol w="779400"/>
              </a:tblGrid>
              <a:tr h="21160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t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co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t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ct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les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uting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co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ld-Dow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r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of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it Horizon 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it Horizon w/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ison Revers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 coun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mmar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D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ppor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S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s Authen-ticatio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Pv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1a1a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1a1a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1a1a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21a1a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P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5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304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53960"/>
            <a:ext cx="7940880" cy="5205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26800" indent="-22680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fference between RIPv1 &amp; RIP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classful distance vector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oes not support discontiguous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oes not support VL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oes not send subnet mask in rout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04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updates are 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768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classless distance vector routing protocol that is 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ment of RIPv1’s fea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xt hop address is included in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updates are multi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use of authentication is an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ies between RIPv1 &amp;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Use of timers to prevent routing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Use of split horizon or split horizon with pois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er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Use of triggered upd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Maximum hop count of 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4096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60640" y="2881440"/>
            <a:ext cx="5156280" cy="3617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5440" y="1333440"/>
            <a:ext cx="4640400" cy="5245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router set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is discontig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exists a static summary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route information can be injected into routing table updates using re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1 &amp; 3 contain VLS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7760" y="364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4840" y="1244160"/>
            <a:ext cx="3716280" cy="5613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enario Continu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L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ecall this is sub netting the sub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vate IP addresses are on LAN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c IP addresses are used on WAN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pback interfac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se are virtual interfaces that can be pinged and added to routing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089240" y="1204920"/>
            <a:ext cx="48816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501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l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a virtual interface that does not need to b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d or configur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affic sent to a null interface is disc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ull interfaces do not send or receive traff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es and null interfa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ll interfaces will serve as the exit interface for static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 of configuring a static supernet route with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l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(config)#ip route 192.168.0.0 255.255.0.0 Null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120" y="302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0875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 re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distribution command is way to disseminate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oute from one router to another via a rou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2(config-router)#redistribute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0440" y="3871800"/>
            <a:ext cx="3956040" cy="2638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60840" y="3846600"/>
            <a:ext cx="396720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 Limitation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ing and Testing Conne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ip interfaces br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15:47Z</dcterms:modified>
  <cp:revision>322</cp:revision>
  <dc:subject/>
  <dc:title>RIPv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