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3235C76-EB27-4F9D-B770-0C9E299D3622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55FDA59-9B3E-44AD-BA79-285C7FB068B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SP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5760" y="157968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 protocol packets contain information that is used in ele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signated Router (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 is responsible for updating all other OSPF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ckup Designated Router (B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outer takes over DR’s responsibilities if DR f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4680"/>
            <a:ext cx="8145360" cy="628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7880" y="1098360"/>
            <a:ext cx="7940880" cy="233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PF Link-state Up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a Link State Update (LS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deliver link state advertis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a Link State Advertisement (L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information about neighbors &amp; path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28720" y="2868480"/>
            <a:ext cx="54370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78360" y="2147760"/>
            <a:ext cx="5056200" cy="36133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73040" y="337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6240" y="1193760"/>
            <a:ext cx="4143240" cy="5399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routers build &amp; maintain link-state database containing LSA received from other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found in database is utilized upon execution of  Dijkstra SPF 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F algorithm used to create SPF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F tree used to populate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3680" y="3510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8840" y="1424160"/>
            <a:ext cx="7940520" cy="1404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Administrative Distance for OSPF is 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93880" y="2525760"/>
            <a:ext cx="707364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73320" y="3697200"/>
            <a:ext cx="4710240" cy="3032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310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6080" y="105408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is to encrypt &amp; authenticate ro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interface specific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will only accept routing information from other routers that have been configured with the same password or authentica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30440" y="3487680"/>
            <a:ext cx="5816520" cy="3046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4560" y="1525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used for this chap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ntiguous IP addressing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OSPF is a classless routing protocol the subnet mask is configur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4040" y="3477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8840" y="145080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uter ospf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able OSPF on a router use the following comm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(config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router ospf </a:t>
            </a:r>
            <a:r>
              <a:rPr b="1" i="1" lang="en-US" sz="2000" spc="-1" strike="noStrike">
                <a:solidFill>
                  <a:srgbClr val="b21a1a"/>
                </a:solidFill>
                <a:latin typeface="Arial"/>
              </a:rPr>
              <a:t>process-i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cally significant number betwe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5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is means it does not have to match other OSP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67000" y="4154400"/>
            <a:ext cx="2865600" cy="784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898800" y="4975200"/>
            <a:ext cx="2903760" cy="731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35640" y="5738760"/>
            <a:ext cx="28350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39760" y="4103640"/>
            <a:ext cx="5821560" cy="2583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0120" y="310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5560" y="1104840"/>
            <a:ext cx="7940880" cy="5400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network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quires entering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dcard mas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inverse of the subn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-id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-id refers to the OSPF area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PF area  is a group of routers th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link stat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ample:  Router(config-router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twork-addres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ldcard-ask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rea-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2880" y="3985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3080" y="1528560"/>
            <a:ext cx="794052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IP address used to identify a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riteria for deriving the router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P address configured with OSPF 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router-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akes precedence over loopback and physical interface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outer-id command not used then router chooses highest IP address of any loopback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loopback interfaces are configured then the highest IP address on any active interface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14920" y="3433680"/>
            <a:ext cx="4429080" cy="24224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3680" y="3477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1560" y="134604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Rout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used to verify current rout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os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ospf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23880" y="3490920"/>
            <a:ext cx="42577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background and basic features of 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pply the basic OSPF configuration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, modify and calculate the metric used by 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Designated Router/Backup Designated Router (DR/BDR) election process in multiacces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uses of additional configuration commands in 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3600" y="3477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3760" y="1484280"/>
            <a:ext cx="832464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Rout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ID &amp; Loopback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ighest loopback address will be used as router ID if router-id command isn’t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vantage of using loopback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opback interface cannot fai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SPF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SPF router-id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in IOS 1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)#router ospfprocess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router)#router-idip-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Rout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ommand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#clear 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osp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164120" y="1074600"/>
            <a:ext cx="480060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760" y="3160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3240" y="1143000"/>
            <a:ext cx="7940520" cy="4694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ing 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how ip ospf command to verify &amp; trouble shoot OSPF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will display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 adjac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o adjacency indicated by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ing router’s Router ID is not disp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t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disp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sequence of no adjacency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ink state information ex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ccurate SPF trees &amp; rout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3360" y="5222880"/>
            <a:ext cx="76453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840" y="682560"/>
            <a:ext cx="8145360" cy="527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55560" y="2021040"/>
          <a:ext cx="7940880" cy="3849480"/>
        </p:xfrm>
        <a:graphic>
          <a:graphicData uri="http://schemas.openxmlformats.org/drawingml/2006/table">
            <a:tbl>
              <a:tblPr/>
              <a:tblGrid>
                <a:gridCol w="3970440"/>
                <a:gridCol w="3970440"/>
              </a:tblGrid>
              <a:tr h="65052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02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 ip protoc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b21a1a"/>
                          </a:solidFill>
                          <a:latin typeface="Arial"/>
                        </a:rPr>
                        <a:t>Display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SPF process ID,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outer I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etworks router is advertising &amp;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dministrative di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02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 ip os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b21a1a"/>
                          </a:solidFill>
                          <a:latin typeface="Arial"/>
                        </a:rPr>
                        <a:t>Display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PF process ID,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outer I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OSPF area information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 the last time SPF algorithm calcu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82440" rIns="82440" tIns="36720" bIns="3672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 ip ospf inter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b21a1a"/>
                          </a:solidFill>
                          <a:latin typeface="Arial"/>
                        </a:rPr>
                        <a:t>Display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llo interval and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ead 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566640" y="1252440"/>
            <a:ext cx="794088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ing OSPF - Additional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5920" y="520200"/>
            <a:ext cx="8145360" cy="646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91840" y="124920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ing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how ip route command to display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n “O’ at the beginning of a route indicates that the router source is OS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ote OSPF does not automatically summarize at major network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89200" y="3613320"/>
            <a:ext cx="575784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Metric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9400" y="1552680"/>
            <a:ext cx="7691400" cy="488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us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 metric for determining the best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best route will have the lowest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C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based on bandwidth of an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is calculated using the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/ bandwid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ferenc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s to 100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modified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auto-cost reference-bandwid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796000" y="3586320"/>
            <a:ext cx="266220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3040" y="3556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Metric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147680"/>
            <a:ext cx="7940880" cy="998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n OSPF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cumulated value from one router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65320" y="2212920"/>
            <a:ext cx="6329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3120" y="30276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Metric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2080" y="1114560"/>
            <a:ext cx="7940520" cy="2985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the actual speed of a lin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di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the default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kes it imperative that the bandwidth value reflects link’s actual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: so routing table has best path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show 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will display interface’s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ost serial link default to 1.544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87640" y="3825720"/>
            <a:ext cx="44100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5760" y="3524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177920"/>
            <a:ext cx="7991280" cy="42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Cost of a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ides of a serial link should be configured with the sam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s used to modify bandwidth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8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Router(config-if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bandwid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ndwidth-kb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ip ospf 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– allows you to directly specify interfac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ample:R1(config)#interface serial 0/0/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(config-if)#ip ospf cost 1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476600" y="4842000"/>
            <a:ext cx="4473720" cy="1244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89000" y="4830840"/>
            <a:ext cx="411624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3680" y="393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7000" y="131616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Cost of the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between bandwidth command &amp; the ip ospf cost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Ip ospf 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s cost to a specific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cost is cal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206960" y="3322800"/>
            <a:ext cx="47149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97080" y="3236760"/>
            <a:ext cx="5153040" cy="341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3360" y="3906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and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5760" y="120636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 in Multiacces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defines five network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-to-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Multi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broadcast Multiaccess (NBM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-to-multi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93760" y="1392120"/>
            <a:ext cx="692784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728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4144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hallenges presented by multiacces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adjac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ve LSA flo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424240" y="2759040"/>
            <a:ext cx="4322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1160" y="387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78080"/>
            <a:ext cx="7940880" cy="3836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flooding of L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LSA sent out there must be an acknowledgement of receipt sent back to transmitting ro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quence:  lots of bandwidth consumed and chaotic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40080" y="2982960"/>
            <a:ext cx="39798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4320" y="3952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6920" y="1378080"/>
            <a:ext cx="4653000" cy="5479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to LSA flooding issue is the us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ated router (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up designated router (B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 &amp; BDR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are elected to send &amp; receive 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&amp; Receiving L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thers send LSAs via multicast 224.0.0.6 to DR &amp; B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 forward LSA via multicast address 224.0.0.5 to all other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86480" y="3973680"/>
            <a:ext cx="4136760" cy="2743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836960" y="1257480"/>
            <a:ext cx="40784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85960" y="2465280"/>
            <a:ext cx="5783400" cy="40179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9760" y="146988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/BDR Ele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/BDR elec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 in point to poin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37920" y="167148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/BDR elec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take place on multiaccess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shown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763640" y="2448000"/>
            <a:ext cx="52102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419800" y="1325520"/>
            <a:ext cx="3477960" cy="17715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4960" y="449280"/>
            <a:ext cx="6329520" cy="673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5689440" cy="2570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72960" indent="-37296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getting elected DR/B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9280" indent="-33588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AutoNum type="arabicPeriod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ter with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igh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SPF interfac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o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92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Router with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cond high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SPF  interfac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o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92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PF interfac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orities are eq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92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ighest router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to break the 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59400" y="3956040"/>
            <a:ext cx="4465440" cy="2684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33280" y="3954600"/>
            <a:ext cx="42325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of DR/BDR 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s as soon a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ter has its interface enabled on multi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DR is elected it remains as the DR until one of the following 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DR f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OSPF process on the DR f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multiaccess interface on the DR f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5840" y="1663560"/>
            <a:ext cx="7940520" cy="4749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ting the ele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you want to influence the election of DR &amp; BDR then do one of the foll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t up the DR first, followed by the BDR, and then boot all other rout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ut down the interface on all routers, followed by a 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no shut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he DR, then the BDR, and then all other rou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7160" y="3445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1880" y="1176120"/>
            <a:ext cx="7940880" cy="2904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Interface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ting the DR/BDR election process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ip ospf priority inte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Router(config-if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ip ospf prio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0 - 25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 number range 0 to 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eans the router cannot become the DR or B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s the default priorit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49200" y="3902040"/>
            <a:ext cx="3240000" cy="2265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749760" y="4178160"/>
            <a:ext cx="526896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421240" y="582480"/>
            <a:ext cx="3722760" cy="22464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474840"/>
            <a:ext cx="5367240" cy="847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6400" y="1590840"/>
            <a:ext cx="7940520" cy="4590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0000"/>
          </a:bodyPr>
          <a:p>
            <a:pPr marL="212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stributing an OSPF Default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includes a link to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69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connected to 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29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an autonomous system border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29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propagate a default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286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static default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286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(config)#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route 0.0.0.0 0.0.0.0 loopback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286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the use of the 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default-information origin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286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default-information originat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286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(config-router)#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ault-information orig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2120" y="3049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18440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of 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in 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9 OSPFv1 released in RFC 11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version was experimental &amp; never de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1 OSPFv2 released in RFC 12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8 OSPFv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pd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FC 23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 OSPFv3 published in RFC 27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12960" y="4395960"/>
            <a:ext cx="537372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4600" y="337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1720" y="1608120"/>
            <a:ext cx="4422600" cy="418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Tuning 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ink speeds are getting faster it may be necessary to change reference bandwidth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is using the 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auto-cost reference-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1(config-router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auto-cost reference-bandwidth 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92600" y="1123920"/>
            <a:ext cx="4111560" cy="25448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729320" y="3720960"/>
            <a:ext cx="42224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74840" y="3366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96640" y="1714320"/>
            <a:ext cx="794052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268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e-Tuning OSP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800" indent="-2268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ing OSPF 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152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 to modify 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76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detection of network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152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ly modifying Hello &amp; Dead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76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if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ip ospf hello-interval  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76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if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ip ospf dead-interval 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152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to be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76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lo &amp; Dead intervals must be the same between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356000" y="1192320"/>
            <a:ext cx="4275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33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5560" y="1241280"/>
            <a:ext cx="7940880" cy="5470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2328 describes OSPF link state concepts an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monly deployed link state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&amp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on multi-access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s &amp; BDRs are 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 &amp; BDRs are used to transmit and receive L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5 packet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1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2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A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E</a:t>
            </a: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3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K</a:t>
            </a: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TE</a:t>
            </a: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4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K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TE</a:t>
            </a: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ATE </a:t>
            </a: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5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K</a:t>
            </a: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TE</a:t>
            </a: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NOWLE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534680"/>
            <a:ext cx="7940880" cy="4451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 =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cost = best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OSPF on a router using the following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(config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router ospf </a:t>
            </a:r>
            <a:r>
              <a:rPr b="1" i="1" lang="en-US" sz="2000" spc="-1" strike="noStrike">
                <a:solidFill>
                  <a:srgbClr val="b21a1a"/>
                </a:solidFill>
                <a:latin typeface="Arial"/>
              </a:rPr>
              <a:t>process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network command to define which interfaces will participate in a given OSP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router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twork-addres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ldcard-mask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rea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5840" y="168120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ing OSPF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following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ospf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ospf neigh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21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22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9760" y="3074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9640" y="1114560"/>
            <a:ext cx="4475160" cy="529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Message 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PF packet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exist 5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PF packet head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Router ID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a ID</a:t>
            </a:r>
            <a:r>
              <a:rPr b="0" lang="en-US" sz="2200" spc="-1" strike="noStrike">
                <a:solidFill>
                  <a:srgbClr val="b21a1a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 code fo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PF packet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 packet h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Source IP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ess, Destination IP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ess, &amp; Protocol fie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to 89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35520" y="1846440"/>
            <a:ext cx="406404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9760" y="150804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Message 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ink fram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- Source MAC address and Destin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19160" y="3206880"/>
            <a:ext cx="5248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0120" y="1517760"/>
            <a:ext cx="79405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Packe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9200" y="2328840"/>
            <a:ext cx="7940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71680" y="3500280"/>
            <a:ext cx="4711680" cy="3357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3520" y="501120"/>
            <a:ext cx="8145720" cy="63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3320" y="105552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l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PF Hello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Hello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 OSPF neighbors &amp; establish adjac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tise guidelines on which routers must agree to become neighb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by multi-access networks to elect a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gnated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 and a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up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gnated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32400" y="3502080"/>
            <a:ext cx="4383000" cy="3220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4680" y="3207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480" y="1230480"/>
            <a:ext cx="7940520" cy="521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 Packets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 of a Hello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ID of transmitting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Hello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multicast (224.0.0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every 30 seconds for NBMA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Dead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time that must trans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the neighbor is consid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time is 4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ello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cp:keywords/>
  <dc:language>en-US</dc:language>
  <cp:lastModifiedBy>Alison DuBose</cp:lastModifiedBy>
  <cp:lastPrinted>1999-01-27T00:54:54Z</cp:lastPrinted>
  <dcterms:modified xsi:type="dcterms:W3CDTF">2007-06-26T21:08:36Z</dcterms:modified>
  <cp:revision>341</cp:revision>
  <dc:subject>Module 07 Lesson 01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