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27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6BDF698-88F1-4F78-A136-C4CF0CA29060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DE46678-A6F2-48CC-8633-46ED67C89CE4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roduction to Dynamic Routing Protoco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0680" y="4672080"/>
            <a:ext cx="410364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nd Concepts – Chapter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187880" y="2562120"/>
            <a:ext cx="4956120" cy="3376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5200" y="2890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ifying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5720" y="1093320"/>
            <a:ext cx="8019720" cy="5521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P: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ison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istance V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ink 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ance v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s are advertised as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distance &amp; dir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plete view of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, period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 view of net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ology is cre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s are no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ifying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33360" y="1603440"/>
            <a:ext cx="64882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ifying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2520" y="1781280"/>
            <a:ext cx="4137120" cy="434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ful 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 NOT  s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net mask in routing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less 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o s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bnet mask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upd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01960" y="1900080"/>
            <a:ext cx="3894120" cy="3571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40320" y="1422360"/>
            <a:ext cx="434484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ifying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g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fined as when all routers’ routing tables are at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state of 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84200" y="2386080"/>
            <a:ext cx="591516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Protocols Metric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value used by a routing protocol to determine which routes are better than oth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62120" y="2757600"/>
            <a:ext cx="424836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Protocols Metric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rics used in IP 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op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li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957400" y="2197080"/>
            <a:ext cx="555480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2890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Protocols Metric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90520" y="1087200"/>
            <a:ext cx="3913200" cy="53816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ric Field in the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Met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d for eac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hop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GRP &amp; EIGR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sed by default),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sed by default),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S-IS &amp; OSP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Co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Band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isco’s implemen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334040" y="1584360"/>
            <a:ext cx="4590720" cy="18795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181400" y="3516480"/>
            <a:ext cx="4799160" cy="2984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979880" y="1262160"/>
            <a:ext cx="2727360" cy="3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Protocols Metric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the ability of a router to distribute packets among multiple same cost pat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190600" y="3247920"/>
            <a:ext cx="5276520" cy="3079440"/>
            <a:chOff x="2190600" y="3247920"/>
            <a:chExt cx="5276520" cy="3079440"/>
          </a:xfrm>
        </p:grpSpPr>
        <p:pic>
          <p:nvPicPr>
            <p:cNvPr id="138" name="" descr=""/>
            <p:cNvPicPr/>
            <p:nvPr/>
          </p:nvPicPr>
          <p:blipFill>
            <a:blip r:embed="rId1"/>
            <a:stretch/>
          </p:blipFill>
          <p:spPr>
            <a:xfrm>
              <a:off x="2190600" y="3247920"/>
              <a:ext cx="5276520" cy="219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2"/>
            <a:stretch/>
          </p:blipFill>
          <p:spPr>
            <a:xfrm>
              <a:off x="2568960" y="5622480"/>
              <a:ext cx="4264560" cy="704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532240" y="2828880"/>
            <a:ext cx="4060800" cy="2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dministrative Distance of a Rout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 of a 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a calculated valu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d to determine the best 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 of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ministrative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’s a numeric value that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pecifies the preference of a particular ro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38480" y="3583080"/>
            <a:ext cx="571644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dministrative Distance of a Rout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ing the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ministrative </a:t>
            </a: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D) in a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he first number in the brack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rout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5080" y="3063960"/>
            <a:ext cx="4649760" cy="2394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08680" y="2925720"/>
            <a:ext cx="3973320" cy="1470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078520" y="4506840"/>
            <a:ext cx="394812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dynamic routing protocols and place these protocols in the context of modern network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everal ways to classify routing protoc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metrics are used by routing protocols and identify the metric types used by dynamic routing protoc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administrative distance of a route and describe its importance in the rou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different elements of the routing t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dministrative Distance of a Rout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186000" y="1924200"/>
            <a:ext cx="359424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dministrative Distance of a Rout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ly connecte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default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D of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ive distance of a static route has a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efault value of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16040" y="3602160"/>
            <a:ext cx="805644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Administrative Distance of a Rout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ly connected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mmediately appear in the routing table as soon as the interface is config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68440" y="2744640"/>
            <a:ext cx="827064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8200" y="258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8760" y="1171080"/>
            <a:ext cx="8221680" cy="5133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routing protoc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lfill the following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ynamically share infor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tween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utomatically update routing 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topology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etermine best 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re grouped as ei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terior gateway protoc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GP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xterior gateway protocols(E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IGPs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lassless routing protoc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hese protocols include subnet mask in routing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lassful routing protoc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hese protocols do not include subnet mask in routing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8200" y="25884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8760" y="1307880"/>
            <a:ext cx="8221680" cy="5133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ric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re used by dynamic routing protocols to calculate the best path to a destin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ministrative dista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n integer value that is used to indicate a router’s “trustworthiness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375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onents of a routing tab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Route sour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-Administrative di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-Metr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63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64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ynamic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(s) of Dynamic Routing Protoc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ynamically share information between rou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utomatically update routing table when topology chan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termine best path to a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71600" y="3144960"/>
            <a:ext cx="414828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ynamic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 of a dynamic routing protoc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isco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mote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intai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-to-date rout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hoosing the best 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estination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bility to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ind a new best 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the current path is no longer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79600" y="3722760"/>
            <a:ext cx="825660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ynamic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of a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a routing protocol algorithms are used for facilitating routing information and best path de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Routing protoco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are messages for discovering neighbors and exchange of rout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84240" y="3798720"/>
            <a:ext cx="650700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ynamic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dvant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t can backup multiple interfaces/networks on a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asy to con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o extra resources are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ore sec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advant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ro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etwork changes require manual reconfigu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oes not scale well in large top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ifying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56936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routing protoc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rouped according to characteris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Example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G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IGR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OS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S-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nomous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group of routers under the control of a single autho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36960" y="2076480"/>
            <a:ext cx="45370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ifying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routing protoc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terior Gateway Protoc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xterior Gateway Protoco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11400" y="2722680"/>
            <a:ext cx="4443480" cy="39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assifying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ior Gateway Routing Protocols (I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Used for routing inside an autonomous system &amp; used to route within the individual networks themsel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xamples: RIP, EIGRP, OSP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ior Routing Protocols (E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Used for routing between autonom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xample: BGP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6T18:07:33Z</dcterms:modified>
  <cp:revision>320</cp:revision>
  <dc:subject/>
  <dc:title>Introduction to Dynamic Routing Protoco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