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3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5.jpeg" ContentType="image/jpeg"/>
  <Override PartName="/ppt/media/image32.png" ContentType="image/png"/>
  <Override PartName="/ppt/media/image14.jpeg" ContentType="image/jpeg"/>
  <Override PartName="/ppt/media/image2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90008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7659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55200" y="627120"/>
            <a:ext cx="814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24640" y="37659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556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24640" y="190008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5560" y="37659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1E1E308-0D82-4AFE-AFFE-D46D3908D6F1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55560" y="190008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1893960"/>
            <a:ext cx="9140760" cy="244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9360" y="667224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© 2007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2960" y="6672240"/>
            <a:ext cx="6508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isco 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3680" y="6565680"/>
            <a:ext cx="9619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ITE PC v4.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d3d3d3"/>
                </a:solidFill>
                <a:latin typeface="Arial"/>
              </a:rPr>
              <a:t>Chapter 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6920" y="6626520"/>
            <a:ext cx="73944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AEC29CA-BAEB-46AC-8FE8-956862CAA4C4}" type="slidenum">
              <a:rPr b="0" lang="en-US" sz="1000" spc="-1" strike="noStrike">
                <a:solidFill>
                  <a:srgbClr val="d3d3d3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483160" y="5940360"/>
            <a:ext cx="3354480" cy="474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246240" y="11916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876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876"/>
              </a:spcBef>
              <a:buClr>
                <a:srgbClr val="708ca1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0680" y="2671920"/>
            <a:ext cx="376884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troduction to Routing and Packet Forward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1040" y="4672080"/>
            <a:ext cx="4059360" cy="6588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Protocols and Concepts – Chapter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63640" y="1498680"/>
            <a:ext cx="7291440" cy="44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9360" y="1380600"/>
            <a:ext cx="82980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Interface is a physical connector that enables a router to send or receive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interface connects to a separat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 of socket or jack found on the outside of a r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router interf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ast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S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06720" y="4240080"/>
            <a:ext cx="554832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600" y="1298520"/>
            <a:ext cx="5137200" cy="50767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ajor groups of Rout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 Interfa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d to connect router to LAN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layer 2 MAC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ssigned a Layer 3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consist of an RJ-45 j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400720" y="1593720"/>
            <a:ext cx="3556080" cy="178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36520" y="4319640"/>
            <a:ext cx="7264440" cy="50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N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sed to connect routers to external networks that interconnect L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WAN technology, a layer 2 address may b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layer 3 IP add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02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0000"/>
          </a:bodyPr>
          <a:p>
            <a:pPr marL="189000" indent="-18900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and the Network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93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use destination IP address to forward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th a packet takes is determined after a router consults information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router determines the bes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encapsulated into 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>
              <a:lnSpc>
                <a:spcPct val="8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 is then placed on network medium in form of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20760" y="3968640"/>
            <a:ext cx="459432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1778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61000"/>
          </a:bodyPr>
          <a:p>
            <a:pPr marL="144000" indent="-1440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Operate at Layers 1, 2 &amp;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receives a stream of encoded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s are decoded and passed to laye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de-encapsulates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packet passed up to lay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5764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decision made at this layer by examining 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02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is then re-encapsulated &amp; sent out outboun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04960" y="4438800"/>
            <a:ext cx="3787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 Basic Addressing Sc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designing a new network or mapping an existing network you must provide the following information in the form of a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964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Topology drawing that Illustrates physical conne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964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ess table that provides the following informa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ice n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faces 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964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ault gate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871800" y="4078440"/>
            <a:ext cx="498816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outer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asic router configuration should contain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outer n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Host name should be u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an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t a minimum, banner should warn against unauthorize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assw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Use strong pass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nterface configur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Specify interface type, IP address and subnet mask.  Describe purpose of interface.  Issue no shutdown command.  If DCE serial interface issue clock rate com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entering in the basic configuration the following tasks should be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Verif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figuration and router oper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changes on a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79720" y="1560600"/>
            <a:ext cx="50292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Configure Devices and Apply Address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Basic Router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ssue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ave the basic router configuration by Issuing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copy running-config startup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ditional commands that will enable you to further verify router configur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running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configuration currently in 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startup-conf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configuration file NV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nterfa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all interface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Show IP int brie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Displays abbreviated interface configura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is stored in ram and contains information ab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rectly connected net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occurs when a device is connected to another router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motely connected network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is a network that is not directly connected to a particular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etailed infor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bout the networks include source of information, network address &amp; subnet mask, and Ip address of next-hop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b21a1a"/>
                </a:solidFill>
                <a:latin typeface="Arial"/>
              </a:rPr>
              <a:t>Show ip ro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is used to view a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 router as a computer with an OS and hardware designed for the routing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the ability to configure devices and apply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structure of a routing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a router determines a path and switches pack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55200" y="28908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007640"/>
            <a:ext cx="7940880" cy="1668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5000"/>
          </a:bodyPr>
          <a:p>
            <a:pPr marL="200880" indent="-200880">
              <a:lnSpc>
                <a:spcPct val="7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a connected network to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8816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outer interface is a member of a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ated using the </a:t>
            </a:r>
            <a:r>
              <a:rPr b="0" i="1" lang="en-US" sz="2000" spc="-1" strike="noStrike">
                <a:solidFill>
                  <a:srgbClr val="b21a1a"/>
                </a:solidFill>
                <a:latin typeface="Arial"/>
              </a:rPr>
              <a:t>no shutdow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7724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for static and dynamic routes to exist in routing table you must have 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693800" y="2816280"/>
            <a:ext cx="549108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routes in the rout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cludes: network address and subnet mask and IP address of next hop router or exi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noted with the cod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ing tables must contain directly connected networks used to connect remote networks before static or dynamic routing can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use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hen network only consists of a few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is connected to internet only through one I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ub &amp; spoke topology is used on a larg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ed and Static ro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22360" y="1924200"/>
            <a:ext cx="6227640" cy="45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routing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Used to add remote networks to a rout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e used to discov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re used to update and maintain rout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network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s are able discover new networks by sharing routing tabl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ing routing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Dynamic routing protocols are used to share routing information with other router &amp; to maintain and up date their own rout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routing protocols. Example of routing protocols inclu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I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OS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93960" y="2979720"/>
            <a:ext cx="5261040" cy="36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Table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 principles regarding routing tab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very router makes its decisions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sed on the information it has in its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Different routing table may contain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differen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routing table can tell how to get to a destination but not how to get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41480" y="4017960"/>
            <a:ext cx="64846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ing Table Structure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of the 3 Routing Table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s are forwarded through the network from one router to another, on a hop by hop b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s can take path “X” to a destination but return via path “Y” (Asymmetric rout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63920" y="3960720"/>
            <a:ext cx="4038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 Protocol (IP) packet format contains fields that provide information about the packet and the sending and receiving h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s that are importance for CCNA stud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tination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urce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Version &amp; TT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P head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cedence &amp; type of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cket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678120" y="5108400"/>
            <a:ext cx="516276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Layer Fram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Frames are also divided into fields.  The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am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art of frame delim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tination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urce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ype/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ata and p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Frame check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73400" y="3773520"/>
            <a:ext cx="4786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0760" y="1364760"/>
            <a:ext cx="8319960" cy="2135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89000"/>
          </a:bodyPr>
          <a:p>
            <a:pPr marL="210240" indent="-21024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 numerical 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d by routing protocols help determine the best path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>
              <a:lnSpc>
                <a:spcPct val="75000"/>
              </a:lnSpc>
              <a:spcBef>
                <a:spcPts val="788"/>
              </a:spcBef>
              <a:buClr>
                <a:srgbClr val="708ca1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metric valu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bet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types of metrics used by routing protocols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Hop 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is the number of routers a packet must travel through to get to its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120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-Band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this is the “speed” of a link also known as the data capacity of 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06840" y="3954600"/>
            <a:ext cx="37382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basic purpose of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uters that specialize in sending packets over the data network.  They are responsible for interconnecting networks by selecting the best path for a packet to travel and forwarding packets to their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are the network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s generally have 2 conne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WAN connection (Connection to IS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AN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028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 cost metr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condition where a router has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ultiple paths to the same dest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all have the same met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solve this dilem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 router will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1a1a"/>
                </a:solidFill>
                <a:latin typeface="Arial"/>
              </a:rPr>
              <a:t>Equal Cost Load Balanc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This means the router sends packets over the multiple exit interfaces listed in the rout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543040" y="3271680"/>
            <a:ext cx="45720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2055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5000"/>
          </a:bodyPr>
          <a:p>
            <a:pPr marL="224640" indent="-22464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 determin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process used by a router to pick the best path to a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ct val="8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One of 3 path determin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from searching for the best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ly connecte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5760" indent="0">
              <a:lnSpc>
                <a:spcPct val="8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oute determ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021200" y="3398760"/>
            <a:ext cx="44146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ing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Router is the process used by a router to switch a packet from an incoming interface to an outgoing interface on the same ro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 packet received by a router will do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ips 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er 2 head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Examines destination I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ress located in Layer 3 header to find best route to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Re-encapsul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er 3 packet into layer 2 fr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orwards fra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ut exit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55560" y="1392120"/>
            <a:ext cx="7940880" cy="2502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packet travels from one networking device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ource and Destinatio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IP addre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ource &amp; Destination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MAC addre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packet is forwarded from one router to the n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TL field decrement by one until a value of zero is reached at which point router discards packet (prevents packets from endlessly traversing the net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082960" y="3781440"/>
            <a:ext cx="48592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termination and switching function details.  PC1 Wants to send something to PC 2 here is part of what happe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C1 encapsulates packet into a frame.  Frame contains R1’s destination MAC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07960" y="3276720"/>
            <a:ext cx="59626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63040" y="33768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72760" y="1317240"/>
            <a:ext cx="794052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lvl="1" marL="57456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R1 receives Ethernet fram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sees that destination MAC address matches its own MAC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then strips off Ethernet fr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Examines destination I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consults routing table looking for destination IP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nding destination IP in routing table, R1 now looks up next hop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re-encapsulates IP packet with a new Ethernet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1 forwards Ethernet packet out Fa0/1 inte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49320" y="1409760"/>
            <a:ext cx="7199280" cy="2041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4800" y="3587760"/>
            <a:ext cx="7831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98440" y="2811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90160" y="1153800"/>
            <a:ext cx="794052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0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etermination and switching function details.  PC1 Wants to send something to PC 2 here is part of what happ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cket arrives at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receives Etherne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sees that destination MAC address matches its own M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then strips off Etherne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Examines destination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consults routing table looking for destination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nding destination IP in routing table, R2 now looks up next hop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re-encapsulates IP packet with a new data link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0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2 forwards Ethernet packet out S0/0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66720" y="5167440"/>
            <a:ext cx="524844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0680" y="279360"/>
            <a:ext cx="814536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Paths and Packet Switching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30000" y="1080720"/>
            <a:ext cx="7940520" cy="50101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2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determination and switching function details.  PC1 Wants to send something to PC 2 here is part of what happe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2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Packet arrives at R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receives PPP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then strips off PPP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Examines destination 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consults routing table looking for destination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finding destination IP in routing table, R3 is directly connected to destination via its fast Etherne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re-encapsulates IP packet with a new Ethernet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72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3 forwards Ethernet packet out Fa0/0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72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p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IP packet arrives at PC2.  Frame is decapsulated &amp; processed by upper layer protocol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201760" y="4962600"/>
            <a:ext cx="41227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55200" y="27576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55560" y="1312560"/>
            <a:ext cx="8656560" cy="521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3000"/>
          </a:bodyPr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are computers that specialize in sending data over a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are composed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Hardware i.e. CPU, Memory, System bus,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ftware used to direct the rout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0320">
              <a:lnSpc>
                <a:spcPct val="7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s need to be configured.  Basic configuration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outer b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asswor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nterface configurations i.e. IP address and subnet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7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 tables contain the follow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motely connected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Network addresses and subnet m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0">
              <a:lnSpc>
                <a:spcPct val="7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P address of next ho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sent in form of packets between 2 e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are used to direct packet to its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400" y="2443320"/>
            <a:ext cx="4740480" cy="1627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486320" y="4192560"/>
            <a:ext cx="43401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55560" y="1312560"/>
            <a:ext cx="7940880" cy="52102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determine a packets path to its destination by doing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ing an encapsulated frame &amp; examining destination MAC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MAC address matches then Frame is de-encapsulated so that router can examine the destination IP add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estination IP address is in routing table or there is a static route then Router determines next hop IP address.  Router will re-encapsulate packet with appropriate layer 2 frame and send it out to next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continues until packet reaches dest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- only the MAC addresses will change the source and destination IP addresses do not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9144000" cy="4374360"/>
            <a:chOff x="0" y="0"/>
            <a:chExt cx="9144000" cy="4374360"/>
          </a:xfrm>
        </p:grpSpPr>
        <p:grpSp>
          <p:nvGrpSpPr>
            <p:cNvPr id="196" name=""/>
            <p:cNvGrpSpPr/>
            <p:nvPr/>
          </p:nvGrpSpPr>
          <p:grpSpPr>
            <a:xfrm>
              <a:off x="2741760" y="2365200"/>
              <a:ext cx="3800880" cy="2009160"/>
              <a:chOff x="2741760" y="2365200"/>
              <a:chExt cx="3800880" cy="2009160"/>
            </a:xfrm>
          </p:grpSpPr>
          <p:sp>
            <p:nvSpPr>
              <p:cNvPr id="197" name=""/>
              <p:cNvSpPr/>
              <p:nvPr/>
            </p:nvSpPr>
            <p:spPr>
              <a:xfrm>
                <a:off x="3812400" y="3699360"/>
                <a:ext cx="173160" cy="656640"/>
              </a:xfrm>
              <a:prstGeom prst="rect">
                <a:avLst/>
              </a:pr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82256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8" y="23"/>
                      <a:pt x="51" y="20"/>
                      <a:pt x="42" y="20"/>
                    </a:cubicBezTo>
                    <a:cubicBezTo>
                      <a:pt x="30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1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1" y="0"/>
                    </a:cubicBezTo>
                    <a:cubicBezTo>
                      <a:pt x="50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086280" y="3681360"/>
                <a:ext cx="501840" cy="693000"/>
              </a:xfrm>
              <a:custGeom>
                <a:avLst/>
                <a:gdLst/>
                <a:ahLst/>
                <a:rect l="l" t="t" r="r" b="b"/>
                <a:pathLst>
                  <a:path w="58" h="80">
                    <a:moveTo>
                      <a:pt x="58" y="24"/>
                    </a:moveTo>
                    <a:cubicBezTo>
                      <a:pt x="57" y="23"/>
                      <a:pt x="51" y="20"/>
                      <a:pt x="42" y="20"/>
                    </a:cubicBezTo>
                    <a:cubicBezTo>
                      <a:pt x="29" y="20"/>
                      <a:pt x="21" y="28"/>
                      <a:pt x="21" y="40"/>
                    </a:cubicBezTo>
                    <a:cubicBezTo>
                      <a:pt x="21" y="51"/>
                      <a:pt x="29" y="60"/>
                      <a:pt x="42" y="60"/>
                    </a:cubicBezTo>
                    <a:cubicBezTo>
                      <a:pt x="51" y="60"/>
                      <a:pt x="57" y="57"/>
                      <a:pt x="58" y="56"/>
                    </a:cubicBezTo>
                    <a:cubicBezTo>
                      <a:pt x="58" y="77"/>
                      <a:pt x="58" y="77"/>
                      <a:pt x="58" y="77"/>
                    </a:cubicBezTo>
                    <a:cubicBezTo>
                      <a:pt x="56" y="78"/>
                      <a:pt x="49" y="80"/>
                      <a:pt x="40" y="80"/>
                    </a:cubicBezTo>
                    <a:cubicBezTo>
                      <a:pt x="19" y="80"/>
                      <a:pt x="0" y="65"/>
                      <a:pt x="0" y="40"/>
                    </a:cubicBezTo>
                    <a:cubicBezTo>
                      <a:pt x="0" y="17"/>
                      <a:pt x="17" y="0"/>
                      <a:pt x="40" y="0"/>
                    </a:cubicBezTo>
                    <a:cubicBezTo>
                      <a:pt x="49" y="0"/>
                      <a:pt x="56" y="3"/>
                      <a:pt x="58" y="3"/>
                    </a:cubicBezTo>
                    <a:lnTo>
                      <a:pt x="58" y="24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06200" y="3681360"/>
                <a:ext cx="689400" cy="69300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80" y="40"/>
                    </a:moveTo>
                    <a:cubicBezTo>
                      <a:pt x="80" y="62"/>
                      <a:pt x="64" y="80"/>
                      <a:pt x="40" y="80"/>
                    </a:cubicBezTo>
                    <a:cubicBezTo>
                      <a:pt x="16" y="80"/>
                      <a:pt x="0" y="62"/>
                      <a:pt x="0" y="40"/>
                    </a:cubicBezTo>
                    <a:cubicBezTo>
                      <a:pt x="0" y="18"/>
                      <a:pt x="16" y="0"/>
                      <a:pt x="40" y="0"/>
                    </a:cubicBezTo>
                    <a:cubicBezTo>
                      <a:pt x="64" y="0"/>
                      <a:pt x="80" y="18"/>
                      <a:pt x="80" y="40"/>
                    </a:cubicBezTo>
                    <a:moveTo>
                      <a:pt x="40" y="20"/>
                    </a:moveTo>
                    <a:cubicBezTo>
                      <a:pt x="29" y="20"/>
                      <a:pt x="20" y="29"/>
                      <a:pt x="20" y="40"/>
                    </a:cubicBezTo>
                    <a:cubicBezTo>
                      <a:pt x="20" y="51"/>
                      <a:pt x="29" y="60"/>
                      <a:pt x="40" y="60"/>
                    </a:cubicBezTo>
                    <a:cubicBezTo>
                      <a:pt x="51" y="60"/>
                      <a:pt x="60" y="51"/>
                      <a:pt x="60" y="40"/>
                    </a:cubicBezTo>
                    <a:cubicBezTo>
                      <a:pt x="60" y="29"/>
                      <a:pt x="51" y="20"/>
                      <a:pt x="40" y="20"/>
                    </a:cubicBezTo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209840" y="3681360"/>
                <a:ext cx="449280" cy="693000"/>
              </a:xfrm>
              <a:custGeom>
                <a:avLst/>
                <a:gdLst/>
                <a:ahLst/>
                <a:rect l="l" t="t" r="r" b="b"/>
                <a:pathLst>
                  <a:path w="52" h="80">
                    <a:moveTo>
                      <a:pt x="47" y="19"/>
                    </a:moveTo>
                    <a:cubicBezTo>
                      <a:pt x="47" y="19"/>
                      <a:pt x="38" y="17"/>
                      <a:pt x="32" y="17"/>
                    </a:cubicBezTo>
                    <a:cubicBezTo>
                      <a:pt x="24" y="17"/>
                      <a:pt x="20" y="19"/>
                      <a:pt x="20" y="23"/>
                    </a:cubicBezTo>
                    <a:cubicBezTo>
                      <a:pt x="20" y="28"/>
                      <a:pt x="26" y="29"/>
                      <a:pt x="29" y="30"/>
                    </a:cubicBezTo>
                    <a:cubicBezTo>
                      <a:pt x="34" y="32"/>
                      <a:pt x="34" y="32"/>
                      <a:pt x="34" y="32"/>
                    </a:cubicBezTo>
                    <a:cubicBezTo>
                      <a:pt x="47" y="36"/>
                      <a:pt x="52" y="45"/>
                      <a:pt x="52" y="54"/>
                    </a:cubicBezTo>
                    <a:cubicBezTo>
                      <a:pt x="52" y="73"/>
                      <a:pt x="35" y="80"/>
                      <a:pt x="21" y="80"/>
                    </a:cubicBezTo>
                    <a:cubicBezTo>
                      <a:pt x="10" y="80"/>
                      <a:pt x="1" y="78"/>
                      <a:pt x="0" y="77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" y="60"/>
                      <a:pt x="10" y="63"/>
                      <a:pt x="18" y="63"/>
                    </a:cubicBezTo>
                    <a:cubicBezTo>
                      <a:pt x="28" y="63"/>
                      <a:pt x="32" y="60"/>
                      <a:pt x="32" y="56"/>
                    </a:cubicBezTo>
                    <a:cubicBezTo>
                      <a:pt x="32" y="52"/>
                      <a:pt x="28" y="49"/>
                      <a:pt x="23" y="48"/>
                    </a:cubicBezTo>
                    <a:cubicBezTo>
                      <a:pt x="22" y="48"/>
                      <a:pt x="21" y="47"/>
                      <a:pt x="19" y="47"/>
                    </a:cubicBezTo>
                    <a:cubicBezTo>
                      <a:pt x="9" y="43"/>
                      <a:pt x="0" y="37"/>
                      <a:pt x="0" y="24"/>
                    </a:cubicBezTo>
                    <a:cubicBezTo>
                      <a:pt x="0" y="10"/>
                      <a:pt x="10" y="0"/>
                      <a:pt x="28" y="0"/>
                    </a:cubicBezTo>
                    <a:cubicBezTo>
                      <a:pt x="37" y="0"/>
                      <a:pt x="46" y="3"/>
                      <a:pt x="47" y="3"/>
                    </a:cubicBezTo>
                    <a:lnTo>
                      <a:pt x="47" y="19"/>
                    </a:lnTo>
                    <a:close/>
                  </a:path>
                </a:pathLst>
              </a:custGeom>
              <a:solidFill>
                <a:srgbClr val="b2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741760" y="2903040"/>
                <a:ext cx="16308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10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19932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4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4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648960" y="2365200"/>
                <a:ext cx="16308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5" y="120"/>
                      <a:pt x="10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106880" y="2676600"/>
                <a:ext cx="16308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9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554720" y="2903040"/>
                <a:ext cx="173160" cy="337320"/>
              </a:xfrm>
              <a:custGeom>
                <a:avLst/>
                <a:gdLst/>
                <a:ahLst/>
                <a:rect l="l" t="t" r="r" b="b"/>
                <a:pathLst>
                  <a:path w="20" h="39">
                    <a:moveTo>
                      <a:pt x="20" y="10"/>
                    </a:moveTo>
                    <a:cubicBezTo>
                      <a:pt x="20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5" y="39"/>
                      <a:pt x="10" y="39"/>
                    </a:cubicBezTo>
                    <a:cubicBezTo>
                      <a:pt x="15" y="39"/>
                      <a:pt x="20" y="35"/>
                      <a:pt x="20" y="30"/>
                    </a:cubicBezTo>
                    <a:lnTo>
                      <a:pt x="20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01228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4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470200" y="2365200"/>
                <a:ext cx="165240" cy="103860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19" y="9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9"/>
                    </a:cubicBezTo>
                    <a:cubicBezTo>
                      <a:pt x="0" y="111"/>
                      <a:pt x="0" y="111"/>
                      <a:pt x="0" y="111"/>
                    </a:cubicBezTo>
                    <a:cubicBezTo>
                      <a:pt x="0" y="116"/>
                      <a:pt x="4" y="120"/>
                      <a:pt x="9" y="120"/>
                    </a:cubicBezTo>
                    <a:cubicBezTo>
                      <a:pt x="15" y="120"/>
                      <a:pt x="19" y="116"/>
                      <a:pt x="19" y="111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919840" y="2676600"/>
                <a:ext cx="165240" cy="563760"/>
              </a:xfrm>
              <a:custGeom>
                <a:avLst/>
                <a:gdLst/>
                <a:ahLst/>
                <a:rect l="l" t="t" r="r" b="b"/>
                <a:pathLst>
                  <a:path w="19" h="65">
                    <a:moveTo>
                      <a:pt x="19" y="9"/>
                    </a:moveTo>
                    <a:cubicBezTo>
                      <a:pt x="19" y="4"/>
                      <a:pt x="15" y="0"/>
                      <a:pt x="10" y="0"/>
                    </a:cubicBezTo>
                    <a:cubicBezTo>
                      <a:pt x="5" y="0"/>
                      <a:pt x="0" y="4"/>
                      <a:pt x="0" y="9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0" y="61"/>
                      <a:pt x="5" y="65"/>
                      <a:pt x="10" y="65"/>
                    </a:cubicBezTo>
                    <a:cubicBezTo>
                      <a:pt x="15" y="65"/>
                      <a:pt x="19" y="61"/>
                      <a:pt x="19" y="56"/>
                    </a:cubicBez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77400" y="2903040"/>
                <a:ext cx="165240" cy="337320"/>
              </a:xfrm>
              <a:custGeom>
                <a:avLst/>
                <a:gdLst/>
                <a:ahLst/>
                <a:rect l="l" t="t" r="r" b="b"/>
                <a:pathLst>
                  <a:path w="19" h="39">
                    <a:moveTo>
                      <a:pt x="19" y="10"/>
                    </a:moveTo>
                    <a:cubicBezTo>
                      <a:pt x="19" y="4"/>
                      <a:pt x="15" y="0"/>
                      <a:pt x="9" y="0"/>
                    </a:cubicBezTo>
                    <a:cubicBezTo>
                      <a:pt x="4" y="0"/>
                      <a:pt x="0" y="4"/>
                      <a:pt x="0" y="10"/>
                    </a:cubicBezTo>
                    <a:cubicBezTo>
                      <a:pt x="0" y="30"/>
                      <a:pt x="0" y="30"/>
                      <a:pt x="0" y="30"/>
                    </a:cubicBezTo>
                    <a:cubicBezTo>
                      <a:pt x="0" y="35"/>
                      <a:pt x="4" y="39"/>
                      <a:pt x="9" y="39"/>
                    </a:cubicBezTo>
                    <a:cubicBezTo>
                      <a:pt x="15" y="39"/>
                      <a:pt x="19" y="35"/>
                      <a:pt x="19" y="30"/>
                    </a:cubicBez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15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0"/>
              <a:ext cx="9144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examine a packet’s destination IP address and determine the best path by enlisting the aid of a routing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2851200"/>
            <a:ext cx="5962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components and their func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Executes operating system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access memory (RA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ntains the running copy of configuration file.  Stores routing table. RAM contents lost when power is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only memory (RO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lds diagnostic software used when router is powered up.  Stores the router’s bootstrap prog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volatile RAM (NVRA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Stores startup configuration.  This may include IP addresses (Routing protocol, Hostname of rou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sh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Contains the operating system (Cisco I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0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re exist multiple physical interfaces that are used to connect network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of interface typ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thernet / fast Etherne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rial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anagemen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5560" y="1391760"/>
            <a:ext cx="794088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4880" y="1884240"/>
            <a:ext cx="719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5200" y="1391760"/>
            <a:ext cx="3670200" cy="5077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2000"/>
          </a:bodyPr>
          <a:p>
            <a:pPr marL="217440" indent="-21744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hases to the router boot-up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284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router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-On Self Test (PO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bootstrap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 &amp; load Cisco IOS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ocate 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oad 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8480">
              <a:lnSpc>
                <a:spcPct val="95000"/>
              </a:lnSpc>
              <a:spcBef>
                <a:spcPts val="788"/>
              </a:spcBef>
              <a:buClr>
                <a:srgbClr val="0183b7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 &amp; load startup configuration file or enter setup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0960" indent="0">
              <a:lnSpc>
                <a:spcPct val="95000"/>
              </a:lnSpc>
              <a:spcBef>
                <a:spcPts val="788"/>
              </a:spcBef>
              <a:buNone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ootstrap program looks for configuratio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62480" y="2054160"/>
            <a:ext cx="43243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5200" y="627120"/>
            <a:ext cx="8145720" cy="8380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200" spc="-1" strike="noStrike">
                <a:solidFill>
                  <a:srgbClr val="708ca1"/>
                </a:solidFill>
                <a:latin typeface="Arial"/>
              </a:rPr>
              <a:t>Router as a Computer</a:t>
            </a:r>
            <a:endParaRPr b="1" lang="en-US" sz="3200" spc="-1" strike="noStrike">
              <a:solidFill>
                <a:srgbClr val="708ca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10760" y="1391760"/>
            <a:ext cx="7929720" cy="5087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708ca1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e router boot-up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The show version command is used to view information about the router during the bootup process.  Information 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mode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name &amp; IOS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tstrap version stored in 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file name &amp; where it was load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&amp; type of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NV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of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5000"/>
              </a:lnSpc>
              <a:spcBef>
                <a:spcPts val="876"/>
              </a:spcBef>
              <a:buClr>
                <a:srgbClr val="0183b7"/>
              </a:buClr>
              <a:buFont typeface="Wingdings" charset="2"/>
              <a:buChar char=""/>
              <a:tabLst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12:04:17Z</dcterms:created>
  <dc:creator>CLI</dc:creator>
  <dc:description/>
  <cp:keywords/>
  <dc:language>en-US</dc:language>
  <cp:lastModifiedBy>Alison DuBose</cp:lastModifiedBy>
  <cp:lastPrinted>1999-01-27T00:54:54Z</cp:lastPrinted>
  <dcterms:modified xsi:type="dcterms:W3CDTF">2007-06-26T18:04:02Z</dcterms:modified>
  <cp:revision>349</cp:revision>
  <dc:subject/>
  <dc:title>Introduction to Routing and Packet Forwar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JBangloy">
    <vt:lpwstr>12.21.01 - All remaining Helvetica changed to Arial</vt:lpwstr>
  </property>
  <property fmtid="{D5CDD505-2E9C-101B-9397-08002B2CF9AE}" pid="3" name="Jenita ">
    <vt:lpwstr>12.21.01 - Line tool now defaults to 3 points size and black color. Previous version created white line which is not visible</vt:lpwstr>
  </property>
  <property fmtid="{D5CDD505-2E9C-101B-9397-08002B2CF9AE}" pid="4" name="Jenita Bangloy">
    <vt:lpwstr>12.21.01 - Copyright date changed to 2002</vt:lpwstr>
  </property>
</Properties>
</file>