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97302104-AE7F-4BD4-8BCA-3134CEB52738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893960"/>
            <a:ext cx="9140760" cy="244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C893555-A3F1-4FA0-B3E7-415BCCA5F047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483160" y="5940360"/>
            <a:ext cx="3354480" cy="474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46240" y="119160"/>
            <a:ext cx="1171440" cy="904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LSM and CID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10680" y="4672080"/>
            <a:ext cx="4103640" cy="658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ing Protocols and Concepts – Chapter 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35040" y="366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assful and Classless IP Address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5560" y="117792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ful Routing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ecall that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assful routing protoc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.e. RIPv1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21a1a"/>
                </a:solidFill>
                <a:latin typeface="Arial"/>
              </a:rPr>
              <a:t>do not send subnet mas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ir routing updat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ason is that the Subnet mask 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ly related to the network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68320" y="3341520"/>
            <a:ext cx="6507360" cy="31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assful and Classless IP Address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32920" y="1528920"/>
            <a:ext cx="8596440" cy="5070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less Inter-domain Routing (CIDR – RFC 15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913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 of CIDR :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ore efficient use of IPv4 addr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oute summ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subnet mask to be included in routing update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address class is meaning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purpose of a subnet mas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o determine the network and host por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n IP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6440" y="34308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assful and Classless IP Address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7320" y="1257120"/>
            <a:ext cx="7467480" cy="5322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less IP 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DR &amp; Route Summ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ariable Length Subnet Masking (VLS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llows a subnet to be further sub-nett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rding to individu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refix Aggregation a.k.a. Route Summ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IDR allows for routes to be summarized as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801960" y="4645080"/>
            <a:ext cx="346896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assful and Classless IP Address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560" y="15526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less Routing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tics of classless routing protoc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outing updates include the subnet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upports VL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s Route Summ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36920" y="4118040"/>
            <a:ext cx="453204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assful and Classless IP Address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20640" y="2300400"/>
          <a:ext cx="7912080" cy="4120920"/>
        </p:xfrm>
        <a:graphic>
          <a:graphicData uri="http://schemas.openxmlformats.org/drawingml/2006/table">
            <a:tbl>
              <a:tblPr/>
              <a:tblGrid>
                <a:gridCol w="1579320"/>
                <a:gridCol w="1930320"/>
                <a:gridCol w="1622520"/>
                <a:gridCol w="2779920"/>
              </a:tblGrid>
              <a:tr h="2215800"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Rou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Protoc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Routing upda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Include subne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Mas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upport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VL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Ability to se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Supernet routes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12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lassfu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Class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655560" y="1552680"/>
            <a:ext cx="794088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less Routing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38280" y="32184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VLSM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5000" y="1144080"/>
            <a:ext cx="4257720" cy="5604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ful rou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only allows for 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net mask for al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LSM &amp; classless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is is the proc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subnetting a sub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ore than 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net mask can b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efficient use of I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s as compar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lassful I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381560" y="1668600"/>
            <a:ext cx="458136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1120" y="425160"/>
            <a:ext cx="8145720" cy="741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VLSM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45960" y="1225440"/>
            <a:ext cx="3913200" cy="5570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LS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the process of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ub-netting a subn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fit you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net 10.1.0.0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8    more bits are borrowed again, to create 256 subnets with 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/2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ask allows for 254 host addresses per sub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ubnets range from:  10.1.0.0 / 24 to 10.1.255.0 /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99000" y="1481040"/>
            <a:ext cx="422424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9760" y="32976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assless Inter-Domain Routing (CIDR)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16532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summarization done by CI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outes are summarized with masks that ar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es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of the </a:t>
            </a:r>
            <a:r>
              <a:rPr b="0" lang="en-US" sz="2400" spc="-1" strike="noStrike">
                <a:solidFill>
                  <a:srgbClr val="b21a1a"/>
                </a:solidFill>
                <a:latin typeface="Arial"/>
              </a:rPr>
              <a:t>default classful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2.16.0.0 /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ummarize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o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the 172.16.0.0 / </a:t>
            </a:r>
            <a:r>
              <a:rPr b="1" lang="en-US" sz="2400" spc="-1" strike="noStrike">
                <a:solidFill>
                  <a:srgbClr val="b21a1a"/>
                </a:solidFill>
                <a:latin typeface="Arial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2.23.0.0 / </a:t>
            </a:r>
            <a:r>
              <a:rPr b="1" lang="en-US" sz="2400" spc="-1" strike="noStrike">
                <a:solidFill>
                  <a:srgbClr val="b21a1a"/>
                </a:solidFill>
                <a:latin typeface="Arial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ful net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16120" y="4264200"/>
            <a:ext cx="619128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assless Inter-Domain Routing (CIDR)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98000" y="1658520"/>
            <a:ext cx="4365720" cy="4730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s to calculate a route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ist networks in bina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ount number of lef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matching bits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summa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’s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opy the match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s and add zero bi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termine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iz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268880" y="2479680"/>
            <a:ext cx="444024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3000" y="38844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66760" y="1221840"/>
            <a:ext cx="8888400" cy="563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ful IP 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v4 addresses have 2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48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Network portion found on left side of an I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488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Host portion found on right side of an I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A, B, &amp; C addresses were designed to provide IP addresses for different sized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ass of an IP address is determined by the decimal value found in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c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es are running out so the use of Classless Inter      Domain Routing (CIDR) and Variable Length Subnet Mask (VLSM) are used to try and conserve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and contrast classful and classless IP addres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VLSM and explain the benefits of classless IP address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ole of the Classless Inter-Domain Routing (CIDR) standard in making efficient use of scarce IPv4 addre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60520" y="387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36480" y="1274760"/>
            <a:ext cx="7980480" cy="5022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ful Routing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net masks are not sent in routing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less IP 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 of classless IP 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create additional networ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s using a subnet mas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fits you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Classless Interdomain Routing (CI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5560" y="1508040"/>
            <a:ext cx="7940880" cy="501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IP addresses more efficiently through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VL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48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LSM is the process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netting a sub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for route summ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48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oute summarization 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ing multiple contiguou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s with a single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less Routing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net masks are included in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146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147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31068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130040"/>
            <a:ext cx="7940880" cy="5273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to 1981, IP addresses used only the first 8 bits to specify the network portion of the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81, RFC 791 modified the IPv4 32-bit address to allow for three different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 space was depleting rapi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rnet Engineering Task Force (IETF) introduced Classless Inter-Domain Routing (CI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DR uses Variable Length Subnet Masking (VLSM) to help conserve address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488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LSM is simply subnetting a sub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36120" y="3175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assful and Classless IP Addressing 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58720" y="1257480"/>
            <a:ext cx="7940880" cy="3046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70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ful IP 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0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of January 2007, there are over 433 million hosts on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0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ives to conserve IPv4 address spac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LSM &amp; CIDR notation (1993, RFC 15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Network Address Translation (1994, RFC 163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rivate Addressing (1996, RFC 19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257640" y="4125960"/>
            <a:ext cx="277488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assful and Classless IP Address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igh Order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the leftmost bits in a 32 bit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0" t="13338" r="0" b="24536"/>
          <a:stretch/>
        </p:blipFill>
        <p:spPr>
          <a:xfrm>
            <a:off x="304920" y="3629160"/>
            <a:ext cx="8839080" cy="10666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1200" y="4938840"/>
            <a:ext cx="8610840" cy="9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32184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assful and Classless IP Address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010880"/>
            <a:ext cx="9144000" cy="3746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es of IP addresses are identified by the decimal number of the 1st oct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320"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ass 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ddress begin with a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i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9320"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ange of class A addresses = 0.0.0.0 to 127.255.255.25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9320"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ass 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ddress begin with a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it and a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i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9320"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ange of class B addresses = 128.0.0.0 to 191.255.255.25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9320"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ass C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ddresses begin with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two 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its &amp; a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bi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9320"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ange of class C addresses = 192.0.0.0 to 223.255.255.255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30280" y="4500720"/>
            <a:ext cx="627084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35040" y="36468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assful and Classless IP Address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6920" y="1431720"/>
            <a:ext cx="854244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Pv4 Classful Addressing Structure (RFC 79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P address has 2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r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 on th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ft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de of an IP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e </a:t>
            </a:r>
            <a:r>
              <a:rPr b="1" lang="en-US" sz="2400" spc="-1" strike="noStrike">
                <a:solidFill>
                  <a:srgbClr val="b21a1a"/>
                </a:solidFill>
                <a:latin typeface="Arial"/>
              </a:rPr>
              <a:t>h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 on the </a:t>
            </a:r>
            <a:r>
              <a:rPr b="1" lang="en-US" sz="2400" spc="-1" strike="noStrike">
                <a:solidFill>
                  <a:srgbClr val="b21a1a"/>
                </a:solidFill>
                <a:latin typeface="Arial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de of an IP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assful and Classless IP Address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30080" y="1938240"/>
            <a:ext cx="752976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assful and Classless IP Address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rpose of a subnet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used to determine the network portion of an IP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Alison DuBose</cp:lastModifiedBy>
  <cp:lastPrinted>1999-01-27T00:54:54Z</cp:lastPrinted>
  <dcterms:modified xsi:type="dcterms:W3CDTF">2007-06-26T18:14:03Z</dcterms:modified>
  <cp:revision>327</cp:revision>
  <dc:subject/>
  <dc:title>VLSM and CID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