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FB55965-2A47-4631-A268-02B0070F72DA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8A6DCCCC-FAF8-418A-B2E6-772483490E0F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IP version 1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2520" y="3524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RIPv1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87440" y="1383840"/>
            <a:ext cx="4487760" cy="5218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224640" indent="-224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 RIP on 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s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ng to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vertise t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 R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 to oth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81680" y="1203480"/>
            <a:ext cx="3582720" cy="1849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41960" y="3135240"/>
            <a:ext cx="31352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804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760" y="1761840"/>
            <a:ext cx="4495680" cy="4505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ip Ro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verify and troubleshoot 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ow ip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how ip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bug ip r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294080" y="1765440"/>
            <a:ext cx="4240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87520" y="390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5520" y="1468440"/>
            <a:ext cx="3122640" cy="431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ow ip protoco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7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ispl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502080" y="1309680"/>
            <a:ext cx="52880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333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5600" y="1009440"/>
            <a:ext cx="8018280" cy="1393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bug ip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d to display RIP routing updates as they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p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68280" y="2260440"/>
            <a:ext cx="7143840" cy="44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6920" y="1781280"/>
            <a:ext cx="8582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d to prevent a router from sending updates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(config-router)#passive-interface interface-type interface-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Verification and Troubleshoot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19240" y="2063880"/>
            <a:ext cx="5307120" cy="4505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" y="1409760"/>
            <a:ext cx="85816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ive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9484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8480" y="1065240"/>
            <a:ext cx="5786280" cy="5246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21744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ed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440" indent="-21744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iginal scenario has been modified such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classful networks are u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0.0/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.168.4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.168.5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72.30.0.0/16 network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netted into three subn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1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2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3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devices are part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30.0.0/16 classful network add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nterfaces on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4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0/0/0 and Fa0/0 on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989600" y="1523880"/>
            <a:ext cx="40003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46240" y="1568520"/>
            <a:ext cx="4789440" cy="4641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ation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remove the RIP rou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use the follow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 router 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o check the configu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w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938840" y="2347920"/>
            <a:ext cx="392400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314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0640" y="10429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ary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automatically summarizes classful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routers summarize RIP subnets from one major network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14760" y="3027240"/>
            <a:ext cx="524196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3840" y="32184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98080" y="1333080"/>
            <a:ext cx="5692680" cy="4992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ing RIP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rules govern RIPv1 upd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a routing update and the interface it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on belong to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bnet mask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 is applied to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 the rout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a routing update and the interface it’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d on belong to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assful subnet mask of 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s applied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n the routing upd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56400" y="1222200"/>
            <a:ext cx="290664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functions, characteristics, and operation of the RIPv1 proto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 a device for using RIPv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roper RIPv1 op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RIPv1 performs automatic summar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e, verify, and troubleshoot default routes propagated in a routed network implementing RIPv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commended techniques to solve problems related to RIP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15271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ing RIP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uses automatic summarization to reduce the size of a routing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427640" y="2484360"/>
            <a:ext cx="3662280" cy="41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92200" y="4381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55200" y="1450800"/>
            <a:ext cx="4157640" cy="5010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automatic summar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siz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update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ingle routes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repres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ou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result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lookup in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514760" y="1459080"/>
            <a:ext cx="421020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35040" y="3240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1880" y="1179360"/>
            <a:ext cx="82216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 of Automatic Summar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es not support discontiguou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79800" y="2151000"/>
            <a:ext cx="435600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utomatic Summariz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44160" y="1644480"/>
            <a:ext cx="3755880" cy="4507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tiguous Topologies do not converge with RIPv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uter will only advertise major network addresses out interfaces that do not belong to the advertised ro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07000" y="1238400"/>
            <a:ext cx="38750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2120" y="336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efault Route and 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66760" y="1314360"/>
            <a:ext cx="7920000" cy="4584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ied Topology:  Scen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749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 rou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s that are not defined specifically in a routing table will go to the specified interface for the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 Customer routers use default route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connect to an ISP rou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used to configure a default rout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p route 0.0.0.0 0.0.0.0 s0/0/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93720" y="339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efault Route and 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28760" y="1284120"/>
            <a:ext cx="622620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3200" y="39384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efault Route and 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4560" y="14367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ng the Default Route in RIPv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ault-information origin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command is used to specify that the router is to originate default information, by propagating the static default route in RIP upd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70360" y="3095640"/>
            <a:ext cx="482904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characteristic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, distance vector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is Hop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support VLSM or discontiguous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s every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messages are encapsulated in a UDP segment with source and destination ports of 52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:  Commands used by RIP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55560" y="1900080"/>
          <a:ext cx="7940520" cy="3571560"/>
        </p:xfrm>
        <a:graphic>
          <a:graphicData uri="http://schemas.openxmlformats.org/drawingml/2006/table">
            <a:tbl>
              <a:tblPr/>
              <a:tblGrid>
                <a:gridCol w="3970080"/>
                <a:gridCol w="3970440"/>
              </a:tblGrid>
              <a:tr h="46404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a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and’s purpo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)#router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ables RIP rout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04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-router)#net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ociates a network with a RIP routing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8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#debug ip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to view real time RIP routing upd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-router)#passive-interface fa0/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ent RIP updates from going out an interf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(config-router)#default-information origin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by RIP to propagate default rou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r#show ip protoc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ed to display timers used by R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8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9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7622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 classful, Distance Vector (DV)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ric =  hop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s with a hop count &gt; 15 are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pdates are broadcast every 30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3240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5880" y="1136160"/>
            <a:ext cx="3801960" cy="551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Messag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header - divided into 3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mand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ersion 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st be zer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Entry - composed of 3 fiel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dress family identifi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75040" y="2092320"/>
            <a:ext cx="52308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680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uses 2 message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is sent out on startup by each R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equests all RIP enabled neighbors to se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ssage sent to requesting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ing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371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1000" y="1390320"/>
            <a:ext cx="4535280" cy="5032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 initially divided in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 is a classful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oes not send subn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s in routing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89360" y="1069920"/>
            <a:ext cx="4318200" cy="55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IPv1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3640" y="12016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ative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’s default administrative distance is 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866960" y="2144880"/>
            <a:ext cx="4206960" cy="2136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440" y="4440240"/>
            <a:ext cx="3838320" cy="2146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633920" y="4365720"/>
            <a:ext cx="3749760" cy="23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RIPv1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60960" y="1982880"/>
            <a:ext cx="4357440" cy="46479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8120" y="1446120"/>
            <a:ext cx="5167440" cy="4562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ypical topology suitable for use by RIPv1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ree router set 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 PCs attached to 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 of 5 different 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sub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7520" y="3726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Basic RIPv1 Configura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34680" y="14018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RIP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able RIP en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uter r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the global configuration prom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rompt will look lik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1(config-router)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68400" y="3722760"/>
            <a:ext cx="534528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1:48Z</dcterms:modified>
  <cp:revision>329</cp:revision>
  <dc:subject/>
  <dc:title>RIP version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