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3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32.png" ContentType="image/png"/>
  <Override PartName="/ppt/media/image14.jpeg" ContentType="image/jpeg"/>
  <Override PartName="/ppt/media/image2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7099FCD-200B-4D90-BBE9-A6EBF8796DA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AC70484-D532-4D1C-97F7-696431B9B35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roduction to Routing and Packet Forwar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1040" y="4672080"/>
            <a:ext cx="405936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63640" y="1498680"/>
            <a:ext cx="72914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9360" y="1380600"/>
            <a:ext cx="829800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Interface is a physical connector that enables a router to send or receiv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nterface connects to a separat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socket or jack found on the outside of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router interf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ast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06720" y="4240080"/>
            <a:ext cx="55483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00" y="1298520"/>
            <a:ext cx="51372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jor groups of Route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 Interf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sed to connect router to LA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layer 2 MAC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ssigned a Layer 3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consist of an RJ-45 j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00720" y="1593720"/>
            <a:ext cx="3556080" cy="178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6520" y="4319640"/>
            <a:ext cx="726444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sed to connect routers to external networks that interconnect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WAN technology, a layer 2 address may b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layer 3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202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0000"/>
          </a:bodyPr>
          <a:p>
            <a:pPr marL="189000" indent="-189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and the Network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use destination IP address to forward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th a packet takes is determined after a router consults information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router determines the best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is encapsulated into a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is then placed on network medium in form of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0760" y="3968640"/>
            <a:ext cx="45943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1778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61000"/>
          </a:bodyPr>
          <a:p>
            <a:pPr marL="144000" indent="-14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Operate at Layers 1, 2 &amp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receives a stream of encoded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are decoded and passed to lay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de-encapsulates th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packet passed up to lay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76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decision made at this layer by examining 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is then re-encapsulated &amp; sent out outboun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04960" y="4438800"/>
            <a:ext cx="37879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e Devices and Apply Address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Basic Address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esigning a new network or mapping an existing network you must provide the following information in the form of a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opology drawing that Illustrates physical conne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 table that provides the following inform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aces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71800" y="4078440"/>
            <a:ext cx="49881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e Devices and Apply Address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outer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sic router configuration should contain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outer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Host name should be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n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t a minimum, banner should warn against unauthorize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assw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Use strong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terface configu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pecify interface type, IP address and subnet mask.  Describe purpose of interface.  Issue no shutdown command.  If DCE serial interface issue clock rate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entering in the basic configuration the following tasks should be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Verif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configuration and router opera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changes on a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e Devices and Apply Address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79720" y="1560600"/>
            <a:ext cx="50292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e Devices and Apply Address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Basic Router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sue the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ave the basic router configuration by Issuing the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copy running-config startup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ditional commands that will enable you to further verify router configur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configuration currently in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startup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configuration file NV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nterf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all interface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int bri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abbreviated interface configuratio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is stored in ram and contains information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rectly connected networ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is occurs when a device is connected to another rout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motely connected networ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is is a network that is not directly connected to a particular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tailed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out the networks include source of information, network address &amp; subnet mask, and Ip address of next-hop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is used to view a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 router as a computer with an OS and hardware designed for the rou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the ability to configure devices and apply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tructure of a 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a router determines a path and switches pack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89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007640"/>
            <a:ext cx="7940880" cy="166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marL="200880" indent="-20088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connected network to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724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outer interface is a member of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724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ed using the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no sh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724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for static and dynamic routes to exist in routing table you must have direct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3800" y="2816280"/>
            <a:ext cx="54910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outes in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ludes: network address and subnet mask and IP address of next hop router or exi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noted with the cod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tables must contain directly connected networks used to connect remote networks before static or dynamic routing can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use 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en network only consists of a few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is connected to internet only through one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ub &amp; spoke topology is used on a larg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and 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22360" y="1924200"/>
            <a:ext cx="62276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d to add remote networks to a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re used to discov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re used to update and maintain rout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networ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s are able discover new networks by sharing routing tabl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 rout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ynamic routing protocols are used to share routing information with other router &amp; to maintain and up date their own routing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routing protocols. Example of routing protocol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93960" y="2979720"/>
            <a:ext cx="526104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 principles regarding routing tab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very router makes its decisions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ased on the information it has in its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fferent routing table may contain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routing table can tell how to get to a destination but not how to get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41480" y="4017960"/>
            <a:ext cx="64846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of the 3 Routing Table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ckets are forwarded through the network from one router to another, on a hop by hop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ckets can take path “X” to a destination but return via path “Y” (Asymmetric rout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63920" y="3960720"/>
            <a:ext cx="4038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Protocol (IP) packet format contains fields that provide information about the packet and the sending and receiving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s that are importance for CCNA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urce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ersion &amp; T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P header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cedence &amp; type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cket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678120" y="5108400"/>
            <a:ext cx="516276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Layer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Frames are also divided into fields.  They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art of frame delim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stination MAC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urce MAC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ype/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ata and 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rame check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073400" y="3773520"/>
            <a:ext cx="4786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0760" y="1364760"/>
            <a:ext cx="8319960" cy="2135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210240" indent="-21024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numerical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by routing protocols help determine the best path to a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>
              <a:lnSpc>
                <a:spcPct val="7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metric valu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b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types of metrics used by routing protocol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op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is is the number of routers a packet must travel through to get to its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is is the “speed” of a link also known as the data capacity of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06840" y="3954600"/>
            <a:ext cx="3738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basic purpose of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mputers that specialize in sending packets over the data network.  They are responsible for interconnecting networks by selecting the best path for a packet to travel and forwarding packets to their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are the network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s generally have 2 conn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AN connection (Connection to 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AN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202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 cost met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ndition where a router ha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ultiple paths to the same dest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ll have the same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solve this dilem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router wil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Equal Cost Load Balan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is means the router sends packets over the multiple exit interfaces listed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43040" y="3271680"/>
            <a:ext cx="45720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2055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marL="224640" indent="-22464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determ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rocess used by a router to pick the best path to a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ne of 3 path determin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from searching for the best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connecte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oute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21200" y="3398760"/>
            <a:ext cx="44146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ing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Router is the process used by a router to switch a packet from an incoming interface to an outgoing interface on the same ro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packet received by a router will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ips 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er 2 hea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amines destination 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ress located in Layer 3 header to find best route to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-encapsul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er 3 packet into layer 2 fr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rwards fr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exit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250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packet travels from one networking device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Source and Destinatio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P addr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Source &amp; Destinatio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C addre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acket is forwarded from one router to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TL field decrement by one until a value of zero is reached at which point router discards packet (prevents packets from endlessly traversing the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82960" y="3781440"/>
            <a:ext cx="48592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1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termination and switching function details.  PC1 Wants to send something to PC 2 here is part of what happ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C1 encapsulates packet into a frame.  Frame contains R1’s destination MAC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07960" y="3276720"/>
            <a:ext cx="5962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3040" y="337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2760" y="1317240"/>
            <a:ext cx="7940520" cy="501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R1 receives Ethernet fra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sees that destination MAC address matches its own MA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then strips off Ethernet fr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Examines destination I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consults routing table looking for destination I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finding destination IP in routing table, R1 now looks up next hop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re-encapsulates IP packet with a new Ethernet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forwards Ethernet packet out Fa0/1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49320" y="1409760"/>
            <a:ext cx="7199280" cy="2041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4800" y="3587760"/>
            <a:ext cx="7831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8440" y="2811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0160" y="1153800"/>
            <a:ext cx="7940520" cy="501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etermination and switching function details.  PC1 Wants to send something to PC 2 here is part of what happ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acket arrives at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receives Ethernet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sees that destination MAC address matches its own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then strips off Ethernet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Examines destination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consults routing table looking for destination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finding destination IP in routing table, R2 now looks up next hop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re-encapsulates IP packet with a new data link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forwards Ethernet packet out S0/0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66720" y="5167440"/>
            <a:ext cx="52484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0680" y="279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0000" y="1080720"/>
            <a:ext cx="7940520" cy="501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2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etermination and switching function details.  PC1 Wants to send something to PC 2 here is part of what happ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2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acket arrives at R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receives PPP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then strips off PPP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Examines destination 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consults routing table looking for destination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finding destination IP in routing table, R3 is directly connected to destination via its fast Etherne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re-encapsulates IP packet with a new Ethernet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forwards Ethernet packet out Fa0/0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2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P packet arrives at PC2.  Frame is decapsulated &amp; processed by upper layer protocol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01760" y="4962600"/>
            <a:ext cx="4122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275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12560"/>
            <a:ext cx="8656560" cy="5210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marL="219960" indent="-21996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are computers that specialize in sending data over a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are composed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ardware i.e. CPU, Memory, System bus,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ftware used to direct the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032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032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need to be configured.  Basic configuration consist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 b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ssword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terface configurations i.e. IP address and subnet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tables contain the follow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mote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addresses and subnet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P address of next ho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sent in form of packets between 2 en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are used to direct packet to its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400" y="2443320"/>
            <a:ext cx="4740480" cy="1627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86320" y="4192560"/>
            <a:ext cx="43401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12560"/>
            <a:ext cx="7940880" cy="5210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determine a packets path to its destination by doing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ing an encapsulated frame &amp; examining destination MAC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MAC address matches then Frame is de-encapsulated so that router can examine the destination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estination IP address is in routing table or there is a static route then Router determines next hop IP address.  Router will re-encapsulate packet with appropriate layer 2 frame and send it out to next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continues until packet reaches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- only the MAC addresses will change the source and destination IP addresses do not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9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9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examine a packet’s destination IP address and determine the best path by enlisting the aid of a routing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2851200"/>
            <a:ext cx="5962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omponents and their fun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Executes operating system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access memory (RA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ntains the running copy of configuration file.  Stores routing table. RAM contents lost when power is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only memory (RO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olds diagnostic software used when router is powered up.  Stores the router’s bootstrap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volatile RAM (NVRA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tores startup configuration.  This may include IP addresses (Routing protocol, Hostname of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 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ntains the operating system (Cisco 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re exist multiple physical interfaces that are used to connect network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interfac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thernet / fast Ethernet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rial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anagement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4880" y="1884240"/>
            <a:ext cx="719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200" y="1391760"/>
            <a:ext cx="367020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217440" indent="-217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hases to the router boo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84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router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-On Self Test (P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bootstrap 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 &amp; load Cisco IOS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ocate 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oad 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 &amp; load startup configuration file or enter setup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ootstrap program looks for configuratio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62480" y="2054160"/>
            <a:ext cx="4324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0760" y="1391760"/>
            <a:ext cx="7929720" cy="5087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e router boot-up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show version command is used to view information about the router during the bootup process.  Information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mode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name &amp; IOS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tstrap version stored in 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file name &amp; where it was load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&amp; type of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NV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04:02Z</dcterms:modified>
  <cp:revision>349</cp:revision>
  <dc:subject/>
  <dc:title>Introduction to Routing and Packet Forwar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