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7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F3CC96BD-0089-4A54-B2F3-976A05452C9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BDA2AF0-33AD-4AA6-8BF9-9B373E89BD2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roduction to Dynamic Routing Protoc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87880" y="2562120"/>
            <a:ext cx="4956120" cy="3376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2890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ifying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5720" y="1093320"/>
            <a:ext cx="8019720" cy="552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P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tance V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ink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are advertised as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distance &amp;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lete view of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, period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view of net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ology is cr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 are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ifying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33360" y="1603440"/>
            <a:ext cx="64882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ifying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520" y="1781280"/>
            <a:ext cx="4137120" cy="434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ful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 NOT  s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net mask in routing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less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 s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net mask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upd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01960" y="1900080"/>
            <a:ext cx="3894120" cy="3571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40320" y="1422360"/>
            <a:ext cx="434484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ifying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g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fined as when all routers’ routing tables are at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state of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84200" y="2386080"/>
            <a:ext cx="59151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Protocols Metric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alue used by a routing protocol to determine which routes are better than 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62120" y="2757600"/>
            <a:ext cx="424836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Protocols Metric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ics used in IP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op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li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57400" y="2197080"/>
            <a:ext cx="555480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890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Protocols Metric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90520" y="1087200"/>
            <a:ext cx="3913200" cy="5381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ric Field in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Me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for eac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hop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GRP &amp; EIGR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sed by default),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sed by default),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S-IS &amp; OSP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isco’s imple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34040" y="1584360"/>
            <a:ext cx="4590720" cy="1879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181400" y="3516480"/>
            <a:ext cx="4799160" cy="2984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979880" y="1262160"/>
            <a:ext cx="272736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Protocols Metric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the ability of a router to distribute packets among multiple same cost pa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190600" y="3247920"/>
            <a:ext cx="5276520" cy="3079440"/>
            <a:chOff x="2190600" y="3247920"/>
            <a:chExt cx="5276520" cy="307944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2190600" y="3247920"/>
              <a:ext cx="5276520" cy="219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2568960" y="5622480"/>
              <a:ext cx="4264560" cy="70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532240" y="2828880"/>
            <a:ext cx="406080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ministrative Distance of a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a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a calculated valu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termine the best 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ministrativ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a numeric value that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pecifies the preference of a particular ro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38480" y="3583080"/>
            <a:ext cx="5716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ministrative Distance of a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th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ministrativ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D) in a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first number in the brack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5080" y="3063960"/>
            <a:ext cx="4649760" cy="2394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08680" y="2925720"/>
            <a:ext cx="3973320" cy="1470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078520" y="4506840"/>
            <a:ext cx="394812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dynamic routing protocols and place these protocols in the context of modern network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everal ways to classify routing protoc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metrics are used by routing protocols and identify the metric types used by dynamic routing 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administrative distance of a route and describe its importance in the rou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different elements of the routing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ministrative Distance of a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186000" y="1924200"/>
            <a:ext cx="359424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ministrative Distance of a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ly connect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defaul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 of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ve distance of a static route has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fault value of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16040" y="3602160"/>
            <a:ext cx="80564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ministrative Distance of a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ly connect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mmediately appear in the routing table as soon as the interface is config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68440" y="2744640"/>
            <a:ext cx="82706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8200" y="258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171080"/>
            <a:ext cx="8221680" cy="5133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routing 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lfill the following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ynamically share in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ween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utomatically update routing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topology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termine best 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re grouped as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terior gateway 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GP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xterior gateway protocols(E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IGP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lassless routing 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ese protocols include subnet mask in routing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lassful routing 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ese protocols do not include subnet mask in routing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8200" y="258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760" y="1307880"/>
            <a:ext cx="8221680" cy="5133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ric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e used by dynamic routing protocols to calculate the best path to a destin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ministrative dista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n integer value that is used to indicate a router’s “trustworthines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s of a routing tab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oute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-Administrative 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-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6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6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ynamic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(s) of Dynamic Routing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ynamically share information between rou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utomatically update routing table when topology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termine best path to a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71600" y="3144960"/>
            <a:ext cx="41482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ynamic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a dynamic routing proto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sco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mot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int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-to-date rou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hoosing the best 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stination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bility to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ind a new best 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he current path is no longer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9600" y="3722760"/>
            <a:ext cx="82566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ynamic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of a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a routing protocol algorithms are used for facilitating routing information and best path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outing protoco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re messages for discovering neighbors and exchange of rou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84240" y="3798720"/>
            <a:ext cx="650700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ynamic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dvant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t can backup multiple interfaces/networks on a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asy to con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o extra resources ar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ore sec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advant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etwork changes require manual reconfigu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oes not scale well in large top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ifying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56936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routing 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rouped according to character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Exampl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S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S-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nomous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group of routers under the control of a single auth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36960" y="2076480"/>
            <a:ext cx="45370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ifying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routing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erior Gateway 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terior Gateway 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11400" y="2722680"/>
            <a:ext cx="444348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ifying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ior Gateway Routing Protocols (I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Used for routing inside an autonomous system &amp; used to route within the individual networks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amples: RIP, EIGRP, OS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ior Routing Protocols (E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Used for routing between autonom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ample: BGP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07:33Z</dcterms:modified>
  <cp:revision>320</cp:revision>
  <dc:subject/>
  <dc:title>Introduction to Dynamic Routing Protoc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