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44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1720" y="8410680"/>
            <a:ext cx="4399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440" y="8585280"/>
            <a:ext cx="2562480" cy="3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8960" bIns="48960" anchor="t">
            <a:spAutoFit/>
          </a:bodyPr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1, Cisco Systems, Inc. All rights 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332080"/>
                <a:tab algn="l" pos="4718160"/>
                <a:tab algn="l" pos="4775040"/>
                <a:tab algn="l" pos="5372280"/>
                <a:tab algn="l" pos="5969160"/>
                <a:tab algn="l" pos="6566040"/>
                <a:tab algn="l" pos="7162920"/>
                <a:tab algn="l" pos="7759800"/>
                <a:tab algn="l" pos="8356680"/>
                <a:tab algn="l" pos="8953560"/>
                <a:tab algn="l" pos="9550440"/>
                <a:tab algn="l" pos="10147320"/>
                <a:tab algn="l" pos="107442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Title of Course (ACRO) vX.X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9400" y="8599320"/>
            <a:ext cx="650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Num" idx="1"/>
          </p:nvPr>
        </p:nvSpPr>
        <p:spPr>
          <a:xfrm>
            <a:off x="5797440" y="8480160"/>
            <a:ext cx="795600" cy="2826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279C869-4A23-4ADE-8034-1002DAF3CAC7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2.5.2 topology.  If you can fit the router output that would be great but if not just use the top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3.1.2….in particular the “debug 1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associated with CDP protocols (graphic 2.3.3.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router output graphic 2.3.4.1 (all 3) – this will cover this slide and the previous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6.1.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6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855720" y="239760"/>
            <a:ext cx="5200560" cy="3900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394920" y="4278240"/>
            <a:ext cx="5986440" cy="4154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960" bIns="48960" anchor="t">
            <a:noAutofit/>
          </a:bodyPr>
          <a:p>
            <a:pPr marL="112680" indent="-112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20600"/>
                <a:tab algn="l" pos="2041560"/>
                <a:tab algn="l" pos="3062160"/>
                <a:tab algn="l" pos="4083120"/>
                <a:tab algn="l" pos="5103720"/>
                <a:tab algn="l" pos="6124680"/>
                <a:tab algn="l" pos="7145280"/>
                <a:tab algn="l" pos="8166240"/>
                <a:tab algn="l" pos="9186840"/>
                <a:tab algn="l" pos="102078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graphic 2.2.5.1….would suggest modifying graphic such that each component is identified prior to placing on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31B5456-8FCB-4360-9D98-8CC66810DBCC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DC0F603-44CF-4D17-8F8C-B43204F91A58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ic Rou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0680" y="4672080"/>
            <a:ext cx="410364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serial links in a lab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ide of a serial connection must be considered a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equires placing a clocking signal – use the clock rate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nterface serial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clockrate 64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Interfaces require a clock signal to control the timing of the communcation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312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the debug ip routing comm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you to view changes that the router performs when adding or removing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#debug ip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routing debugging is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e an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)#interface fastethernet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-if)#ip address 172.16.1.1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2(config-if)#no shutdow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745160" y="4017960"/>
            <a:ext cx="4254480" cy="1406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14280" y="3846600"/>
            <a:ext cx="4398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has its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interfaces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o other routing protocols are 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routing table contains only the 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nly devices on the directly connected networks are reach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50920" y="3149640"/>
            <a:ext cx="63723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5440" y="1712880"/>
            <a:ext cx="4083120" cy="1395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7360" y="3179880"/>
            <a:ext cx="4051440" cy="13557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6680" y="2467080"/>
            <a:ext cx="4286160" cy="18874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881360" y="4665600"/>
            <a:ext cx="5095800" cy="17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88720" y="1391760"/>
            <a:ext cx="25686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ing each route in 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is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d to check end to end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635200" y="1187280"/>
            <a:ext cx="612936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133800" y="3416400"/>
            <a:ext cx="5521320" cy="2665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C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 2 cisco proprietary tool used to gather information about other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irectly connec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sco de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 types of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Layer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Layer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P show com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play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device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time value, in sec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device capability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hardware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 remote port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ful in determining if an IP address configuration err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and CDP Protocol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bling C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isable CDP globally use the following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(config)#no cdp r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anually configured route used when routing from a network to a stub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76320" y="2514600"/>
            <a:ext cx="714852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general role a router plays in net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directly connected networks, different router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directly connected networks in the routing table and use the CDP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atic routes with exit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ummary and default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how packets get forwarded when using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how to manage and troubleshoot static ro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1391760"/>
            <a:ext cx="82155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figure a static route use the following command: 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(config)# ip route network-address subnet-mask {ip-address | exit-interface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15880" y="3303720"/>
            <a:ext cx="67248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secting static route 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route - Static rout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16.1.0 – Destination network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5.255.255.0 - Subnet mask of destinatio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2.16.2.2 - Serial 0/0/0 interface IP address on R2, which is the "next-hop" to th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922400" y="3846600"/>
            <a:ext cx="5630760" cy="2836800"/>
            <a:chOff x="1922400" y="3846600"/>
            <a:chExt cx="5630760" cy="283680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1922400" y="3981600"/>
              <a:ext cx="5630760" cy="270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3573360" y="3846600"/>
              <a:ext cx="261324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routes to 2 or more remot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following commands for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p route 192.168.1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p route 192.168.2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95520" y="3422520"/>
            <a:ext cx="6140520" cy="3033720"/>
            <a:chOff x="1595520" y="3422520"/>
            <a:chExt cx="6140520" cy="303372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1595520" y="3510000"/>
              <a:ext cx="6140520" cy="29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"/>
            <a:stretch/>
          </p:blipFill>
          <p:spPr>
            <a:xfrm>
              <a:off x="3438360" y="3422520"/>
              <a:ext cx="261324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b21a1a"/>
                </a:solidFill>
                <a:latin typeface="Arial"/>
              </a:rPr>
              <a:t>Zinin’s 3 routing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Every router makes its decision alone, based on the information it has in its own routing table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The fact that one router has certain information in its routing table does not mean that other routers have the same information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Principle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"Routing information about a path from one network to another does not provide routing information about the reverse, or return path.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5600" y="4189320"/>
            <a:ext cx="5170320" cy="2489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Zinin’s 3 routing principles, how would you answer the follow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Would packets from PC1 reach their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Y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ackets destined for 172.16.1.0/24 and 192.168.1.0/24 networks would reach their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58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oes this mean that any packets from these networks destined for 172.16.3.0/24 network will reach their destin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neither R2 nor R3 router has a route to the 172.16.3.0/24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55320" y="1391760"/>
            <a:ext cx="824076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lving to an Exi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Recursive route look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Occurs when the router has to perform multiple lookups in the routing table before forwarding a packet.  A static route that forwards all packets to the next-hop IP address goes through the following process (reclusive route look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er first must match static route’s destination IP address with the Next ho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xt hop address is then matched to an exit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978200" y="4179960"/>
            <a:ext cx="4449600" cy="2427120"/>
            <a:chOff x="1978200" y="4179960"/>
            <a:chExt cx="4449600" cy="2427120"/>
          </a:xfrm>
        </p:grpSpPr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3144960" y="4179960"/>
              <a:ext cx="2485800" cy="28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1978200" y="4464000"/>
              <a:ext cx="4449600" cy="214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027080"/>
            <a:ext cx="794088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ing a Static route with an Exit Inte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atic routes configured with an exit interfa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more effic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ing table can resolve the exit interface in a single search instead of 2 sear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ample of syntax require to configure a static route with an exit interfa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54440" y="3390840"/>
            <a:ext cx="5181120" cy="3299760"/>
            <a:chOff x="2854440" y="3390840"/>
            <a:chExt cx="5181120" cy="329976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2854440" y="3661200"/>
              <a:ext cx="5181120" cy="302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3672360" y="3390840"/>
              <a:ext cx="2998800" cy="242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ying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Existing static ro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odified.  The old static route must be deleted by placing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ront of the </a:t>
            </a:r>
            <a:r>
              <a:rPr b="1" lang="en-US" sz="2000" spc="-1" strike="noStrike">
                <a:solidFill>
                  <a:srgbClr val="b21a1a"/>
                </a:solidFill>
                <a:latin typeface="Arial"/>
              </a:rPr>
              <a:t>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92.168.2.0 255.255.255.0 172.16.2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static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ust be rewritten in the configu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5440" y="3848040"/>
            <a:ext cx="556740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the Static Rout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 the following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ic route has been entered cor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4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te was configured in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5 issu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to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verif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ckets can reach destination and that Return path is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76240" y="4533840"/>
            <a:ext cx="43880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55200" y="255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708ca1"/>
                </a:solidFill>
                <a:latin typeface="Arial"/>
              </a:rPr>
              <a:t>Static Routes with Exit Interfaces</a:t>
            </a:r>
            <a:endParaRPr b="1" lang="en-US" sz="28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55560" y="968400"/>
            <a:ext cx="7940880" cy="55562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interfaces and AR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a static route is configured on an Ethernet 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the packet is sent to the next-hop router th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stination MAC address will b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of the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next hop’s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found by the router consul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P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entry isn’t found then an AR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 will be sent 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19160" y="4754520"/>
            <a:ext cx="409104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General Role of the Ro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 of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</a:t>
            </a:r>
            <a:r>
              <a:rPr b="0" lang="en-US" sz="2000" spc="-1" strike="noStrike">
                <a:solidFill>
                  <a:srgbClr val="35297d"/>
                </a:solidFill>
                <a:latin typeface="Arial"/>
              </a:rPr>
              <a:t>Path Sel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35297d"/>
                </a:solidFill>
                <a:latin typeface="Arial"/>
              </a:rPr>
              <a:t>Forwarding 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the Top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1800 series routers connected via WAN link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25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ach router connected to a LAN represented by a switch and a P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50880" y="3936960"/>
            <a:ext cx="549936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izing rou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redu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ze of the routing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 summar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rocess of combining a number of static routes into a single static rout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summary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:   Delete the current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:  Configure the summary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3:  Verify the new static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60280" y="3119400"/>
            <a:ext cx="4405320" cy="2943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4660920" y="3608280"/>
            <a:ext cx="434484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This is a route that will match all packe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Stub routers that have a number of static routes all exiting the same interface are good candidates for a default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ike route summarization this will help reduce the size of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default static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configuring a static route.  Except that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destination IP address and subnet mask are all z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(config)#ip route 0.0.0.0 0.0.0.0 [exit-interface | ip-address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 and Default Rout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routes and subnet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uting table lookup process will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use the most specific m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comparing destination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static routes and subnet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subnet mask used on a default static route is 0.0.0.0 all packets will mat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58560" y="1391760"/>
            <a:ext cx="34398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9000"/>
          </a:bodyPr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000" indent="-234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arrives on R1’s Fastethernet 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does not have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 to the destin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2.168.2.0/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uses the default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80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c ro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776760" y="1022400"/>
            <a:ext cx="5389560" cy="28764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38640" y="4417920"/>
            <a:ext cx="490536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32880" y="2779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57120" y="980640"/>
            <a:ext cx="8213760" cy="2287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ket arrives on the Serial 0/0/0 interface on R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has a static route to 192.168.2.0/24 out Serial0/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27000" y="3446640"/>
            <a:ext cx="5451480" cy="2908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181480" y="3930480"/>
            <a:ext cx="3629160" cy="12384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191120" y="4595760"/>
            <a:ext cx="7617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et forwarding with static routes. (recall Zinin’s 3 routing princi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cket arrives on the Serial0/0/1 interface on R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has a connected route to 192.168.2.0/24 out Fastethernet 0/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25400" y="3808440"/>
            <a:ext cx="5693040" cy="3049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5219640" y="5052960"/>
            <a:ext cx="39243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that can be used to isolate routing problem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tests end to end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Tracer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– used to discover all of the hops (routers) along the path between 2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to display routing table &amp; ascertain forward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to show status of 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cdp neighbors det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used to gather configuration information about directly connected neighb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missing or mis-configured route requires methodically using the correc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Start wi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ping fails then use traceroute to determine where packets are failing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: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examin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f there is a problem with a mis-configured static route remove the static route then reconfigure the new static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11080" y="2048040"/>
            <a:ext cx="3961080" cy="25081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4950000" y="3691080"/>
            <a:ext cx="3795480" cy="29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General Role of the Ro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of a Router for W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router has a DB-60 port that can support 5 different cabl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s of a Router for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types of connectors can be used: Straight through and Cross-ov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through used to conn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itch-to-Router, Switch-to-PC, Router-to-Server, Hub-to-PC, Hub-to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over used to connec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witch-to-Switch, PC-to-PC, Switch-to-Hub, Hub-to-Hub, Router-to-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tatic Routes and Packet Forward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a Missing 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433600" y="1839960"/>
            <a:ext cx="5074920" cy="4814640"/>
            <a:chOff x="2433600" y="1839960"/>
            <a:chExt cx="5074920" cy="481464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3000240" y="4330800"/>
              <a:ext cx="3980160" cy="23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2"/>
            <a:stretch/>
          </p:blipFill>
          <p:spPr>
            <a:xfrm>
              <a:off x="2433600" y="1839960"/>
              <a:ext cx="5074920" cy="2477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9760" y="256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65200" y="1157400"/>
            <a:ext cx="828504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perate at lay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unctions include best path selection &amp; forwarding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necting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W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ial cables are connected to router serial por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lab environment clock rates must be configured for D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66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aight through cables or cross over cables are used to connect to fastethernet port.  (The type of cable used depends on what devices are being conne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320" indent="-2293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sco Discovery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ayer 2 proprietary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728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discover information about directly connected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 Cisc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56920" y="1219320"/>
            <a:ext cx="7940520" cy="474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is a manually configured path that specifies how the router will get to a certain point using a certain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is is several static routes that have been condensed into a single static rou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ault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t is the route packets use if there is no other possible match for their destination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warding of packets when static route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Zinin’s 3 routing principles describe how packets are forwar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-200880">
              <a:lnSpc>
                <a:spcPct val="7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ubleshooting static rou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require some of the following command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race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IP ro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ip interface brie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how cdp neighbors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0880" indent="0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229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Rout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view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status of 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a portion o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the interfa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 – used to show configur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file in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844720" y="4205160"/>
            <a:ext cx="4197600" cy="20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n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By 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serial and Ethernet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nterfaces are 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o enable an interface use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98720" y="4502160"/>
            <a:ext cx="5138640" cy="2162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360520" y="2646360"/>
            <a:ext cx="4513320" cy="21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7840" y="31068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3960" y="993240"/>
            <a:ext cx="794052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ifying Ether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 for fastEthernet 0/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command used to sho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of fast Ethern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erface bri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312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thernet interfaces participate in AR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13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0880" y="4002120"/>
            <a:ext cx="7378560" cy="253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60800" y="1712880"/>
            <a:ext cx="3984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8720" y="1484280"/>
            <a:ext cx="794052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guring a Seri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interface configura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in the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nter in the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)#interface serial 0/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ip address 172.16.2.1 255.255.255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1(config-if)#no shu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60800" y="0"/>
            <a:ext cx="4183200" cy="2338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077920" y="4815000"/>
            <a:ext cx="612324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Interfac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Router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hysically connecting a WAN Interfa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WAN Physical Layer connection has si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Circuit-terminating Equipment (DCE) – This is the service provider.  CSU/DSU is a DCE devic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erminal Equipment (DTE) – Typically the router is the DTE de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6:19Z</dcterms:modified>
  <cp:revision>313</cp:revision>
  <dc:subject/>
  <dc:title>Static Ro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