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4.png" ContentType="image/png"/>
  <Override PartName="/ppt/media/image62.png" ContentType="image/png"/>
  <Override PartName="/ppt/media/image25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8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20C54A6-CA0F-4E46-B6B4-CFB87DAF68F0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475FB40-2BE3-4D59-80F4-69C4ED4099D3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EIGR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0680" y="4672080"/>
            <a:ext cx="410364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nd Concepts – Chapter 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5040" y="36468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55560" y="13143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’s 5 Packe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lo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discover &amp; form adjacencies with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51200" y="2637000"/>
            <a:ext cx="5627520" cy="39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6560" y="1733400"/>
            <a:ext cx="41212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propagate rout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knowledgement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acknowledge receipt of update, query &amp; reply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00680" y="2117880"/>
            <a:ext cx="51433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44320" y="1561680"/>
            <a:ext cx="4079880" cy="4791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 &amp; Reply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by DUAL for searching fo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an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y pac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Us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272120" y="3075120"/>
            <a:ext cx="4295520" cy="28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3106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2600" y="1071360"/>
            <a:ext cx="8001000" cy="5624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 of Hello Protoc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iscover &amp; establish adjacencies with neighbor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 of hello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0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interval for sending hello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networks it is every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5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oint non broadcast multi-access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80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cast every 60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40160" y="3438360"/>
            <a:ext cx="3703680" cy="3127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77760" y="3807000"/>
            <a:ext cx="451332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old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maximum time router should wait before declaring a neighbor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hold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3 times hello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2440" y="34128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7880" y="1236600"/>
            <a:ext cx="7940880" cy="4384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RP Bounded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only sends update when there is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 change 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te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Partial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tial update includes only the route information that has changed – the whole routing table is NOT 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ounded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route changes, only those devices that are impacted will be notified of the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’s use of partial bounded updates minimizes use of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301920" y="5060880"/>
            <a:ext cx="4457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fusing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ate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rithm (D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RP’s primary method for preventing routing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 of using 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for fast convergence time by keeping a list of loop-free backup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606840" y="3990960"/>
            <a:ext cx="41990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384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ve Distance (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as the trustworthiness of the source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default administrativ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routes  =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l routes     =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ed routes   = 1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16560" y="3181320"/>
            <a:ext cx="391140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092480" y="3300480"/>
            <a:ext cx="4529160" cy="30495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 rout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-38124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e rout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2000" y="167004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 used is the same as previous chapters with the addition of an ISP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25640" y="3137040"/>
            <a:ext cx="5354640" cy="31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2080" y="544320"/>
            <a:ext cx="4081320" cy="758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2040" y="1781280"/>
            <a:ext cx="3935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will automatically summarize routes at classful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05480" y="353880"/>
            <a:ext cx="4178160" cy="24940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19160" y="3313080"/>
            <a:ext cx="3716280" cy="2600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916440" y="2782800"/>
            <a:ext cx="2289240" cy="21430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6448320" y="2854440"/>
            <a:ext cx="2695680" cy="2286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3613320" y="4952880"/>
            <a:ext cx="27716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background and history of Enhanced Interior Gateway Routing Protocol (EIGR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the basic EIGRP configuration commands and identify their purpo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composite metric used by EIG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ncepts and operation of 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uses of additional configuration commands in EIG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66720" y="33768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EIGRP Configuration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34680" y="125244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nomous System (AS) &amp; Process 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collection of networks under the control of a single authority (reference RFC 19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Numbers are assigned by 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ties needing AS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Backbone prod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s connecting to other institutions using AS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463920" y="4370400"/>
            <a:ext cx="37195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6200" y="32976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EIGRP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8600" y="1212840"/>
            <a:ext cx="4303800" cy="4587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autonomous system number actually functions as a process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ID represents an instance of the routing protocol running on a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)#router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rp </a:t>
            </a:r>
            <a:r>
              <a:rPr b="0" i="1" lang="en-US" sz="2000" spc="-1" strike="noStrike">
                <a:solidFill>
                  <a:srgbClr val="0066ff"/>
                </a:solidFill>
                <a:latin typeface="Arial"/>
              </a:rPr>
              <a:t>autonomous-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789440" y="2238480"/>
            <a:ext cx="43545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EIGRP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16066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uter eigr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lobal command that enables eigrp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uter eigrp </a:t>
            </a:r>
            <a:r>
              <a:rPr b="0" i="1" lang="en-US" sz="2400" spc="-1" strike="noStrike">
                <a:solidFill>
                  <a:srgbClr val="0066ff"/>
                </a:solidFill>
                <a:latin typeface="Arial"/>
              </a:rPr>
              <a:t>autonomous-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ll routers in the EIGRP routing domain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must use the same process ID nu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nomous-system num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54200" y="4006800"/>
            <a:ext cx="46832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3873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EIGRP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57280" y="1368360"/>
            <a:ext cx="641520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twork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 of the network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s interfaces to transmit &amp; receive EIGRP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s network or subnet in EIGRP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-router)#network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twork-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784760" y="3363840"/>
            <a:ext cx="407016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200" y="35244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EIGRP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55320" y="1262160"/>
            <a:ext cx="8513640" cy="2536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twork Command with a Wildcard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is option is used when you want to configure EIGRP to advertise specific sub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-router)#network network-address [wildcard-mask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50920" y="3613320"/>
            <a:ext cx="724680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14520" y="39636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EIGRP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41000" y="1327320"/>
            <a:ext cx="7940520" cy="4363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ying EIG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routers must establish adjacencies with their neighbors before any updates can be sent or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used to view neighbor table and verify that EIGRP has established adjacencies with neighbor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b21a1a"/>
                </a:solidFill>
                <a:latin typeface="Arial"/>
              </a:rPr>
              <a:t>show ip eigrp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674720" y="4068720"/>
            <a:ext cx="60991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4200" y="649440"/>
            <a:ext cx="464976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40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40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09520" y="1987200"/>
            <a:ext cx="4262400" cy="2444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b21a1a"/>
                </a:solidFill>
                <a:latin typeface="Arial"/>
              </a:rPr>
              <a:t>show ip protoc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is also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used to ver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EIGRP is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448160" y="1260360"/>
            <a:ext cx="418464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3680" y="33768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EIGRP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90160" y="1501560"/>
            <a:ext cx="3632040" cy="4724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ining the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show ip ro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is also used to verify EIG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RP routes are denoted in a routing table by the letter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efault , EIGRP automatically summarizes routes at major network bound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894120" y="1535040"/>
            <a:ext cx="4975200" cy="48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9120" y="3510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EIGRP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31560" y="1191960"/>
            <a:ext cx="8529480" cy="4384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ing the Null0 Summary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0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is not a physic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outing table summary routes are sourced from Null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:  routes are used for advertisement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RP will automatically include a null0 summary route as child route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when 2 conditions are 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one subnet is learned via EIG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summarization is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087640" y="4357800"/>
            <a:ext cx="479088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EIGRP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90160" y="1689120"/>
            <a:ext cx="3814920" cy="4587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3’s routing table shows that the 172.16.0.0/16 network is automatically summarized by R1 &amp; 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340160" y="1714680"/>
            <a:ext cx="444816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4800" y="549360"/>
            <a:ext cx="8145360" cy="620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87480" y="1406520"/>
            <a:ext cx="7505640" cy="2239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987480" y="3919680"/>
            <a:ext cx="7326360" cy="24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2120" y="31068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 Metric Calcul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2440" y="1185840"/>
            <a:ext cx="7553160" cy="4973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RP Composite Metric &amp; the K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uses the following values in its composite 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andwidth, delay, reliability, and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osite metric used by EIG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7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ula used  has values K1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1 &amp; K3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ther K val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67040" y="4170240"/>
            <a:ext cx="5540400" cy="22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 Metric Calcul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45840" y="1562040"/>
            <a:ext cx="7940520" cy="92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sh ip protoc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to verify the K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84560" y="2378160"/>
            <a:ext cx="460692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2240" y="30168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 Metric Calcul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1040" y="1272960"/>
            <a:ext cx="3632400" cy="513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show interfa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to view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EIGRP uses a static bandwidth to calculate 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serial interfaces use a default bandwidth value of 1.544Mbos (T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363920" y="1474920"/>
            <a:ext cx="4257720" cy="47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 Metric Calcul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2480" y="14698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defined as the measure of time it takes for a packet to traverse a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t is a static value based on link type to which interface is conn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757760" y="3298680"/>
            <a:ext cx="34416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6920" y="4302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 Metric Calcul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6360" y="14396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t a default EIGRP metr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 measure of the likelihood that a link will 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easure dynamically &amp; expressed as a fraction of 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gher the fraction the better the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t a default EIGRP metr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mber that reflects how much traffic is using 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is determined dynamically and is expressed as a fraction of 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wer the fraction the less the load on the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25960" y="4938840"/>
            <a:ext cx="337176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73040" y="33444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 Metric Calcul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12480" y="1382760"/>
            <a:ext cx="7940520" cy="513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Bandwidth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the interfac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Use the </a:t>
            </a:r>
            <a:r>
              <a:rPr b="1" i="1" lang="en-US" sz="2000" spc="-1" strike="noStrike">
                <a:solidFill>
                  <a:srgbClr val="b21a1a"/>
                </a:solidFill>
                <a:latin typeface="Arial"/>
              </a:rPr>
              <a:t>bandwid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-if)#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band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ilo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ing band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i="1" lang="en-US" sz="2000" spc="-1" strike="noStrike">
                <a:solidFill>
                  <a:srgbClr val="b21a1a"/>
                </a:solidFill>
                <a:latin typeface="Arial"/>
              </a:rPr>
              <a:t>show interf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– bandwidth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does not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’s 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222880" y="3241800"/>
            <a:ext cx="3616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19200" y="35676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 Metric Calcul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63480" y="1398600"/>
            <a:ext cx="7940880" cy="1487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IGRP metric can be determined by examining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width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98440" y="2655720"/>
            <a:ext cx="67248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 Metric Calcul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53680" y="1781280"/>
            <a:ext cx="8589960" cy="4424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uses the lowest bandwidth (BW)in its metric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d BW = reference BW / lowest BW(k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– EIGRP uses the cumulative sum of all outgoing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d Delay = the sum of outgoing interface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Metric = calculated BW + calculated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 Metric Calcul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2240" y="1521000"/>
            <a:ext cx="4332240" cy="2079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711680" y="1467000"/>
            <a:ext cx="4176720" cy="23414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749600" y="4308480"/>
            <a:ext cx="5238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UAL Concept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fu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rithm (DUAL) is used to prevent loo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017720" y="3332160"/>
            <a:ext cx="718632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0160" y="1760400"/>
            <a:ext cx="5481720" cy="450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s of EIGRP: IG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veloped in 1985 to overcome RIPv1’s limited hop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stance vector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etrics used by IG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 (used by defaul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(used by defaul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scontinued support starting with IOS 12.2(13)T &amp; 12.2(R1s4)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415120" y="2751120"/>
            <a:ext cx="34034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5120" y="30168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UAL Concept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70000" y="1395000"/>
            <a:ext cx="3389040" cy="5032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best least cost rou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 a destination found in the routing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sible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lowest calculated metri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long a path to a destination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836880" y="1668600"/>
            <a:ext cx="480384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7040" y="522000"/>
            <a:ext cx="8145720" cy="646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UAL Concept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52440" y="1433520"/>
            <a:ext cx="8269200" cy="78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sible Successors, Feasibility Condition &amp; Reported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25840" y="2305080"/>
            <a:ext cx="5100480" cy="41133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31920" y="2419200"/>
            <a:ext cx="2744640" cy="26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sible Suc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0000"/>
              </a:lnSpc>
              <a:spcBef>
                <a:spcPts val="96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This is </a:t>
            </a: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a loop free backup rout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sam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0000"/>
              </a:lnSpc>
              <a:spcBef>
                <a:spcPts val="96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tination as successor ro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555120"/>
            <a:ext cx="8145720" cy="628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UAL Concept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8840" y="2192400"/>
            <a:ext cx="318600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ed distance (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The metric that a router reports to a neighbor about its own cost to that net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205080" y="2657520"/>
            <a:ext cx="5438880" cy="3857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352440" y="1433520"/>
            <a:ext cx="82692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sible Successors, Feasibility Condition &amp; Reported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UAL Concept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71520" y="1801440"/>
            <a:ext cx="2759040" cy="4140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sibility Condition (F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et when a neighbor’s R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is less th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ocal router’s FD to the same destinatio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395520" y="1882800"/>
            <a:ext cx="5191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2120" y="539280"/>
            <a:ext cx="8145720" cy="592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UAL Concept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71440" y="1476000"/>
            <a:ext cx="4230720" cy="4994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 Table:  Successor &amp; Feasible Suc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Topology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wed using the 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show ip 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eigrp top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s of table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uccessor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feasible success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522680" y="1932120"/>
            <a:ext cx="462132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54040" y="507600"/>
            <a:ext cx="8145360" cy="663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UAL Concept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463760"/>
            <a:ext cx="21686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GRP Topology Table diss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924280" y="3132000"/>
            <a:ext cx="6219720" cy="3726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294000" y="1351080"/>
            <a:ext cx="524196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2120" y="3445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UAL Concept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8760" y="1276200"/>
            <a:ext cx="3613320" cy="515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 Table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Feasible Suc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easible successor may not be present because the feasibility condition may not be m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In other words, the reported distance of the neighbor is greater than or equal to the current  feasible di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782880" y="1027080"/>
            <a:ext cx="518796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UAL Concept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42880" y="171432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ate Machine (F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n abstract mach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defines a set of possible states something  can go through, what event causes those states and what events result form thos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FSMs are used 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e how a device, computer program, or routing algorithm will react to a set of input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3747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UAL Concept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47400" y="1592280"/>
            <a:ext cx="3652920" cy="4527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AL F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s a best loop-free path to a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s alternate routes by using information in EIGRP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187880" y="1816200"/>
            <a:ext cx="433368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46120" y="4572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UAL Concept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43352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s (F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xamine output from EIGRP’s finite state machine us the </a:t>
            </a:r>
            <a:r>
              <a:rPr b="1" i="1" lang="en-US" sz="2400" spc="-1" strike="noStrike">
                <a:solidFill>
                  <a:srgbClr val="b21a1a"/>
                </a:solidFill>
                <a:latin typeface="Arial"/>
              </a:rPr>
              <a:t>debug eigrp f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527120" y="2965320"/>
            <a:ext cx="6110280" cy="35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0680" y="32868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6360" y="1359000"/>
            <a:ext cx="8305920" cy="2993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Messag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link frame header - contains source and destination MAC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packet header - contains source &amp; destination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RP packet header - contains AS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/Length/Field - data portion of EIGRP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17520" y="4761000"/>
            <a:ext cx="845676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ore EIGRP Configur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425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ll0 Summary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y defa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IGRP uses the Null0 interface to discard any packets that match the parent route but do not match any of the chil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automatically includes a null0 summary route as a child route whenever both of the following conditions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964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or subnets exists that was learned via EIGR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964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c summarization is enab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ore EIGRP Configur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30360" y="2349360"/>
            <a:ext cx="7940520" cy="3571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519120" y="1627200"/>
            <a:ext cx="79405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ull0 Summary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54040" y="537840"/>
            <a:ext cx="8145360" cy="655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ore EIGRP Configur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324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bling Automatic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b21a1a"/>
                </a:solidFill>
                <a:latin typeface="Arial"/>
              </a:rPr>
              <a:t>auto-summ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permits EIGRP to automatically summarize at major network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b21a1a"/>
                </a:solidFill>
                <a:latin typeface="Arial"/>
              </a:rPr>
              <a:t>no auto-summ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is used to disable automatic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uses all EIGRP neighbors to send updates that will not be automatically summar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will cause chan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ppear in bo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uting ta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opology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0680" y="622080"/>
            <a:ext cx="8145360" cy="655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ore EIGRP Configur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summarization can include supe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: EIGRP is a classless routing protocol &amp; include subnet mask in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used to configure manual summariz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-if)#ip summary-address eigrp  as-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-address subnet-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36120" y="3430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ore EIGRP Configur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6160" y="125424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a summary route in EIG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274760" y="1952640"/>
            <a:ext cx="69548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ore EIGRP Configur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173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Default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d zero” static default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an be used with any currently supported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s usually configured on a router that is connected a network outside the EIGRP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&amp; the “Quad zero” static default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the use of the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redistribute 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to disseminate default route in EIGRP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55200" y="4017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708ca1"/>
                </a:solidFill>
                <a:latin typeface="Arial"/>
              </a:rPr>
              <a:t>More EIGRP Configurations</a:t>
            </a:r>
            <a:endParaRPr b="1" lang="en-US" sz="36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5560" y="1507680"/>
            <a:ext cx="7940880" cy="4341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Tuning EIG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RP bandwidth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y default, EIGRP uses only up to 50% of interface bandwidth for EIGRP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command to change the percentage of bandwidth used by EIGRP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-if)#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ip bandwidth-percent eigrp as-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number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392200" y="4471920"/>
            <a:ext cx="476280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74840" y="3780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708ca1"/>
                </a:solidFill>
                <a:latin typeface="Arial"/>
              </a:rPr>
              <a:t>More EIGRP Configurations</a:t>
            </a:r>
            <a:endParaRPr b="1" lang="en-US" sz="36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2760" y="1150560"/>
            <a:ext cx="8488440" cy="4581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Hello Intervals and Hold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ello intervals and hold times are configurable on a per-interface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command to configure hello interval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-if)#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ip hello-interval eigrp as-number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the hello interval also requires changing the hold time to a value greater than or equal to the hello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command to configure hold time value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-if)#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ip hold-time eigrp as-number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325600" y="4667400"/>
            <a:ext cx="413712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44040" y="3106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95080" y="1085760"/>
            <a:ext cx="8001000" cy="5376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 &amp;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RP is a derivative of IG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RP is a Cisco proprietary distance vector routing protocol released in 19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RP terms and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PR uses RTP to transmit &amp; receive EIGRP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RP has 5 packet typ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lo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ment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y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s VLSM &amp; CI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RP terms and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964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IGRP uses a hello protoc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pose of hello protocol is to discover &amp; establish adjacen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964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IGRP routing upd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eriod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tial and boun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 converg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6480" y="501120"/>
            <a:ext cx="3552840" cy="676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74320" y="2207880"/>
            <a:ext cx="4675320" cy="4049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RP packet h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cod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tonomous 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ste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RP 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ld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37240" y="1557360"/>
            <a:ext cx="4224240" cy="24955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955960" y="4324320"/>
            <a:ext cx="5838840" cy="2162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47720" y="1357200"/>
            <a:ext cx="43941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RP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964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commands are used for EIGRP 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trA(config)#router eigrp [autonomous-system #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trA(config-router)#network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etwork-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964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commands can be used to verify EIGR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ip protoc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ip eigrp neighb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w ip ro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RP metric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andwid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(defau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5200" y="3445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55560" y="1155600"/>
            <a:ext cx="7940880" cy="5362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event routing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route to a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sible suc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up route to a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sible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st calculated metric to a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ed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ance towards a destination as advertised by an upstream neigh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55200" y="32184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8840" y="1111320"/>
            <a:ext cx="7977240" cy="5376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ing the best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router has received all updates from directly connected neighbors, it can calculate its 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ric is calculated for each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te with lowest metric is designated successor &amp; is placed in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easible successor is f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feasible successor: it must have lower reported distance to the destination than the installed route’s feasible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sible routes are maintained in topology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c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by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s routes on classful bound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ation can be disabled using the following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rA(config-if)#no auto-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81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82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8920" y="358920"/>
            <a:ext cx="339084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12920" y="2563920"/>
            <a:ext cx="41414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LV: IP inter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ic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net mask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LV: IP exter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s used when exter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s are imported i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RP rout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91240" y="1336680"/>
            <a:ext cx="4173480" cy="2500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92520" y="3940200"/>
            <a:ext cx="4386240" cy="2449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73040" y="1725480"/>
            <a:ext cx="41101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6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8760" y="1476360"/>
            <a:ext cx="4303800" cy="4363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ocol Dependent Mod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D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IGRP uses PDM to route several different protocols i.e. IP, IPX &amp; AppleTa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DMs are responsible for the specific routing task for each network layer protoc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354560" y="1936800"/>
            <a:ext cx="445140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36936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708ca1"/>
                </a:solidFill>
                <a:latin typeface="Arial"/>
              </a:rPr>
              <a:t>EIGRP</a:t>
            </a:r>
            <a:endParaRPr b="1" lang="en-US" sz="36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60" y="1272960"/>
            <a:ext cx="5421240" cy="5319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iable Transport Protocol (R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pose of R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by EIGRP to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transmit and receive EIGRP pa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acteristics of R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olves both 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reliable &amp; unreliable deliv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EIGRP p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le delivery requires acknowledgment from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reliable delivery does not require an acknowledgement from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s can be s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Uni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Multica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address 224.0.0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03840" y="1947960"/>
            <a:ext cx="319572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6T18:27:45Z</dcterms:modified>
  <cp:revision>365</cp:revision>
  <dc:subject/>
  <dc:title>EIGR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