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CD865B8-9AB6-4DC5-A8DE-90E88A1006F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A9C0C66-97D6-4C5B-8C12-4E241DFBCAD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outing Table: A Closer Lo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5080" y="1566360"/>
            <a:ext cx="3251160" cy="495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and Chil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ent rou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evel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ent rou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b21a1a"/>
                </a:solidFill>
                <a:latin typeface="Arial"/>
              </a:rPr>
              <a:t>does not cont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y next-hop IP addres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it interface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95200" y="343080"/>
            <a:ext cx="88012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66960" y="1720800"/>
            <a:ext cx="49388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7040" y="341280"/>
            <a:ext cx="88012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55480" y="1431720"/>
            <a:ext cx="4050000" cy="520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utomatic creation of parent ro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Occurs any time a subnet is added to the routing t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ild ro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Child routes ar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vel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o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Child routes are 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ne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 a classful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twork addr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89640" y="2068560"/>
            <a:ext cx="43448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7200" y="2916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200" y="1333440"/>
            <a:ext cx="7883640" cy="5129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vel 2 child routes contain route source &amp; the network address of the rou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vel 2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hild rout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b21a1a"/>
                </a:solidFill>
                <a:latin typeface="Arial"/>
              </a:rPr>
              <a:t>ar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lso considered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ultimate ro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Reason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they contain the next hop addres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amp;/or exit interf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03520" y="3768840"/>
            <a:ext cx="54975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5560" y="1619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child routes have the same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is means the parent route maintains the /24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08040" y="2846520"/>
            <a:ext cx="569772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5560" y="159048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ram illustrates 2 child networks belonging to the parent route 172.16.0.0 /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06400" y="2647800"/>
            <a:ext cx="567072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7920" y="1563480"/>
            <a:ext cx="79405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assless networks, child routes do not have to share the same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82960" y="2536920"/>
            <a:ext cx="54687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290520"/>
            <a:ext cx="88009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2440" y="2354400"/>
          <a:ext cx="8497800" cy="3220920"/>
        </p:xfrm>
        <a:graphic>
          <a:graphicData uri="http://schemas.openxmlformats.org/drawingml/2006/table">
            <a:tbl>
              <a:tblPr/>
              <a:tblGrid>
                <a:gridCol w="1252440"/>
                <a:gridCol w="1960560"/>
                <a:gridCol w="2044800"/>
                <a:gridCol w="1646280"/>
                <a:gridCol w="1593720"/>
              </a:tblGrid>
              <a:tr h="183636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ent route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ful mask 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lay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variably subnetted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seen in parent route in routing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ludes the # of different masks of child ro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net mask included with each child route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-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5120" y="1165320"/>
            <a:ext cx="7940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&amp; Child Routes: Classl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407520"/>
            <a:ext cx="88009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12880" y="2317680"/>
            <a:ext cx="6805440" cy="3929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4120" y="1509840"/>
            <a:ext cx="7940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&amp; Child Routes: Classl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6200" y="450360"/>
            <a:ext cx="8145720" cy="701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06280"/>
            <a:ext cx="8555040" cy="5932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95360" indent="-49536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oute Look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e level 1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best match a level 1 ultimate route and is not a parent route this route is used to forward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examines level 2 (child)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there is a match with level 2 child route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7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subnet is used to forward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no match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routing behavior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determines classful or classless routing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classful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7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is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classless then router searches level one supernet and default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there exists a level 1 supernet or default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n Packet is forwarded.  If not packet is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4760" y="371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400" y="1469880"/>
            <a:ext cx="88772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est Match: Level 1 Network Ro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t match is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so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n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the longest mat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 mat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one that has the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most number of left most b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atching between the destination IP address and the route in the routing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3040" y="3586320"/>
            <a:ext cx="7591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various route types found in the routing table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uting table lookup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routing behavior in routed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312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4520" y="1226880"/>
            <a:ext cx="3837240" cy="5226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ing the subnet mask used to determine the longest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1 pings 192.168.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examines level 1 route for best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exist a match between192.168.1.2 &amp; 192.168.1.0 / 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forwards packets out s0/0/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089240" y="1668600"/>
            <a:ext cx="48373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61960" y="32652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200" y="1206000"/>
            <a:ext cx="8077320" cy="530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1st there must be a match made between 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 route &amp; destination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If a match is made then an attempt at finding a match between the destination IP and the child route is mad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4720" y="3556080"/>
            <a:ext cx="6833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608120"/>
            <a:ext cx="85964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match between packet’s destination IP address and the next route in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figure shows a match between the destination IP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.168.1.0 and the level one IP of 192.168.1.0 / 24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packet forwarded out s0/0/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09680" y="3936960"/>
            <a:ext cx="62420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7680" y="457200"/>
            <a:ext cx="85536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8840" y="144612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vel 1 Parent &amp; Level 2 Child Ro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fore level 2 child routes are exam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There must be a match between classful level on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ent route and destination IP addre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47840" y="3273480"/>
            <a:ext cx="4254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534600"/>
            <a:ext cx="8145360" cy="59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2840" y="1101600"/>
            <a:ext cx="8466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e match with parent route has been made Level 2 child routes will be examined for a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 lookup process searches for chi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s with a match with destination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14480" y="2830680"/>
            <a:ext cx="70120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3360" y="615960"/>
            <a:ext cx="8145360" cy="557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7840" y="1314360"/>
            <a:ext cx="8582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 router finds a match with one of the level 2 chil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router examines parent routes for a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a match exists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routes are exam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route chosen is the one with 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est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94040" y="3984480"/>
            <a:ext cx="47293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200" y="574200"/>
            <a:ext cx="8145720" cy="621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7680" y="1469520"/>
            <a:ext cx="4262400" cy="505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Route Lookup Process with VL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e use of VLSM does not change the lookup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If there is a match between destination IP address and the level 1 parent route 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Level 2 child routes will be searc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13320" y="1400040"/>
            <a:ext cx="437184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29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0160" y="1247400"/>
            <a:ext cx="7940520" cy="209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ful &amp; classless </a:t>
            </a:r>
            <a:r>
              <a:rPr b="1" lang="en-US" sz="2200" spc="-1" strike="noStrike">
                <a:solidFill>
                  <a:srgbClr val="b21a1a"/>
                </a:solidFill>
                <a:latin typeface="Arial"/>
              </a:rPr>
              <a:t>routing protoc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luence how routing table 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opu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ful &amp; classless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outing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s how routing table 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arch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fter it 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74880" y="3295800"/>
            <a:ext cx="58150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485640"/>
            <a:ext cx="8145720" cy="657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4160" y="1139400"/>
            <a:ext cx="3524040" cy="545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ful Routing Behavior:  no ip class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happens if ther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s not a mat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any level 2 child routes of the pare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 must determine if the routing behavior is classless or cla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router is utiliz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classful routing 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ookup process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d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acket is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63880" y="1801800"/>
            <a:ext cx="52801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65200" y="493200"/>
            <a:ext cx="8145360" cy="621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7400" y="13334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ful Routing Behavior – Search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xample of when classful routing behavior is in effect and why the router drops the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destination’s subnet mask is a /24 and none of the child routes left most bits match the first 24 bits.  This means packet is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54200" y="3668760"/>
            <a:ext cx="5864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Fo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ructure of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ookup process of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assless and classful routing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1200" y="493560"/>
            <a:ext cx="8145720" cy="72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330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26800" indent="-2268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Routing Behavior – Search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-2268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 why the router will not search beyond the chil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04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networks were all cla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04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t an organization could subnet a major network address and “enlighten” all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’s routers about the sub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04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f the subnet was not in the routing table, the subnet did not exist and packet was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1360" y="398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Class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eginning with IOS 11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p classless was configured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assless routing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s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scontiguou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DR supe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6120" y="403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6000" y="1399680"/>
            <a:ext cx="8464680" cy="545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Routing Behavior: ip class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lookup process when ip classless is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less routing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ffect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 level 1 ro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net routes Checked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a match exists then forward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routes Checked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match or no defaul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th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 is drop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376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36480" y="14130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less Routing Behavior – Search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 begins search process by finding a match between destination IP and parent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finding the above mentioned match, th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search of the child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66760" y="3463920"/>
            <a:ext cx="680724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46120" y="558720"/>
            <a:ext cx="8145360" cy="60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8840" y="136512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less Routing Behavior – Search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 match is found in child rou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previous slide 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 continues to search the routing table for 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 that may have fewer bits in the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84280" y="3678120"/>
            <a:ext cx="3628800" cy="2919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86320" y="3541680"/>
            <a:ext cx="4265640" cy="1270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533840" y="4940280"/>
            <a:ext cx="42354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v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ting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t is recommended to use classless rou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: so supernet and default routes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be used whenever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609200"/>
            <a:ext cx="7940880" cy="4697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/structure of a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tabl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ly 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atic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ynamic rout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tables are hierarc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vel 1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subnet mask that is less than or equal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ful subnet mask for the network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vel 2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subnets of a network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309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6360" y="1122120"/>
            <a:ext cx="8907480" cy="591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 look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s with examining level 1 ro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best match with packet’s destination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best match = an ultimate route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acket is forwarded  -El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arent route is exa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rent route &amp; destination IP match then Level 2 (chil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s are exa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 route 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match between destination IP and child route found t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forwarded -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outer is using classful routing behavior t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is dropped -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6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outer is using classless routing behavior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search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 supernet &amp; default ro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6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match is found then Packet if forwarded -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6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is dro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626840"/>
            <a:ext cx="7940880" cy="4467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uting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is refers to how a routing table is searc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ful routing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Indicated by the use of the no ip classless com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will not loo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yond child routes for a less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less routing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Indicated by the use of the ip classless com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 will look beyond child routes for a lesser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9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9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56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97240" y="4118040"/>
            <a:ext cx="5209920" cy="273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7800" y="13525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outer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 and R2 share a common 172.16.0.0/16 network with 172.16.0.0/24 sub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 and R3 are connected by the 192.168.1.0/24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3 also has a 172.16.4.0/24 subnet, which is disconnected, or discontiguous, from the 172.16.0.0 network that R1 and R2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5462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 entries come from the following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rectly connect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ynamic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51120" y="3565440"/>
            <a:ext cx="52228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29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0640" y="150156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oon as the no shutdown command is issued the route is added to routing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81280" y="2816280"/>
            <a:ext cx="53118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1781280"/>
            <a:ext cx="344160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P routing table is a hierarchic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reason for this is to speed up look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36880" y="1709640"/>
            <a:ext cx="489924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4840" y="3142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05040" y="3800520"/>
            <a:ext cx="5140440" cy="210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14000"/>
            <a:ext cx="7669440" cy="5226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Have a subnet mask equal to or less than 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ful mask of the network add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route can functio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Supernet rou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Network ro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331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0680" y="1221840"/>
            <a:ext cx="7940520" cy="256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6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Ultimate Rou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eit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 next-hop add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n exit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36520" y="3887640"/>
            <a:ext cx="671220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19:36Z</dcterms:modified>
  <cp:revision>330</cp:revision>
  <dc:subject/>
  <dc:title>The Routing Table: A Closer Loo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