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81B7AF1-40A1-4075-809C-97714C885C4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B8AD997-FE35-4367-BA52-DECC42285B2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Pv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39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v1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ful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bnet mask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re not 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mmarizes networks at major network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network is discontiguous and RIPv1 configu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be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99120" y="3846600"/>
            <a:ext cx="43192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120" y="376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00440" y="1319040"/>
            <a:ext cx="4281480" cy="23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81560" y="3855960"/>
            <a:ext cx="4483080" cy="2262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162000" y="1306080"/>
            <a:ext cx="5362560" cy="553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the rout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examine the content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updates us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bug ip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RIPv1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d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s will not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wit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068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6000" y="1166400"/>
            <a:ext cx="4457880" cy="553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1 does not support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RIPv1 does 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subnet m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1 does summarize routes to the Classful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the Subnet m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interf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s to adv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78200" y="1241280"/>
            <a:ext cx="4327560" cy="49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320" y="1780920"/>
            <a:ext cx="401004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IDR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diagram R2 will not include the static route in its upd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: Classful routing protocol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o not support CID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outes that are summarized with a smaller mask than the classful subnet m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89480" y="1679400"/>
            <a:ext cx="44481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1200" y="363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3480" y="1292040"/>
            <a:ext cx="7940880" cy="265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RIPv1 &amp; RIPv2 Messag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IPv2 Message format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mi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IPv1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extension is the subnet mask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extension is the addition of next ho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95360" y="3475080"/>
            <a:ext cx="52912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and Verifying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IP on a Cisco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run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9200" y="353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35280" y="1538280"/>
            <a:ext cx="5278680" cy="4616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2160" y="1456920"/>
            <a:ext cx="4056120" cy="526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v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Cisco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quires using 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ers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IPv2 ignores RIPv1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erify RIPv2 is configured us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how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40" y="398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743120"/>
            <a:ext cx="3681360" cy="4719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Summary &amp;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2 will automatically summarize routes at major network boundari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also summarize routes with a subnet mask that is smaller than the classful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16240" y="1033560"/>
            <a:ext cx="4154760" cy="2506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083120" y="3787920"/>
            <a:ext cx="4751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47320" y="1724040"/>
            <a:ext cx="35830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Auto-Summary in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able automatic summarization issue th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o auto-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63960" y="1133640"/>
            <a:ext cx="4510080" cy="5533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63520" y="297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604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760" y="1633320"/>
            <a:ext cx="868032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RIPv2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RIPv2 with automatic summarization turned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net and mask has its own specific entry, alo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exit interface and next-hop address to reach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erify information being sent by RIPv2 us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ebug ip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 and describe the limitations of RIPv1’s lim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basic Routing Information Protocol Version 2 (RIPv2) configuration commands and evaluate RIPv2 classless routing up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router output to see RIPv2 support for VLSM and CI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IPv2 verification commands and common RIPv2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, verify, and troubleshoot RIPv2 in “hands-on”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0280" y="307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 &amp; CID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2520" y="1780920"/>
            <a:ext cx="4086360" cy="473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2 and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using a VLSM IP addressing sch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assles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2)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subn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94320" y="1057320"/>
            <a:ext cx="3759120" cy="197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6480" y="3059280"/>
            <a:ext cx="4298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 &amp; CID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uses Super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etting is a bunch of contiguous class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that is addressed as a si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 &amp; CID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200" y="1625400"/>
            <a:ext cx="31942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ern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eing sent and received use the following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ow ip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bug ip 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7000" y="1420920"/>
            <a:ext cx="522900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ying &amp; Troubleshoot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211400"/>
            <a:ext cx="7940880" cy="5378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Troubleshoo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eck the status of all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eck c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eck IP address &amp; subnet mask config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move any unneeded configuration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used to verify proper operation of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interfaces 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ip 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ying &amp; Troubleshoot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609200"/>
            <a:ext cx="8077320" cy="450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RIPv2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rouble shooting RIPv2 examine the following issu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o make sure you are using versio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statements may be incorrectly typ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ummarized routes are not needed then dis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5120" y="388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ying &amp; Troubleshoot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760" y="1410840"/>
            <a:ext cx="8329680" cy="479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why it’s good to authenticate routing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vent the possibility of accepting invalid rou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tents of routing updates are 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routing protocols that can use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IP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-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176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4160" y="2036880"/>
          <a:ext cx="8781840" cy="3956040"/>
        </p:xfrm>
        <a:graphic>
          <a:graphicData uri="http://schemas.openxmlformats.org/drawingml/2006/table">
            <a:tbl>
              <a:tblPr/>
              <a:tblGrid>
                <a:gridCol w="922320"/>
                <a:gridCol w="906480"/>
                <a:gridCol w="1058760"/>
                <a:gridCol w="841320"/>
                <a:gridCol w="843120"/>
                <a:gridCol w="725400"/>
                <a:gridCol w="976320"/>
                <a:gridCol w="812880"/>
                <a:gridCol w="915840"/>
                <a:gridCol w="779400"/>
              </a:tblGrid>
              <a:tr h="2116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t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c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l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t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d-Dow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 Horizon 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 Horizon w/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son Rever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 cou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D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S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s Authen-tic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v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5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53960"/>
            <a:ext cx="7940880" cy="5205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26800" indent="-22680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fference between RIPv1 &amp; RIP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classful distance vector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upport discontiguous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upport VL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end subnet mask in rout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updates are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classless distance vector routing protocol that is 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 of RIPv1’s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xt hop address is included i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updates are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use of authentication is an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ies between RIPv1 &amp;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Use of timers to prevent routing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Use of split horizon or split horizon with pois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Use of triggered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Maximum hop count of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096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60640" y="2881440"/>
            <a:ext cx="5156280" cy="3617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5440" y="1333440"/>
            <a:ext cx="4640400" cy="5245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router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is discontig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exists a static summary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route information can be injected into routing table updates using re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1 &amp; 3 contain VLS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7760" y="364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4840" y="1244160"/>
            <a:ext cx="3716280" cy="561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enario Contin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ecall this is sub netting the sub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 IP addresses are on LAN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IP addresses are used on WAN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back interfa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se are virtual interfaces that can be pinged and added to routing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89240" y="1204920"/>
            <a:ext cx="4881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501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virtual interface that does not need to b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d or configu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affic sent to a null interface is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ull interfaces do not send or receive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es and null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interfaces will serve as the exit interface for static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onfiguring a static supernet route with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)#ip route 192.168.0.0 255.255.0.0 Nul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120" y="302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0875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 re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distribution command is way to disseminat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oute from one router to another via a rou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(config-router)#redistribute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440" y="3871800"/>
            <a:ext cx="3956040" cy="2638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60840" y="3846600"/>
            <a:ext cx="3967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and Testing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interfaces 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5:47Z</dcterms:modified>
  <cp:revision>322</cp:revision>
  <dc:subject/>
  <dc:title>RIP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