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B75A02D-80D3-493E-8185-BE194142CC6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7C23826-F164-4FF9-852E-D2CE0EC8329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IGR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504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143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’s 5 Pack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iscover &amp; form adjacencies with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51200" y="2637000"/>
            <a:ext cx="562752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6560" y="1733400"/>
            <a:ext cx="4121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propag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acknowledge receipt of update, query &amp; repl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00680" y="2117880"/>
            <a:ext cx="5143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4320" y="1561680"/>
            <a:ext cx="4079880" cy="479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&amp; Repl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DUAL for searching f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n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pa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72120" y="3075120"/>
            <a:ext cx="42955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2600" y="1071360"/>
            <a:ext cx="8001000" cy="56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Hello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cover &amp; establish adjacencies with neighbo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hell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nterval for sending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etworks it is every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5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int non broadcast multi-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every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40160" y="3438360"/>
            <a:ext cx="3703680" cy="3127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7760" y="3807000"/>
            <a:ext cx="45133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l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maximum time router should wait before declaring a neighbor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hol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3 times hello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440" y="341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7880" y="1236600"/>
            <a:ext cx="7940880" cy="438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Bound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only sends update when there 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chang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artial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al update includes only the route information that has changed – the whole routing table is NOT 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ounde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oute changes, only those devices that are impacted will be notified of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’s use of partial bounded updates minimizes use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01920" y="5060880"/>
            <a:ext cx="445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using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thm (D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’s primary method for preventing routing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of using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fast convergence time by keeping a list of loop-free backup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06840" y="3990960"/>
            <a:ext cx="41990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38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istance (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as the trustworthiness of the sourc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default administrativ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routes 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routes     =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ed routes   = 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16560" y="3181320"/>
            <a:ext cx="3911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92480" y="3300480"/>
            <a:ext cx="4529160" cy="304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1670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used is the same as previous chapters with the addition of an ISP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25640" y="3137040"/>
            <a:ext cx="535464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2080" y="544320"/>
            <a:ext cx="4081320" cy="758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2040" y="1781280"/>
            <a:ext cx="3935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will automatically summarize routes at classfu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05480" y="353880"/>
            <a:ext cx="4178160" cy="249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9160" y="3313080"/>
            <a:ext cx="3716280" cy="2600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16440" y="2782800"/>
            <a:ext cx="2289240" cy="214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448320" y="2854440"/>
            <a:ext cx="269568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613320" y="495288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ckground and history of Enhanced Interior Gateway Routing Protocol (EIG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basic EIGRP configuration commands and identify their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mposite metric used by EIG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cepts and operation of 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s of additional configuration commands in EIG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672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4680" y="12524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 System (AS) &amp; Process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ollection of networks under the control of a single authority (reference RFC 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Numbers are assigned by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 needing A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Backbone pro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 connecting to other institutions using A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63920" y="4370400"/>
            <a:ext cx="37195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6200" y="329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8600" y="1212840"/>
            <a:ext cx="4303800" cy="4587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autonomous system number actually functions as a process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D represents an instance of the routing protocol running on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route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autonomous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89440" y="2238480"/>
            <a:ext cx="4354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606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eig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bal command that enables eigrp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eigrp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autonomous-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 routers in the EIGRP routing domain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must use the same process ID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-system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4200" y="4006800"/>
            <a:ext cx="4683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7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7280" y="1368360"/>
            <a:ext cx="6415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of the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interfaces to transmit &amp; receive EIGR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network or subnet in EIGR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4760" y="3363840"/>
            <a:ext cx="40701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200" y="3524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5320" y="1262160"/>
            <a:ext cx="8513640" cy="25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Command with a Wildcar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option is used when you want to configure EIGRP to advertise specific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network network-address [wildcard-mask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50920" y="3613320"/>
            <a:ext cx="72468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4520" y="3963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1000" y="1327320"/>
            <a:ext cx="7940520" cy="436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routers must establish adjacencies with their neighbors before any updates can be sent or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view neighbor table and verify that EIGRP has established adjacencies with neighbor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show ip eigrp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74720" y="4068720"/>
            <a:ext cx="6099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649440"/>
            <a:ext cx="464976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4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9520" y="1987200"/>
            <a:ext cx="4262400" cy="244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als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sed to 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EIGRP is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48160" y="1260360"/>
            <a:ext cx="41846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368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160" y="1501560"/>
            <a:ext cx="363204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is also used to verify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routes are denoted in a routing table by the letter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 , EIGRP automatically summarizes routes at major network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94120" y="1535040"/>
            <a:ext cx="49752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9120" y="351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1560" y="1191960"/>
            <a:ext cx="8529480" cy="438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0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s not a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uting table summary routes are sourced from Nul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 routes are used for advertisement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will automatically include a null0 summary route as child rout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hen 2 condition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subnet is learned via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mmarization i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87640" y="4357800"/>
            <a:ext cx="47908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160" y="1689120"/>
            <a:ext cx="3814920" cy="4587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’s routing table shows that the 172.16.0.0/16 network is automatically summarized by R1 &amp;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0160" y="1714680"/>
            <a:ext cx="44481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4800" y="549360"/>
            <a:ext cx="8145360" cy="62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7480" y="1406520"/>
            <a:ext cx="7505640" cy="2239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87480" y="3919680"/>
            <a:ext cx="7326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440" y="1185840"/>
            <a:ext cx="7553160" cy="497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Composite Metric &amp; the 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uses the following values in its composit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, delay, reliability, and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site metric used by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used  has values K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 &amp; K3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K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67040" y="4170240"/>
            <a:ext cx="55404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5840" y="1562040"/>
            <a:ext cx="7940520" cy="92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verify the 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4560" y="2378160"/>
            <a:ext cx="46069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2240" y="301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1040" y="1272960"/>
            <a:ext cx="3632400" cy="51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view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IGRP uses a static bandwidth to calculat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erial interfaces use a default bandwidth value of 1.544Mbos (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363920" y="1474920"/>
            <a:ext cx="425772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2480" y="1469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fined as the measure of time it takes for a packet to traverse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is a static value based on link type to which interface is 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57760" y="3298680"/>
            <a:ext cx="34416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6920" y="430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6360" y="1439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default EIGRP me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measure of the likelihood that a link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easure dynamically &amp; expressed as a fraction of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r the fraction the better the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default EIGRP me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that reflects how much traffic is using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is determined dynamically and is expressed as a fraction of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r the fraction the less the load on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25960" y="4938840"/>
            <a:ext cx="33717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73040" y="334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2480" y="1382760"/>
            <a:ext cx="7940520" cy="513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andwidth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interfac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the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bandwid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ilo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show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– bandwidth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 not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’s 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22880" y="3241800"/>
            <a:ext cx="3616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9200" y="356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98600"/>
            <a:ext cx="7940880" cy="148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IGRP metric can be determined by examin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98440" y="2655720"/>
            <a:ext cx="6724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3680" y="1781280"/>
            <a:ext cx="8589960" cy="442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uses the lowest bandwidth (BW)in its metric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BW = reference BW / lowest BW(k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– EIGRP uses the cumulative sum of all outgo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Delay = the sum of outgoing interfac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 = calculated BW + calculat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2240" y="1521000"/>
            <a:ext cx="4332240" cy="207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1680" y="1467000"/>
            <a:ext cx="4176720" cy="2341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49600" y="4308480"/>
            <a:ext cx="523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thm (DUAL) is used to prevent lo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17720" y="3332160"/>
            <a:ext cx="71863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1760400"/>
            <a:ext cx="5481720" cy="450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of EIGRP: 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veloped in 1985 to overcome RIPv1’s limited 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etrics used by 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used by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(used by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continued support starting with IOS 12.2(13)T &amp; 12.2(R1s4)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5120" y="2751120"/>
            <a:ext cx="3403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5120" y="301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0000" y="1395000"/>
            <a:ext cx="3389040" cy="50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best least cos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 destination found in the rou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lowest calculated metr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ong a path to a destination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36880" y="1668600"/>
            <a:ext cx="4803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7040" y="522000"/>
            <a:ext cx="8145720" cy="646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2440" y="1433520"/>
            <a:ext cx="82692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s, Feasibility Condition &amp; 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25840" y="2305080"/>
            <a:ext cx="5100480" cy="4113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31920" y="2419200"/>
            <a:ext cx="274464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is is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a loop free backup ro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a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 as successor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555120"/>
            <a:ext cx="8145720" cy="628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8840" y="2192400"/>
            <a:ext cx="31860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distance (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metric that a router reports to a neighbor about its own cost to that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05080" y="2657520"/>
            <a:ext cx="5438880" cy="3857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52440" y="1433520"/>
            <a:ext cx="82692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s, Feasibility Condition &amp; 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1520" y="1801440"/>
            <a:ext cx="2759040" cy="41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 Condition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 when a neighbor’s R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s 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ocal router’s FD to the same destin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395520" y="1882800"/>
            <a:ext cx="519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2120" y="539280"/>
            <a:ext cx="8145720" cy="59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1440" y="1476000"/>
            <a:ext cx="4230720" cy="499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Table:  Successor &amp; 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Topolog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d us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show ip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eigrp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tabl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ccessor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easible success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22680" y="1932120"/>
            <a:ext cx="4621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4040" y="507600"/>
            <a:ext cx="8145360" cy="66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63760"/>
            <a:ext cx="2168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RP Topology Table diss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24280" y="3132000"/>
            <a:ext cx="6219720" cy="372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94000" y="1351080"/>
            <a:ext cx="52419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8760" y="1276200"/>
            <a:ext cx="3613320" cy="515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Table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asible successor may not be present because the feasibility condition may not be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 other words, the reported distance of the neighbor is greater than or equal to the current  feasible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782880" y="1027080"/>
            <a:ext cx="518796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2880" y="17143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ate Machine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n abstract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defines a set of possible states something  can go through, what event causes those states and what events result form thos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FSMs are used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how a device, computer program, or routing algorithm will react to a set of inpu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74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7400" y="1592280"/>
            <a:ext cx="3652920" cy="452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 F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a best loop-free path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alternate routes by using information in EIGR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87880" y="1816200"/>
            <a:ext cx="43336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612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433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amine output from EIGRP’s finite state machine us 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debug eigrp f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27120" y="2965320"/>
            <a:ext cx="61102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680" y="328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6360" y="1359000"/>
            <a:ext cx="8305920" cy="299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ssa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 frame header - contains source and 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packet header - contains source &amp;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packet header - contains A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/Length/Field - data portion of EIGRP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7520" y="4761000"/>
            <a:ext cx="8456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25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y 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IGRP uses the Null0 interface to discard any packets that match the parent route but do not match any of the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automatically includes a null0 summary route as a child route whenever both of the following condi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r subnets exists that was learned via EIG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 is enab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30360" y="234936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19120" y="1627200"/>
            <a:ext cx="7940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54040" y="537840"/>
            <a:ext cx="8145360" cy="655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324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permits EIGRP to automatically summarize at major network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no 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used to disable 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uses all EIGRP neighbors to send updates that will not be automatically summa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ill cause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ppear in bo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ing t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olog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0680" y="622080"/>
            <a:ext cx="8145360" cy="655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summarization can include sup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EIGRP is a classless routing protocol &amp; include subnet mask i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configure manual summa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ip summary-address eigrp  as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-address subnet-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6120" y="343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6160" y="12542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a summary route in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74760" y="1952640"/>
            <a:ext cx="69548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17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Default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 zero” static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be used with any currently supported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 usually configured on a router that is connected a network outside the EIGRP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&amp; the “Quad zero” static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use of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redistribute 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disseminate default route in EIGR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5200" y="4017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5560" y="1507680"/>
            <a:ext cx="7940880" cy="434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Tuning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bandwidth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y default, EIGRP uses only up to 50% of interface bandwidth for EIGRP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hange the percentage of bandwidth used by EIGRP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bandwidth-percent eigrp as-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number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92200" y="4471920"/>
            <a:ext cx="4762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74840" y="378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2760" y="1150560"/>
            <a:ext cx="848844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Hello Intervals and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lo intervals and hold times are configurable on a per-interfac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onfigure hello interv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hello-interval eigrp as-number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hello interval also requires changing the hold time to a value greater than or equal to the hello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onfigure hold time valu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hold-time eigrp as-number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25600" y="4667400"/>
            <a:ext cx="41371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404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5080" y="10857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is a derivative of 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is a Cisco proprietary distance vector routing protocol released i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terms and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PR uses RTP to transmit &amp; receive EIGR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has 5 packet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VLSM &amp; C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terms and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uses a hello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 of hello protocol is to discover &amp; establish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routing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eriod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al and bou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conver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480" y="501120"/>
            <a:ext cx="3552840" cy="67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" y="2207880"/>
            <a:ext cx="4675320" cy="404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packet 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cod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onomous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ste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37240" y="1557360"/>
            <a:ext cx="422424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55960" y="4324320"/>
            <a:ext cx="5838840" cy="2162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47720" y="1357200"/>
            <a:ext cx="4394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ommands are used for EIGR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rA(config)#router eigrp [autonomous-system #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rA(config-router)#networ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work-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ommands can be used to verify EIG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eigrp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metric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and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5200" y="344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5560" y="1155600"/>
            <a:ext cx="7940880" cy="5362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vent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oute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route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calculated metric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towards a destination as advertised by an up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5200" y="321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8840" y="1111320"/>
            <a:ext cx="7977240" cy="537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ing the bes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outer has received all updates from directly connected neighbors, it can calculate its 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ric is calculated for each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 with lowest metric is designated successor &amp; is plac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asible successor is f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feasible successor: it must have lower reported distance to the destination than the installed route’s 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routes are maintained in topolog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s routes on classfu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ation can be disabled using the following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rA(config-if)#no auto-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8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8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8920" y="358920"/>
            <a:ext cx="339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2563920"/>
            <a:ext cx="4141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V: IP 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sk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V: IP ex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s used when ex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are imported 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91240" y="1336680"/>
            <a:ext cx="4173480" cy="25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92520" y="3940200"/>
            <a:ext cx="4386240" cy="2449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3040" y="1725480"/>
            <a:ext cx="4110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8760" y="1476360"/>
            <a:ext cx="4303800" cy="436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Dependent Mod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uses PDM to route several different protocols i.e. IP, IPX &amp; Apple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DMs are responsible for the specific routing task for each network layer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54560" y="1936800"/>
            <a:ext cx="44514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3693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72960"/>
            <a:ext cx="5421240" cy="531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le Transport Protocol (R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EIGRP to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ransmit and receive EIGR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 of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s both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eliable &amp; unreliable deli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IGRP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delivery requires acknowledgment from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liable delivery does not require an acknowledgement from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can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Un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ddress 224.0.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03840" y="1947960"/>
            <a:ext cx="31957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27:45Z</dcterms:modified>
  <cp:revision>365</cp:revision>
  <dc:subject/>
  <dc:title>EIGR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