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736EB1D-FCB9-4D43-9373-67F293DE1DA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938924A-3DB1-4F5B-9251-0D1A4B05B40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LSM and CID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5040" y="366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1779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call tha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ful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RIPv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o not send subnet m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ir routing upd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is that the Subnet mask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related to the 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8320" y="3341520"/>
            <a:ext cx="650736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2920" y="1528920"/>
            <a:ext cx="8596440" cy="50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-domain Routing (CIDR – RFC 1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13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CIDR 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efficient use of IPv4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ubnet mask to be included in routing updat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ddress class is meaning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purpose of a subnet m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etermine the network and host po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440" y="3430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7320" y="1257120"/>
            <a:ext cx="7467480" cy="532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&amp;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riable Length Subnet Masking (VL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ows a subnet to be further sub-net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individu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fix Aggregation a.k.a.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DR allows for routes to be summarized 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1960" y="4645080"/>
            <a:ext cx="3468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55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classless routing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ing updates include th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36920" y="4118040"/>
            <a:ext cx="45320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300400"/>
          <a:ext cx="7912080" cy="4120920"/>
        </p:xfrm>
        <a:graphic>
          <a:graphicData uri="http://schemas.openxmlformats.org/drawingml/2006/table">
            <a:tbl>
              <a:tblPr/>
              <a:tblGrid>
                <a:gridCol w="1579320"/>
                <a:gridCol w="1930320"/>
                <a:gridCol w="1622520"/>
                <a:gridCol w="2779920"/>
              </a:tblGrid>
              <a:tr h="221580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ou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to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outing upd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clude subn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uppor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L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s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upernet routes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ass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ass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55560" y="1552680"/>
            <a:ext cx="7940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8280" y="321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5000" y="1144080"/>
            <a:ext cx="4257720" cy="560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ly allows for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 for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SM &amp; classless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is the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than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 can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use of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s compa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lassful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81560" y="1668600"/>
            <a:ext cx="4581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1120" y="425160"/>
            <a:ext cx="8145720" cy="74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960" y="1225440"/>
            <a:ext cx="3913200" cy="557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process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b-netting a sub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t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10.1.0.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8    more bits are borrowed again, to create 256 subnets with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sk allows for 254 host addresses per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s range from:  10.1.0.0 / 24 to 10.1.255.0 /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99000" y="1481040"/>
            <a:ext cx="4224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76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less Inter-Domain Routing (CIDR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653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summarization done by C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s are summarized with masks that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e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of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fault classfu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.16.0.0 /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mmariz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172.16.0.0 /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.23.0.0 /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fu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16120" y="4264200"/>
            <a:ext cx="6191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less Inter-Domain Routing (CIDR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8000" y="1658520"/>
            <a:ext cx="4365720" cy="47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calculate a rout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st networks in b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 number of le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atching bi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um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’s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py the matc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and add zero b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8880" y="2479680"/>
            <a:ext cx="4440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" y="388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760" y="1221840"/>
            <a:ext cx="8888400" cy="563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4 addresses have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portion found on left side of an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st portion found on right side of an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, B, &amp; C addresses were designed to provide IP addresses for different size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an IP address is determined by the decimal value found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running out so the use of Classless Inter      Domain Routing (CIDR) and Variable Length Subnet Mask (VLSM) are used to try and conserv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nd contrast classful and classless IP addr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VLSM and explain the benefits of classless IP addr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Classless Inter-Domain Routing (CIDR) standard in making efficient use of scarce IPv4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0520" y="387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6480" y="1274760"/>
            <a:ext cx="7980480" cy="502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are not sent 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of 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reate additional net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using a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fits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508040"/>
            <a:ext cx="7940880" cy="501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P addresses more efficiently through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is the proces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summarizat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multiple contig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with a singl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are included i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130040"/>
            <a:ext cx="7940880" cy="527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1981, IP addresses used only the first 8 bits to specify the network portion of th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1, RFC 791 modified the IPv4 32-bit address to allow for three differe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space was deplet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Engineering Task Force (IETF) introduced Classless Inter-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uses Variable Length Subnet Masking (VLSM) to help conserve addres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is simply 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6120" y="317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8720" y="1257480"/>
            <a:ext cx="7940880" cy="304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January 2007, there are over 433 million hosts o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to conserve IPv4 address sp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&amp; CIDR notation (1993, RFC 15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Address Translation (1994, RFC 16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Addressing (1996, RFC 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57640" y="4125960"/>
            <a:ext cx="27748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 Ord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leftmost bits in a 32 bi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13338" r="0" b="24536"/>
          <a:stretch/>
        </p:blipFill>
        <p:spPr>
          <a:xfrm>
            <a:off x="304920" y="3629160"/>
            <a:ext cx="883908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200" y="4938840"/>
            <a:ext cx="86108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21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374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IP addresses are identified by the decimal number of the 1st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 begin with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A addresses = 0.0.0.0 to 127.255.255.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 begin with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 and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B addresses = 128.0.0.0 to 191.255.255.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es begin with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wo 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s &amp;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C addresses = 192.0.0.0 to 223.255.255.25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30280" y="4500720"/>
            <a:ext cx="6270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504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6920" y="1431720"/>
            <a:ext cx="85424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v4 Classful Addressing Structure (RFC 7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has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de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080" y="1938240"/>
            <a:ext cx="7529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d to determine the network portion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4:03Z</dcterms:modified>
  <cp:revision>327</cp:revision>
  <dc:subject/>
  <dc:title>VLSM and CID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