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CA13058B-1269-40B2-9288-B5744FF1C3BB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9DEBD66-04BB-4572-8FE7-170009822F47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Routing Table: A Closer Loo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5080" y="1566360"/>
            <a:ext cx="3251160" cy="4954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and Chil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ent rou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level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o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ent rou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b21a1a"/>
                </a:solidFill>
                <a:latin typeface="Arial"/>
              </a:rPr>
              <a:t>does not contai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y next-hop IP addres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it interface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295200" y="343080"/>
            <a:ext cx="88012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666960" y="1720800"/>
            <a:ext cx="493884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7040" y="341280"/>
            <a:ext cx="880128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55480" y="1431720"/>
            <a:ext cx="4050000" cy="520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utomatic creation of parent rou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Occurs any time a subnet is added to the routing ta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437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ild rou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Child routes are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level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ou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Child routes are 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ubnet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f a classful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twork addr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89640" y="2068560"/>
            <a:ext cx="434484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7200" y="2916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55200" y="1333440"/>
            <a:ext cx="7883640" cy="5129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437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vel 2 child routes contain route source &amp; the network address of the rou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437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vel 2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child rout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b21a1a"/>
                </a:solidFill>
                <a:latin typeface="Arial"/>
              </a:rPr>
              <a:t>ar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lso considered </a:t>
            </a:r>
            <a:r>
              <a:rPr b="1" lang="en-US" sz="2300" spc="-1" strike="noStrike">
                <a:solidFill>
                  <a:srgbClr val="0000ff"/>
                </a:solidFill>
                <a:latin typeface="Arial"/>
              </a:rPr>
              <a:t>ultimate rou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Reason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they contain the next hop addres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&amp;/or exit interfa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03520" y="3768840"/>
            <a:ext cx="54975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5560" y="16192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child routes have the same subne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is means the parent route maintains the /24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08040" y="2846520"/>
            <a:ext cx="5697720" cy="37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5560" y="159048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ram illustrates 2 child networks belonging to the parent route 172.16.0.0 /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06400" y="2647800"/>
            <a:ext cx="5670720" cy="38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7920" y="1563480"/>
            <a:ext cx="794052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lassless networks, child routes do not have to share the same subnet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82960" y="2536920"/>
            <a:ext cx="546876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290520"/>
            <a:ext cx="88009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52440" y="2354400"/>
          <a:ext cx="8497800" cy="3220920"/>
        </p:xfrm>
        <a:graphic>
          <a:graphicData uri="http://schemas.openxmlformats.org/drawingml/2006/table">
            <a:tbl>
              <a:tblPr/>
              <a:tblGrid>
                <a:gridCol w="1252440"/>
                <a:gridCol w="1960560"/>
                <a:gridCol w="2044800"/>
                <a:gridCol w="1646280"/>
                <a:gridCol w="1593720"/>
              </a:tblGrid>
              <a:tr h="183636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ent route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ful mask 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play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m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variably subnetted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 seen in parent route in routing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ludes the # of different masks of child ro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net mask included with each child route 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-l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080" rIns="82080" tIns="41040" bIns="410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080" marR="82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65120" y="1165320"/>
            <a:ext cx="7940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&amp; Child Routes: Classles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2720" y="407520"/>
            <a:ext cx="88009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12880" y="2317680"/>
            <a:ext cx="6805440" cy="39290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84120" y="1509840"/>
            <a:ext cx="79408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 &amp; Child Routes: Classles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6200" y="450360"/>
            <a:ext cx="8145720" cy="701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06280"/>
            <a:ext cx="8555040" cy="5932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95360" indent="-49536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oute Look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ine level 1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6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best match a level 1 ultimate route and is not a parent route this route is used to forward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 examines level 2 (child)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6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there is a match with level 2 child route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7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subnet is used to forward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6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no match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6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routing behavior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27320" indent="-41292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 determines classful or classless routing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6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classful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7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is dr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6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classless then router searches level one supernet and default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6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there exists a level 1 supernet or default ro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 then Packet is forwarded.  If not packet is dr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4760" y="3715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400" y="1469880"/>
            <a:ext cx="88772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est Match: Level 1 Network Ro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st match is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so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wn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 the longest mat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est mat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one that has the 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Arial"/>
              </a:rPr>
              <a:t>most number of left most b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atching between the destination IP address and the route in the routing t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43040" y="3586320"/>
            <a:ext cx="7591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various route types found in the routing table struc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uting table lookup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routing behavior in routed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760" y="312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34520" y="1226880"/>
            <a:ext cx="3837240" cy="5226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ing the subnet mask used to determine the longest m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nar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1 pings 192.168.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examines level 1 route for best 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exist a match between192.168.1.2 &amp; 192.168.1.0 / 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forwards packets out s0/0/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089240" y="1668600"/>
            <a:ext cx="483732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61960" y="32652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5200" y="1206000"/>
            <a:ext cx="8077320" cy="530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1st there must be a match made between 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t route &amp; destination 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If a match is made then an attempt at finding a match between the destination IP and the child route is mad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44720" y="3556080"/>
            <a:ext cx="68338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1608120"/>
            <a:ext cx="85964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match between packet’s destination IP address and the next route in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figure shows a match between the destination IP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2.168.1.0 and the level one IP of 192.168.1.0 / 24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packet forwarded out s0/0/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09680" y="3936960"/>
            <a:ext cx="624204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7680" y="457200"/>
            <a:ext cx="855360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8840" y="144612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437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vel 1 Parent &amp; Level 2 Child Rou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437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fore level 2 child routes are examin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There must be a match between classful level one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ent route and destination IP addres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247840" y="3273480"/>
            <a:ext cx="4254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11280" y="534600"/>
            <a:ext cx="8145360" cy="593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2840" y="1101600"/>
            <a:ext cx="84661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the match with parent route has been made Level 2 child routes will be examined for a m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oute lookup process searches for chil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s with a match with destination I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14480" y="2830680"/>
            <a:ext cx="701208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3360" y="615960"/>
            <a:ext cx="8145360" cy="557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7840" y="1314360"/>
            <a:ext cx="8582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 router finds a match with one of the level 2 chil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irst router examines parent routes for a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a match exists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8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routes are exam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8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 route chosen is the one with 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ngest m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794040" y="3984480"/>
            <a:ext cx="472932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200" y="574200"/>
            <a:ext cx="8145720" cy="621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Lookup Proces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7680" y="1469520"/>
            <a:ext cx="4262400" cy="505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Route Lookup Process with VL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The use of VLSM does not change the lookup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If there is a match between destination IP address and the level 1 parent route t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Level 2 child routes will be search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513320" y="1400040"/>
            <a:ext cx="437184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3297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0160" y="1247400"/>
            <a:ext cx="7940520" cy="2097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ful &amp; classless </a:t>
            </a:r>
            <a:r>
              <a:rPr b="1" lang="en-US" sz="2200" spc="-1" strike="noStrike">
                <a:solidFill>
                  <a:srgbClr val="b21a1a"/>
                </a:solidFill>
                <a:latin typeface="Arial"/>
              </a:rPr>
              <a:t>routing protoc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luence how routing table i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opul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ful &amp; classless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routing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s how routing table i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arch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fter it 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ll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74880" y="3295800"/>
            <a:ext cx="58150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485640"/>
            <a:ext cx="8145720" cy="657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4160" y="1139400"/>
            <a:ext cx="3524040" cy="545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ful Routing Behavior:  no ip classl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happens if there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is not a mat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ith any level 2 child routes of the parent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er must determine if the routing behavior is classless or class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router is utilizing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classful routing behavi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4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ookup process 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ed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packet is dr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863880" y="1801800"/>
            <a:ext cx="528012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65200" y="493200"/>
            <a:ext cx="8145360" cy="621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7400" y="13334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ful Routing Behavior – Search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xample of when classful routing behavior is in effect and why the router drops the Pac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destination’s subnet mask is a /24 and none of the child routes left most bits match the first 24 bits.  This means packet is dr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54200" y="3668760"/>
            <a:ext cx="586404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Fo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ructure of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ookup process of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lassless and classful routing behavi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1200" y="493560"/>
            <a:ext cx="8145720" cy="720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330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6000"/>
          </a:bodyPr>
          <a:p>
            <a:pPr marL="226800" indent="-2268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ful Routing Behavior – Search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-2268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son why the router will not search beyond the chil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044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lly networks were all cla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044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ant an organization could subnet a major network address and “enlighten” all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’s routers about the sub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044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f the subnet was not in the routing table, the subnet did not exist and packet was dro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1360" y="3985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endParaRPr b="1" lang="en-US" sz="36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Class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eginning with IOS 11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p classless was configured by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lassless routing 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ks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iscontiguous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IDR supe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6120" y="4032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6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endParaRPr b="1" lang="en-US" sz="36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6000" y="1399680"/>
            <a:ext cx="8464680" cy="5457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Routing Behavior: ip class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lookup process when ip classless is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less routing 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ffect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arch level 1 ro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ernet routes Checked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a match exists then forward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 routes Checked seco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re is no match or no defaul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the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ket is drop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376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36480" y="141300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less Routing Behavior – Search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 begins search process by finding a match between destination IP and parent ro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finding the above mentioned match, th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is a search of the child ro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166760" y="3463920"/>
            <a:ext cx="680724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46120" y="558720"/>
            <a:ext cx="8145360" cy="60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8840" y="136512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less Routing Behavior – Search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no match is found in child rout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previous slide th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 continues to search the routing table for 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ch that may have fewer bits in the m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84280" y="3678120"/>
            <a:ext cx="3628800" cy="2919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86320" y="3541680"/>
            <a:ext cx="4265640" cy="12700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4533840" y="4940280"/>
            <a:ext cx="42354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Behavio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f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v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l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Routing 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t is recommended to use classless rou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son: so supernet and default routes 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be used whenever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609200"/>
            <a:ext cx="7940880" cy="4697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/structure of a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table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rectly connect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tatic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ynamic routing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tables are hierarch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evel 1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subnet mask that is less than or equal 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ful subnet mask for the network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evel 2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re subnets of a network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3096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6360" y="1122120"/>
            <a:ext cx="8907480" cy="591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table look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12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gins with examining level 1 ro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best match with packet’s destination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best match = an ultimate route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acket is forwarded  -Els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arent route is exam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rent route &amp; destination IP match then Level 2 (child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s are exam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2 route ex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match between destination IP and child route found th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forwarded -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7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outer is using classful routing behavior th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is dropped -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6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outer is using classless routing behavior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6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search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 supernet &amp; default ro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6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match is found then Packet if forwarded -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6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 is dro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55560" y="1626840"/>
            <a:ext cx="7940880" cy="4467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uting behavi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This refers to how a routing table is search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ful routing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Indicated by the use of the no ip classless com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outer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will not loo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yond child routes for a lesse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9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assless routing behavi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Indicated by the use of the ip classless com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400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Router will look beyond child routes for a lesser m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95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96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567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97240" y="4118040"/>
            <a:ext cx="5209920" cy="273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7800" y="13525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router se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1 and R2 share a common 172.16.0.0/16 network with 172.16.0.0/24 sub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2 and R3 are connected by the 192.168.1.0/24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3 also has a 172.16.4.0/24 subnet, which is disconnected, or discontiguous, from the 172.16.0.0 network that R1 and R2 sh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560" y="154620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table entries come from the following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irectly connected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tatic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ynamic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851120" y="3565440"/>
            <a:ext cx="522288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297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0640" y="150156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oon as the no shutdown command is issued the route is added to routing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81280" y="2816280"/>
            <a:ext cx="531180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1781280"/>
            <a:ext cx="344160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 IP routing table is a hierarchic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reason for this is to speed up look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836880" y="1709640"/>
            <a:ext cx="489924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4840" y="3142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605040" y="3800520"/>
            <a:ext cx="5140440" cy="2104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314000"/>
            <a:ext cx="7669440" cy="5226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Have a subnet mask equal to or less than th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assful mask of the network addr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route can functio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 ro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Supernet rou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Network ro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3319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80680" y="1221840"/>
            <a:ext cx="7940520" cy="2560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65000"/>
              </a:lnSpc>
              <a:spcBef>
                <a:spcPts val="1001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Ultimate Rou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s eith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 next-hop add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50000"/>
              </a:lnSpc>
              <a:spcBef>
                <a:spcPts val="137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An exit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36520" y="3887640"/>
            <a:ext cx="671220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19:36Z</dcterms:modified>
  <cp:revision>330</cp:revision>
  <dc:subject/>
  <dc:title>The Routing Table: A Closer Loo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