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8345C20-4BCA-4ED2-BE2E-319BA34E6982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E6A4928-615C-4BBB-96E2-8B2F769AFB2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nk-State Routing Protoc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41036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2760" y="3240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4400" y="1131840"/>
            <a:ext cx="5121000" cy="5067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Hello Packets to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ed interfaces that are using the same link state routing protocols will exchange hello pac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routers learn it has neighbors they form an adjac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2 adjacent neighbors wil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hange hello packe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These packets will serve as 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ep alive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938920" y="1166760"/>
            <a:ext cx="2503440" cy="262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59520" y="4035600"/>
            <a:ext cx="293184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06840" y="3790800"/>
            <a:ext cx="4129200" cy="2229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79840" y="2668680"/>
            <a:ext cx="4359240" cy="9032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2480" y="1542600"/>
            <a:ext cx="4530600" cy="4660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the Link State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router builds its own Link State Packet (L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of LS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ate of each direct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ed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cludes inform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neighbors such 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 ID, link type, &amp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4954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ding LSPs to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LSP are created they are forwarded out to neighb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fter receiving the LSP the neighbor continues to forward it throughout routing ar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43240" y="3621240"/>
            <a:ext cx="4514760" cy="30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5620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Ps are sent out under the follow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itial router start up or rou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hen there is a change in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90760" y="3479760"/>
            <a:ext cx="552924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2000" y="153360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ng a link state dat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use a database to construct a topology map of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86120" y="2762280"/>
            <a:ext cx="5305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7600" y="36144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800600" y="1368360"/>
            <a:ext cx="3941640" cy="3834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92840" y="5240160"/>
            <a:ext cx="3828960" cy="1330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17600" y="2508120"/>
            <a:ext cx="4071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7840" y="1150560"/>
            <a:ext cx="8332920" cy="4907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st Path First (SPF)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PF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egins by examining R2’s LSP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gn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st L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:  R1 already knows it’s connected to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31840" y="3413160"/>
            <a:ext cx="65199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50800" y="3319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7920" y="1287000"/>
            <a:ext cx="7940520" cy="2219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PF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1 uses 2nd L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:  R1 can create a link from R2 to R5.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nformation is added to R1’s SPF tr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31840" y="3147840"/>
            <a:ext cx="635472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6200" y="3715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342800"/>
            <a:ext cx="7940520" cy="239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PF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1 uses 3rd L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80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: R1 learns that R2 is connected t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.5.0.0/1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80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link is added to R1’s SPF t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68360" y="3424320"/>
            <a:ext cx="63547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60" y="150480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shortest pa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hortest path to a destination determined by adding the costs &amp; finding the lowes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782960" y="2506680"/>
            <a:ext cx="35006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basic features &amp; concepts of link-state routing protoc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benefits and requirements of link-state routing protoc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5560" y="158112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SPF algorithm has determined the shortest path routes, these routes are placed in the routing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814400" y="2422440"/>
            <a:ext cx="650412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60520" y="4572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36480" y="2419200"/>
          <a:ext cx="7940880" cy="3789360"/>
        </p:xfrm>
        <a:graphic>
          <a:graphicData uri="http://schemas.openxmlformats.org/drawingml/2006/table">
            <a:tbl>
              <a:tblPr/>
              <a:tblGrid>
                <a:gridCol w="1255680"/>
                <a:gridCol w="1247760"/>
                <a:gridCol w="1503360"/>
                <a:gridCol w="1436760"/>
                <a:gridCol w="1584360"/>
                <a:gridCol w="912960"/>
              </a:tblGrid>
              <a:tr h="222408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Rou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rotoc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Bui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Topolog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Router can independently determine the shortest path to every network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Converg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A periodic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event driven routing upd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o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L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8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Distance vect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S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Generally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8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Link 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F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Generally 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65120" y="1552680"/>
            <a:ext cx="7940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of a Link-State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5560" y="1590480"/>
            <a:ext cx="7940880" cy="4746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using a link state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link state routing protocols use m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PU processing is required of link st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tartup of link state routing protocols 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 lots of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5840" y="160020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link state routing protocols used for routing 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pen Shortest Path First (OSP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termediate System-Intermediate System (IS-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820880" y="3306600"/>
            <a:ext cx="532764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3000"/>
          </a:bodyPr>
          <a:p>
            <a:pPr marL="219960" indent="-21996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State Routing protocols are also known as Shortest Path First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ing the link stat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Routers 1ST learn of directly connected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Routers then say “hello” to neighb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Routers then build link state pack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Routers then flood LSPs to all neighb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Routers use LSP database to build a network topolog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 &amp; calculate the best path to each dest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7000"/>
          </a:bodyPr>
          <a:p>
            <a:pPr marL="205560" indent="-20556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face on the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bout an interface such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ubnet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ype of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st associated with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eighboring routers on the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State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initial flooding, additional LSP are sent o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change in topology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link state 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pen shortest path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S-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63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64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84240" y="2530440"/>
            <a:ext cx="69390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4954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state 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shortest path first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se protocols built around Dijkstra’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25360" y="3581280"/>
            <a:ext cx="623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5560" y="16574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kjstra’s algorithm also known as the shortest path first (SPF)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63720" y="2876400"/>
            <a:ext cx="49150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5560" y="16286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rtest path to a destination is not necessarily the path with the least number of 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655720" y="2658960"/>
            <a:ext cx="34452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5560" y="1447920"/>
            <a:ext cx="7940880" cy="4875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231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-State Rout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8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routers using Link State Routing Protocols rea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Each routers learns about its own directly connected network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-Link state routers exchange hello packet to “meet” other directl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connected link state router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Each router builds its own Link State Packet (LSP) which includes information about neighbors such as neighbor ID, link type, &amp; bandwidth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-After the LSP is created the router floods it to all neighbors who then store the information and then forward it until all routers have the same inform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Once all the routers have received all the LSPs, the routers then construct a topological map of the network which is used to determine the best routes to a destin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7040" y="456840"/>
            <a:ext cx="8145720" cy="695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0000" y="1720800"/>
            <a:ext cx="43419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 Connecte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n interface on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inform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the state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63960" y="2016000"/>
            <a:ext cx="38862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5526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ing Hello Packets to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state routing protocols use a hello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a hello protoc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o discover neighbors (that use the s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state routing protocol) on its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82800" y="3762360"/>
            <a:ext cx="471816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6T18:29:31Z</dcterms:modified>
  <cp:revision>325</cp:revision>
  <dc:subject/>
  <dc:title>Link-State Routing Protoc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