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8B60FBA-AA15-4DD1-BE5D-F20E29D8B74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BCE0060-6373-4E44-B8E5-C123A2B2D99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ance Vector Routing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67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5440" y="349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600" y="1220760"/>
            <a:ext cx="7969320" cy="540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rs will exchang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received from other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r checks update for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w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 is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w informa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59320" y="4040280"/>
            <a:ext cx="35434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360" y="306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720" y="1141560"/>
            <a:ext cx="8962920" cy="491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of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ach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t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network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ain the sam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continue to exchang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new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u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n 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67040" y="4105440"/>
            <a:ext cx="3881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76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1880" y="14889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vergence must be rea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a network is considered completely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achieving convergence consists of 2 interdependen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ed of broadcasting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ed of calculating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44960" y="3699000"/>
            <a:ext cx="4000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500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Pv1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me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a router se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its entir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2600" y="3365640"/>
            <a:ext cx="6313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3720" y="1514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 uses 4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valid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lddown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lush t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2760" y="2013120"/>
            <a:ext cx="5589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53648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Updates: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RPG routing updat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ial upd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iggered by topology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u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n period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0760" y="3670200"/>
            <a:ext cx="53769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82480" y="1352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ger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ditions in which triggered updates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face chang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become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is plac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5600" y="4006800"/>
            <a:ext cx="5387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343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9600" y="1289160"/>
            <a:ext cx="7804080" cy="482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 where multiple routers on multi access LAN segments transmit routing updates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roblem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blem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of random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RIP_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51480" y="3773520"/>
            <a:ext cx="32796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412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7440" y="1719360"/>
            <a:ext cx="358776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ditio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acket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ous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ro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71960" y="1214280"/>
            <a:ext cx="4591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24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used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low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discard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eate the follow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cess use of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PU resources may be 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convergence is de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may be lost or not processed in a tim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distance vector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network discovery process of distance vector routing protocols using Routing Information Protocol (R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to maintain accurate routing tables used by distance vector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nditions leading to a routing loop and explain the implications for route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distance vector routing protocols are in use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to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routing loop whereby packets bounc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finitely around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81360" y="3244680"/>
            <a:ext cx="56181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8840" y="15098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a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t a specified metric value to indicate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router “counts to infinity” it marks the ro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0160" y="3699000"/>
            <a:ext cx="5380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7040" y="3279600"/>
            <a:ext cx="7545240" cy="3040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3963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4840" y="14335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ng loops with holddow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Holddown ti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 a router to not accept any changes to a route for a specified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Point of using holddow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outing updates to propagate through network with the most current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344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2480" y="12920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d to prevent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should not advertise a network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from which the update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52600" y="3660840"/>
            <a:ext cx="6159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840" y="1512360"/>
            <a:ext cx="4075200" cy="519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ison re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 states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router lear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reachable ro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nterfa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it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chable 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87760" y="1430280"/>
            <a:ext cx="43783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520" y="29952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6080" y="1085400"/>
            <a:ext cx="7940520" cy="541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&amp;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rpose of the TT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TL field is found in an IP header and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d to prevent packets from endless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veling o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 TTL fiel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TL field contains a numer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meric value is decreased by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router on the route to the 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meric value re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Pack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sca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4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06080"/>
            <a:ext cx="7940880" cy="19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used to determine whether to use RIP or EIGRP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atibility between models o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ministrativ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0840" y="3213000"/>
            <a:ext cx="83372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atures of R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plit horizon &amp; split horizon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ison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pabl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ad balan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sy to con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 in a multi vendor rout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marL="208080" indent="-20808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44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atures of EIGR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igger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IGRP hello protocol used to establ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adjac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VLSM &amp;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 of topology table to maintain all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less distance vector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sco proprietar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4920" y="1582560"/>
            <a:ext cx="7940520" cy="481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Distance Vector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routing updates include the entir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 are defined as routers that share a link and are configured to use the sam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discovery process for D.V.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nected routes are placed in routing tabl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outing protocol is configured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will exchang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is reached when all network routers have th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network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6480" y="1582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Information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ior Gateway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GR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7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hanced Interior Gateway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IGR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4760" y="137952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V. routing protocols maintains routing table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sending out periodic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using 4 different timers to  ensure information is accurate and convergence is achieved in a timel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sending out trigger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V. routing protocols may be prone to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loops are a condition in which packets continuously traverse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used to minimize routing loops include defining maximum hop count, holddown timers, split horizon, route poisoning and trigger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368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35240"/>
            <a:ext cx="7940880" cy="520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that can lead to routing loop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discard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routing loops can impact network performance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use of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resources may be 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vergence is de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updates may be lost or not pro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16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Protocol (R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ance vector protocol that has 2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1 – a classful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2  - a classless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Interior Gateway Routing Protocol (EIG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ance vector routing protocols that has some features of link state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sco proprietary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7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7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18760"/>
            <a:ext cx="7940880" cy="446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Vect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aning of Distance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using distance vector routing protocols knows 2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ctor, or dire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hould be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6480" y="12110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routing table is included with routing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85840" y="3505320"/>
            <a:ext cx="4992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82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2274480"/>
            <a:ext cx="6441840" cy="458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42840" y="2287440"/>
            <a:ext cx="7293240" cy="440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2520" y="1127160"/>
            <a:ext cx="82706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Protocol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fined a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rocedure for accomplishing a certain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5840" y="15177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iteria used to compare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ime to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al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source u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mplementation &amp;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5760" y="1630440"/>
            <a:ext cx="7253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482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initial start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ld Sta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itial networ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ed networks are initially placed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9120" y="3637080"/>
            <a:ext cx="77119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9:13Z</dcterms:modified>
  <cp:revision>332</cp:revision>
  <dc:subject/>
  <dc:title>Distance Vector Routing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