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8F9DCBC-4BFB-4861-B559-D01D83A6E7D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8AB1E25-E990-442C-B000-194106716D7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cating over th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ide Area Networks (W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Ns separated by geographic distance are connected by a network known as a Wide Area Network (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7040" y="3000240"/>
            <a:ext cx="7986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is defined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esh of inter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0880" y="2932200"/>
            <a:ext cx="4873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network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68560" y="2154240"/>
            <a:ext cx="62863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protocols and how they are used to facilitate communication ov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tocol is a set of predetermine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13120" y="3078000"/>
            <a:ext cx="5473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network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otoco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low device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51520" y="1243080"/>
            <a:ext cx="33829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1520" y="747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60240"/>
            <a:ext cx="8139240" cy="5397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rotocol suites and industr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ar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or protocol that has been endors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industry and ratified by a standard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03400" y="2008080"/>
            <a:ext cx="66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7160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55844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ifferent protocols and how they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74720" y="2373480"/>
            <a:ext cx="72500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822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Function of Protocol in Network Communic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48068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y diverse types of devices can communicate using the same sets of protocols.  This is because protocols specify network functionality, not the underlying technology to support this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44560" y="3186000"/>
            <a:ext cx="5424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421920"/>
            <a:ext cx="8145360" cy="76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2000" y="113832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benefits of using a layer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s in protoco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s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one layer do not affect other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comm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12880" y="3419640"/>
            <a:ext cx="5762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CP/I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3960" y="2104920"/>
            <a:ext cx="7016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ructure of a network, including the devices and media that are necessary for successful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function of protocols in network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advantages of using a layered model to describe network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each layer in two recognized network models: The TCP/IP model and the OSI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addressing and naming schemes in network commun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mun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9880" y="2163600"/>
            <a:ext cx="8121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tocol data units (PDU) and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5120" y="2147760"/>
            <a:ext cx="4645080" cy="3241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67360" y="3289320"/>
            <a:ext cx="3819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 of sending and receiv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5240" y="2273400"/>
            <a:ext cx="6518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4460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332000"/>
            <a:ext cx="3724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tocol and referen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toco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model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match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a part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u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within 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and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22680" y="1362240"/>
            <a:ext cx="55213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33600" y="1739880"/>
            <a:ext cx="24228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yers with TCP/IP and OSI Mode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SI and TCP/I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55680" y="1860480"/>
            <a:ext cx="50929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labels in encapsulation headers are used to manage communication in data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5040" y="2717640"/>
            <a:ext cx="8116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examples of Ethernet MAC Addresses, IP Addresses, and TCP/UDP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34960" y="2354400"/>
            <a:ext cx="5894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labels in encapsulation headers are used to manage communication in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68560" y="2546280"/>
            <a:ext cx="6564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dressing and Naming Schem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information in the encapsulation header is used to identify the source and destination processes for dat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4440" y="2612880"/>
            <a:ext cx="698184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3680" y="1060200"/>
            <a:ext cx="8115120" cy="563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elements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mmon elements of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r information networks capable of carrying many different types of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68400" y="3110040"/>
            <a:ext cx="5972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7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messages are commun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sent across a network in small “chunks” called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79520" y="2840040"/>
            <a:ext cx="49816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mponents of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0720" y="3086280"/>
            <a:ext cx="77486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572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02240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Devices and their Role in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devices form interface with human network &amp; communicatio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end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85680" y="3554280"/>
            <a:ext cx="64454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320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252440"/>
            <a:ext cx="7940880" cy="551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ole of an intermediary device in a data network and be able to contrast that role with the role of an end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an intermediary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connectivity and ensures data flow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3759120"/>
            <a:ext cx="61815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etwork media and criteria for making a network media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channel over which a message tra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4120" y="3052800"/>
            <a:ext cx="512604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 network serving a home, building or campus is considered a Local Area Network (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17560" y="2936880"/>
            <a:ext cx="5175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21:51Z</dcterms:modified>
  <cp:revision>357</cp:revision>
  <dc:subject/>
  <dc:title>Communicating over the Net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