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8B3174C-D5C3-4661-B031-3F8181A25CF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46D32F-2032-4F07-B02D-4A584B953FB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Data Lin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6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ll Duplex and Half Duplex as it relates to Media Access Control for non-shar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06560" y="2535120"/>
            <a:ext cx="63975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a logical topology and identify several common logical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5960" y="2440080"/>
            <a:ext cx="44100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logical and physical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34920" y="2279520"/>
            <a:ext cx="735516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point-to-point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32080" y="2666880"/>
            <a:ext cx="6551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multi-access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2730600"/>
            <a:ext cx="49690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ring topology and describe the implications for media access when using thi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25520" y="2414520"/>
            <a:ext cx="49928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encapsulating packets into frames to facilitate the entry and exit of data o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217600"/>
            <a:ext cx="6410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frame header in the Data Link layer and identify the fields commonly found in protocols specifying the header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5960" y="2992320"/>
            <a:ext cx="858060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ddressing in the Data Link layer and identify cases where addresses are needed and cases where addresses are no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6120" y="2543040"/>
            <a:ext cx="5865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Media access control addressing and framing dat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the trailer in the Data Link layer and its implications for use on Ethernet, a "non-reliable"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674800"/>
            <a:ext cx="85341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Data Link layer protocols in data transm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Data Link layer prepares data for transmission on network me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different types of media access control meth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everal common logical network topologies and describe how the logical topology determines the media access control method for that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encapsulating packets into frames to facilitate media ac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Layer 2 frame structure and identify generic fiel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key frame header and trailer fields including addressing, QoS, type of protocol and Frame Check Sequ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ervice the Data Link Layer provides as it prepares communication for transmission on specific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0080" y="2209680"/>
            <a:ext cx="614052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y Data Link layer protocols are required to control medi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92120" y="2265480"/>
            <a:ext cx="6334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framing in preparing a packet for transmission on a give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73200" y="2216160"/>
            <a:ext cx="56880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the Data Link layer plays in linking the software and hardwar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8240" y="2220840"/>
            <a:ext cx="58834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22360" y="2295360"/>
            <a:ext cx="5657760" cy="4427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ata Link Layer – Accessing the Medi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sources for the protocols and standards used by the Data Link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necessity for controlling access to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66760" y="2116080"/>
            <a:ext cx="66373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edia Access Control Techniq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wo media access control methods for shared media and the basic characteristic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99000" y="2981160"/>
            <a:ext cx="4429080" cy="276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7320" y="3083040"/>
            <a:ext cx="43005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7:09Z</dcterms:modified>
  <cp:revision>343</cp:revision>
  <dc:subject/>
  <dc:title>OSI Data Link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