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43220B4-A441-40C6-9C3B-267D1149875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DF5EE7A-10EC-4673-A2C1-DB8AEBEFA9F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Layer Functionality and Protoc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515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Fundamentals – Chapter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Features, Operation, and Use of TCP/IP Application Layer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62576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features of the DNS protocol and how this protocol supports DN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63520" y="2189160"/>
            <a:ext cx="68184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Features, Operation, and Use of TCP/IP Application Layer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63620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features of the HTTP protocol and how this protocol supports the delivery of web pages to the cl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46000" y="2336760"/>
            <a:ext cx="74059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7599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Features, Operation, and Use of TCP/IP Application Layer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55844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features of the POP and SMTP protocols, and how these protocols support e-mail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28840" y="2176560"/>
            <a:ext cx="6332400" cy="45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Features, Operation, and Use of TCP/IP Application Layer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56960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features of the Telnet protocol and identify several of its uses in examining and managing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66880" y="2216160"/>
            <a:ext cx="52117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Features, Operation, and Use of TCP/IP Application Layer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5560" y="159228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features of the SMB protocol and the role it plays in supporting file sharing in Microsoft-based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14400" y="2154240"/>
            <a:ext cx="74962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7938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Features, Operation, and Use of TCP/IP Application Layer Servi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5560" y="161460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features of the 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Gnutell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and the role it plays in supporting P2P 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38160" y="2130480"/>
            <a:ext cx="698508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55560" y="1900080"/>
            <a:ext cx="794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35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36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application layer as the source and destination of data for communication across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role of protocols in supporting communication between server and client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features, operation, and use of well-known TCP/IP application layer services (HTTP, DNS, SMT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ications – The Interface Between Human and Data Networks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59228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at applications provide the means for generating and receiving data that can be transported on the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87440" y="2432160"/>
            <a:ext cx="6389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8049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ications – The Interface Between Human and Data Networks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58112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role of applications, services and protocols in converting communication to data that can be transferred across the data net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74600" y="2608200"/>
            <a:ext cx="70074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7938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ications – The Interface Between Human and Data Networks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61460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he separate roles applications, services and protocols play in transporting data through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82640" y="2314440"/>
            <a:ext cx="798336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54240" y="2416320"/>
            <a:ext cx="5335560" cy="3916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7826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ications – The Interface Between Human and Data Networks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5560" y="165888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ole protocols play in networking and be able to identify several message properties that can be defined by a protoc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8265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he Role of Protocols in Supporting Communic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6700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oles of client and server processes in data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6160" y="2238480"/>
            <a:ext cx="70977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8049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he Role of Protocols in Supporting Communic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59228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common Application Layers services and protoc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22520" y="2079720"/>
            <a:ext cx="56307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8049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he Role of Protocols in Supporting Communic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54728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and contrast client server networking with peer-to-peer networking and peer-to-peer applicatio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25360" y="2217600"/>
            <a:ext cx="71218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7T04:28:28Z</dcterms:modified>
  <cp:revision>345</cp:revision>
  <dc:subject/>
  <dc:title>Application Layer Functionality and Protoc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