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2E95AF6-849C-4A7E-A284-FCB72E381EE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686E17A-007D-4A9C-949E-F4E59E57ADF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Physical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636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Signaling and Encod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erms bandwidth, throughput, and good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76400" y="2001960"/>
            <a:ext cx="64040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media characteristics defined by Physical layer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72151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0440" y="2106720"/>
            <a:ext cx="6591600" cy="4497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act interference has on throughput and the role of proper cabling in reducing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UTP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22360" y="2017800"/>
            <a:ext cx="628164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STP and Coaxial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9720" y="2306520"/>
            <a:ext cx="4553280" cy="294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62440" y="3941640"/>
            <a:ext cx="3444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ypes of safety issues when working with copper c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98680" y="2071800"/>
            <a:ext cx="574668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primary characteristics of fiber cabling and its main advantages over other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01600" y="2260440"/>
            <a:ext cx="6561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radio waves when using air as the media and the increased need for security in wireless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01760" y="2571840"/>
            <a:ext cx="6068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used to categorize connectors, describe some common uses for the same connectors, and identify the consequences for misapplying a connector in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74640" y="2919240"/>
            <a:ext cx="5726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Physical layer protocols and services in supporting communication across data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scribe the role of signals used to represent bits as a frame as the frame is transported across the loc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Physical layer signaling and encoding as they are used i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copper, fiber and wireless network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mmon uses of copper, fiber and wireless network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4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the Physical layer in the network and identify the basic elements that enable this layer to fulfill it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2840" y="2509920"/>
            <a:ext cx="62769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bits in representing a frame as it is transported across the local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3040" y="2217600"/>
            <a:ext cx="77533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signaling in the physical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44600" y="2335320"/>
            <a:ext cx="60372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o establishes and maintains standards for the Physical layers compared to those for the other layers of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55520" y="2556000"/>
            <a:ext cx="7026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ardware components associated with the Physical layer that are governed b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35080" y="2251080"/>
            <a:ext cx="71611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05000" y="2576520"/>
            <a:ext cx="5927760" cy="4014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Signaling and Encod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at network communication at this layer consists of individual bits encoded onto the Physical layer and describe the basic encod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Signaling and Encod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encoding as it applies to the transmission of bits and explain the value of treating a collection of bits as a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47720" y="2540160"/>
            <a:ext cx="553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8:55Z</dcterms:modified>
  <cp:revision>348</cp:revision>
  <dc:subject/>
  <dc:title>OSI Physical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