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8B901B9-3DD9-47E3-AC21-B195E8E72FD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F819C80-1FFE-4DFD-82C1-167A665F69C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Layer Functionality and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1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2576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DNS protocol and how this protocol supports DN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63520" y="2189160"/>
            <a:ext cx="68184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2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HTTP protocol and how this protocol supports the delivery of web pages to the 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6000" y="2336760"/>
            <a:ext cx="7405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7599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55844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POP and SMTP protocols, and how these protocols support e-mail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28840" y="2176560"/>
            <a:ext cx="633240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5696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Telnet protocol and identify several of its uses in examining and managing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6880" y="2216160"/>
            <a:ext cx="5211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SMB protocol and the role it plays in supporting file sharing in Microsoft-based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2154240"/>
            <a:ext cx="74962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7938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61460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Gnute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and the role it plays in supporting P2P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38160" y="2130480"/>
            <a:ext cx="69850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3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3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application layer as the source and destination of data for communication across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role of protocols in supporting communication between server and client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eatures, operation, and use of well-known TCP/IP application layer services (HTTP, DNS, SMT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at applications provide the means for generating and receiving data that can be transported on the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87440" y="2432160"/>
            <a:ext cx="638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8112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applications, services and protocols in converting communication to data that can be transferred across the data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4600" y="2608200"/>
            <a:ext cx="70074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7938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1460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separate roles applications, services and protocols play in transporting data through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2640" y="2314440"/>
            <a:ext cx="79833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54240" y="2416320"/>
            <a:ext cx="5335560" cy="3916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6588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ole protocols play in networking and be able to identify several message properties that can be defined by a 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8265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700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oles of client and server processes in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6160" y="2238480"/>
            <a:ext cx="70977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common Application Layers services and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22520" y="2079720"/>
            <a:ext cx="56307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54728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client server networking with peer-to-peer networking and peer-to-peer applicat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25360" y="2217600"/>
            <a:ext cx="7121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28:28Z</dcterms:modified>
  <cp:revision>345</cp:revision>
  <dc:subject/>
  <dc:title>Application Layer Functionality and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