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4DF58D4-1A6E-4DFD-978F-C728DBE76EF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BA909A0-E261-4244-81EC-225020F37C9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unicating over the Net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527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Fundamentals – Chapter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Typ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Wide Area Networks (W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Ns separated by geographic distance are connected by a network known as a Wide Area Network (W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27040" y="3000240"/>
            <a:ext cx="798660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Typ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Inter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net is defined a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esh of interconnecte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20880" y="2932200"/>
            <a:ext cx="48736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Typ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network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68560" y="2154240"/>
            <a:ext cx="628632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ction of Protocol in Network Communication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ce of protocols and how they are used to facilitate communication over dat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tocol is a set of predetermined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13120" y="3078000"/>
            <a:ext cx="547344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ction of Protocol in Network Communication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network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protocol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llow devices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51520" y="1243080"/>
            <a:ext cx="338292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1520" y="7477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ction of Protocol in Network Communication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60240"/>
            <a:ext cx="8139240" cy="5397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Protocol suites and industry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andard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cess or protocol that has been endorsed by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ing industry and ratified by a standard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03400" y="2008080"/>
            <a:ext cx="662616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7160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ction of Protocol in Network Communication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5560" y="155844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different protocols and how they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74720" y="2373480"/>
            <a:ext cx="725004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00" y="6822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ction of Protocol in Network Communication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5560" y="148068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independent Protoc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ny diverse types of devices can communicate using the same sets of protocols.  This is because protocols specify network functionality, not the underlying technology to support this function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44560" y="3186000"/>
            <a:ext cx="54244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421920"/>
            <a:ext cx="8145360" cy="762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ayers with TCP/IP and OSI Mode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2000" y="113832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benefits of using a layere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s in protoco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sters 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one layer do not affect other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a common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12880" y="3419640"/>
            <a:ext cx="576252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ayers with TCP/IP and OSI Mode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CP/IP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53960" y="2104920"/>
            <a:ext cx="70167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structure of a network, including the devices and media that are necessary for successful commun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function of protocols in network commun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advantages of using a layered model to describe network function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each layer in two recognized network models: The TCP/IP model and the OSI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addressing and naming schemes in network commun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ayers with TCP/IP and OSI Mode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mun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69880" y="2163600"/>
            <a:ext cx="8121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ayers with TCP/IP and OSI Mode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protocol data units (PDU) and 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5120" y="2147760"/>
            <a:ext cx="4645080" cy="3241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67360" y="3289320"/>
            <a:ext cx="38196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ayers with TCP/IP and OSI Mode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rocess of sending and receiving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35240" y="2273400"/>
            <a:ext cx="65181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4460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ayers with TCP/IP and OSI Mode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332000"/>
            <a:ext cx="372420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protocol and referenc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tocol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model th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ly matches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 of a particul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su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ference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com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f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cy within 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networ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and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622680" y="1362240"/>
            <a:ext cx="55213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ayers with TCP/IP and OSI Mode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33600" y="1739880"/>
            <a:ext cx="242280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ayers with TCP/IP and OSI Mode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OSI and TCP/IP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55680" y="1860480"/>
            <a:ext cx="50929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ddressing and Naming Schem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labels in encapsulation headers are used to manage communication in data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35040" y="2717640"/>
            <a:ext cx="811692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ddressing and Naming Schem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examples of Ethernet MAC Addresses, IP Addresses, and TCP/UDP Por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34960" y="2354400"/>
            <a:ext cx="589464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ddressing and Naming Schem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labels in encapsulation headers are used to manage communication in dat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68560" y="2546280"/>
            <a:ext cx="6564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ddressing and Naming Schem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information in the encapsulation header is used to identify the source and destination processes for data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44440" y="2612880"/>
            <a:ext cx="698184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9952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3680" y="1060200"/>
            <a:ext cx="8115120" cy="5638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elements of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ommon elements of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or information networks capable of carrying many different types of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68400" y="3110040"/>
            <a:ext cx="59724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55560" y="1900080"/>
            <a:ext cx="7940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78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79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messages are commun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s sent across a network in small “chunks” called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79520" y="2840040"/>
            <a:ext cx="498168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components of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0720" y="3086280"/>
            <a:ext cx="774864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5720" y="3445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8840" y="102240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Devices and their Role in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devices form interface with human network &amp; communication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of end de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client and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85680" y="3554280"/>
            <a:ext cx="644544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3200" y="3996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5560" y="1252440"/>
            <a:ext cx="7940880" cy="551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role of an intermediary device in a data network and be able to contrast that role with the role of an end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an intermediary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connectivity and ensures data flow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71680" y="3759120"/>
            <a:ext cx="618156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network media and criteria for making a network media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channel over which a message tra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24120" y="3052800"/>
            <a:ext cx="512604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Typ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Local Area Networks (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 network serving a home, building or campus is considered a Local Area Network (L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17560" y="2936880"/>
            <a:ext cx="51753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7T04:21:51Z</dcterms:modified>
  <cp:revision>357</cp:revision>
  <dc:subject/>
  <dc:title>Communicating over the Net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