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59E7417-3E64-479B-BB0F-F018DEB3C26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A135AE3-9F12-44BF-9C5E-52713F664EF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I Transport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59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Application and Operation of TCP Mechanism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port numbers in establishing TCP sessions  and directing segments to serv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25400" y="2370240"/>
            <a:ext cx="72216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Application and Operation of TCP Mechanism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in the handshake in the establishment of TCP se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79400" y="2211480"/>
            <a:ext cx="53913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Application and Operation of TCP Mechanism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in the handshake in the termination of TCP se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23920" y="2305080"/>
            <a:ext cx="48085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anaging TCP Sess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CP sequence numbers are used to reconstruct the data stream with segments placed in the correct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5080" y="2532240"/>
            <a:ext cx="603864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50960" y="2521080"/>
            <a:ext cx="5641920" cy="407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anaging TCP Sess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used by the TCP protocol in which sequence numbers and acknowledgement numbers are used to manage exchanges in a conver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anaging TCP Sess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transmission.remedy for lost data employed by TC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73240" y="2128680"/>
            <a:ext cx="686592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anaging TCP Sess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echanisms in TCP that manage the interrelationship between window size, data loss and congestion during a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01800" y="2513160"/>
            <a:ext cx="5334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U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haracteristics of the UDP protocol and the types of communication for which it is best su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2360" y="2392200"/>
            <a:ext cx="779760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U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in detail the process specified by the UDP protocol to reassemble PDUs at the destination de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2880" y="2220840"/>
            <a:ext cx="64468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U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servers use port numbers to identify a specified application layer process and direct segments to the proper service or appl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00120" y="2651040"/>
            <a:ext cx="55468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role of Transport Layer protocols and services in supporting communications across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application and operation of TCP mechanisms that support reli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application and operation of TCP mechanisms that support reassembly and manage data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operation of UDP to support communicate between two processes on end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U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as the UDP protocol and port numbers are utilized in client-server communic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9960" y="2292480"/>
            <a:ext cx="8080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50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51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purpose of the Transport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39680" y="1924200"/>
            <a:ext cx="66661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nctions of the transport layer and the role it plays in data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52600" y="2443320"/>
            <a:ext cx="5697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Reliabl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874880"/>
            <a:ext cx="712152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characteristics of the UDP and TCP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7160" y="2130480"/>
            <a:ext cx="64040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92400" y="2384280"/>
            <a:ext cx="6537240" cy="4243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how a port number is represented and describe the role port numbers play in the TCP and UDP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43280" y="2357280"/>
            <a:ext cx="5813280" cy="426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ransport Layer Role and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segments in the transport layer and the two principle ways segments can be marked for re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Application and Operation of TCP Mechanism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steps that show how the TCP reliability mechanism works as part of a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00160" y="2162160"/>
            <a:ext cx="68882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30:25Z</dcterms:modified>
  <cp:revision>334</cp:revision>
  <dc:subject/>
  <dc:title>OSI Transport Lay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