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613A5BD3-0DFA-45C4-B2F2-A4A48C05DC35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893960"/>
            <a:ext cx="9140760" cy="244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7D2A9852-DF29-4DAE-A609-AA06D1C43000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483160" y="5940360"/>
            <a:ext cx="3354480" cy="474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46240" y="119160"/>
            <a:ext cx="1171440" cy="904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SI Transport Lay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593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70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Fundamentals – Chapter 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Application and Operation of TCP Mechanisms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role of port numbers in establishing TCP sessions  and directing segments to server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25400" y="2370240"/>
            <a:ext cx="722160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Application and Operation of TCP Mechanisms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 the steps in the handshake in the establishment of TCP sess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79400" y="2211480"/>
            <a:ext cx="539136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Application and Operation of TCP Mechanisms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 the steps in the handshake in the termination of TCP sess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023920" y="2305080"/>
            <a:ext cx="480852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Managing TCP Session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TCP sequence numbers are used to reconstruct the data stream with segments placed in the correct or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405080" y="2532240"/>
            <a:ext cx="6038640" cy="40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50960" y="2521080"/>
            <a:ext cx="5641920" cy="40766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Managing TCP Session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 the steps used by the TCP protocol in which sequence numbers and acknowledgement numbers are used to manage exchanges in a convers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Managing TCP Session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retransmission.remedy for lost data employed by TCP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73240" y="2128680"/>
            <a:ext cx="6865920" cy="41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Managing TCP Session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mechanisms in TCP that manage the interrelationship between window size, data loss and congestion during a se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801800" y="2513160"/>
            <a:ext cx="5334120" cy="41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UDP Protocol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haracteristics of the UDP protocol and the types of communication for which it is best sui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22360" y="2392200"/>
            <a:ext cx="7797600" cy="39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UDP Protocol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in detail the process specified by the UDP protocol to reassemble PDUs at the destination dev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442880" y="2220840"/>
            <a:ext cx="644688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UDP Protocol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servers use port numbers to identify a specified application layer process and direct segments to the proper service or appl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500120" y="2651040"/>
            <a:ext cx="554688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role of Transport Layer protocols and services in supporting communications across data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the application and operation of TCP mechanisms that support reli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the application and operation of TCP mechanisms that support reassembly and manage data lo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the operation of UDP to support communicate between two processes on end de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UDP Protocol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 the steps as the UDP protocol and port numbers are utilized in client-server communicatio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99960" y="2292480"/>
            <a:ext cx="808056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55560" y="1900080"/>
            <a:ext cx="7940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150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151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Transport Layer Role and Servi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purpose of the Transport lay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039680" y="1924200"/>
            <a:ext cx="666612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Transport Layer Role and Servi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functions of the transport layer and the role it plays in data networ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52600" y="2443320"/>
            <a:ext cx="56973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Transport Layer Role and Servi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ing Reliable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874880"/>
            <a:ext cx="712152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Transport Layer Role and Servi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basic characteristics of the UDP and TCP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27160" y="2130480"/>
            <a:ext cx="640404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92400" y="2384280"/>
            <a:ext cx="6537240" cy="42436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Transport Layer Role and Servi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how a port number is represented and describe the role port numbers play in the TCP and UDP protoc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43280" y="2357280"/>
            <a:ext cx="5813280" cy="426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Transport Layer Role and Servi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role of segments in the transport layer and the two principle ways segments can be marked for reassemb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Application and Operation of TCP Mechanisms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 the steps that show how the TCP reliability mechanism works as part of a se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00160" y="2162160"/>
            <a:ext cx="688824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Alison DuBose</cp:lastModifiedBy>
  <cp:lastPrinted>1999-01-27T00:54:54Z</cp:lastPrinted>
  <dcterms:modified xsi:type="dcterms:W3CDTF">2007-06-27T04:30:25Z</dcterms:modified>
  <cp:revision>334</cp:revision>
  <dc:subject/>
  <dc:title>OSI Transport Lay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