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20167F-F6D2-4DC5-A945-58CB0DF239D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719CA37-C7C9-43BF-9D4C-012DBF8E876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Networ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different reasons for grouping devices into sub-networks and define several terms used to identify the sub-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3200" y="2527200"/>
            <a:ext cx="6328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ways in which dividing a large network can increase networ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4400" y="2300400"/>
            <a:ext cx="693396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ways in which dividing a large network can increase network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01720" y="2333520"/>
            <a:ext cx="72849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79560" y="2244600"/>
            <a:ext cx="6211800" cy="4222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mmunication problems that emerge when very large numbers of devices are included in one larg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hierarchical addressing solves the problem of devices communicating across networks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4880" y="2460600"/>
            <a:ext cx="555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further subdividing networks into small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1520" y="2179800"/>
            <a:ext cx="6404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n intermediary gateway device in allowing devices to communicate across sub-divid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93920" y="2476440"/>
            <a:ext cx="62323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of an IP packet as it traverses unchanged via routers from sub network to sub-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68560" y="2324160"/>
            <a:ext cx="6643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6040" y="2432160"/>
            <a:ext cx="5827680" cy="4198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 gateway and the use of a simple route table in directing packets toward their ultimat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route and its three ke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040" y="1925640"/>
            <a:ext cx="8049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role of the Network Layer, as it describes communication from one end device to another e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most common Network Layer protocol, Internet Protocol (IP), and its features for providing connectionless and best-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principles used to guide the division or grouping of devices into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hierarchical addressing of devices and how this allows communication betwee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fundamentals of routes, next hop addresses and packet forwarding to a destin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and use of the destination network in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98760" y="2193840"/>
            <a:ext cx="59274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and use of the next hop in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70120" y="2013120"/>
            <a:ext cx="78278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of several IP packets as they are routed through several gateways from devices on one sub network to devices on other sub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00240" y="2535120"/>
            <a:ext cx="6110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routing protocols and the need for both static and dynam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4440" y="2263680"/>
            <a:ext cx="6629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routes are manually configured to build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25520" y="2138400"/>
            <a:ext cx="6586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routing protocols in build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32080" y="2182680"/>
            <a:ext cx="6283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basic role of the Network Layer in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98680" y="2097000"/>
            <a:ext cx="6021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and the role of the IPv4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01880" y="2179800"/>
            <a:ext cx="67435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protocol as it is connectio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9360" y="2206800"/>
            <a:ext cx="83311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protocol as it is considered an unreliabl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36520" y="2181240"/>
            <a:ext cx="6653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as it is media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0240" y="2092320"/>
            <a:ext cx="7905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framing in the Transport Layer and explain that segments are encapsulated as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2131920"/>
            <a:ext cx="71517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header fields in the IPv4 protocol and describe each field's role in transport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9240" y="2295360"/>
            <a:ext cx="6580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2:36Z</dcterms:modified>
  <cp:revision>339</cp:revision>
  <dc:subject/>
  <dc:title>OSI Network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