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161B185-6A17-4C01-8E84-132803C3DE96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58AFE4E-BD37-4725-A1CE-6F42C7BB2F9A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527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Fundamentals – Chapter 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Physical and Data Link Features of Ethernet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Implementations of the Ethern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65240" y="2098800"/>
            <a:ext cx="48085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ction and Characteristics of the Media Access Control Method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in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22360" y="2038320"/>
            <a:ext cx="621828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ction and Characteristics of the Media Access Control Method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Sense Multiple Access with Collision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52480" y="2117880"/>
            <a:ext cx="71168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ction and Characteristics of the Media Access Control Method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65240" y="2135160"/>
            <a:ext cx="6994440" cy="4417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08200" y="1544760"/>
            <a:ext cx="7940520" cy="50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Layer 2 addressing and its Impact on Network Operation and Performance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ame – Encapsulating the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9200" y="1957320"/>
            <a:ext cx="758196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Layer 2 addressing and its Impact on Network Operation and Performance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thernet MAC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55800" y="2079720"/>
            <a:ext cx="69404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Layer 2 addressing and its Impact on Network Operation and Performance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xadecimal Numbering and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73000" y="1836720"/>
            <a:ext cx="668196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Layer 2 addressing and its Impact on Network Operation and Performance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Layer of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38160" y="1895400"/>
            <a:ext cx="69786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Layer 2 addressing and its Impact on Network Operation and Performance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 Unicast, Multicast and Broad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31800" y="1860480"/>
            <a:ext cx="8151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ompare and Contrast the Use of Ethernet Switches versus Hubs in a LAN.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cy Ethernet – Using Hu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5840" y="2106720"/>
            <a:ext cx="678672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basic characteristics of network media used in Eth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hysical and data link features of Eth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function and characteristics of the media access control method used by Ethernet protoc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importance of Layer 2 addressing used for data transmission and determine how the different types of addressing impacts network operation and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and contrast the application and benefits of using Ethernet switches in a LAN as apposed to using hu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ARP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ompare and Contrast the Use of Ethernet Switches versus Hubs in a LAN.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 – Using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11240" y="1860480"/>
            <a:ext cx="725796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ompare and Contrast the Use of Ethernet Switches versus Hubs in a LAN.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a switch can eliminate collisions, backoffs and re- transmissions, the leading factors in reduced throughput on a hub-based Ethernet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9040" y="2163600"/>
            <a:ext cx="71866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82120" y="692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Explain the Address Resolution Protocol (ARP) process.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5560" y="152568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IP to MAC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01680" y="1967040"/>
            <a:ext cx="618012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Explain the Address Resolution Protocol (ARP) process.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P – Destinations Outside the Local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8720" y="1906560"/>
            <a:ext cx="6753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Explain the Address Resolution Protocol (ARP) process.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P – Removing Address Mapp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05304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Explain the Address Resolution Protocol (ARP) process.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P Broadcasts -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95480" y="1898640"/>
            <a:ext cx="670392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55560" y="1900080"/>
            <a:ext cx="7940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6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6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haracteristics of Network Media used in Ethernet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everal characteristics of Ethernet in its early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610000" y="1996920"/>
            <a:ext cx="427176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haracteristics of Network Media used in Ethernet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emergence of the LAN switch as a key innovation for managing collisions on Ethernet-based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473200" y="2368440"/>
            <a:ext cx="416412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haracteristics of Network Media used in Ethernet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haracteristics of state-of-the-art Ethernet and describe its utilization of cabling and point-to-point topograph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009880" y="2630520"/>
            <a:ext cx="54673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Physical and Data Link Features of Ethernet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and Impleme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30200" y="2206800"/>
            <a:ext cx="599616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Physical and Data Link Features of Ethernet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the Ethernet operates across two layers of the OSI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33680" y="2343240"/>
            <a:ext cx="554184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Physical and Data Link Features of Ethernet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ink Control – Connecting the Upper Lay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08240" y="1976400"/>
            <a:ext cx="630396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Physical and Data Link Features of Ethernet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 Access Cont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76240" y="2193840"/>
            <a:ext cx="50832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7T04:40:58Z</dcterms:modified>
  <cp:revision>349</cp:revision>
  <dc:subject/>
  <dc:title>Ether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