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F544A53-ABC3-40E2-9D17-F3DE84C6C52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2E5A211-5113-4E72-AFAF-D40F85FCD67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ning and Cabling Net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4824360"/>
            <a:ext cx="694044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Fundamentals – Chapter 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ole of device management connections when using Cisco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2680" y="2262240"/>
            <a:ext cx="6494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Design an Addressing Scheme for an Inter-network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 address scheme for an internetwork and assign ranges for hosts, network devices and the 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82680" y="2598840"/>
            <a:ext cx="61977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Design an Addressing Scheme for an Inter-network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address ranges for sub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30320"/>
            <a:ext cx="60642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network scenario, develop an appropriate networking 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50920" y="2257560"/>
            <a:ext cx="62229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otal number of hosts in a network, accounting for present and future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39920" y="2320920"/>
            <a:ext cx="6485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network requirement, determine the optimum number of sub networks in the larger inter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68360" y="2265480"/>
            <a:ext cx="6451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mportance of Network Desig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o count the segments between rout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5320" y="2227320"/>
            <a:ext cx="54342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55560" y="1900080"/>
            <a:ext cx="794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3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basic network media required to make a LAN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ypes of connections for intermediate and end device connections in a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dentify the pin out configurations for straight-through and crossover c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different cabling types, standards and ports used for WAN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role of device management connections when using Cisco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 addressing scheme for an inter-network and assign ranges for hosts, network devices and the router inte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contrast the importance of network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appropriate hardware, including the cabling, to install several computers together in a 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89240" y="2197080"/>
            <a:ext cx="5967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some key aspects of the devices they will be employing in a 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1160" y="2141640"/>
            <a:ext cx="6789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Basic Network Media Required to Make a LAN Connection.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wo computers with a swi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4400" y="2030400"/>
            <a:ext cx="66085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pecific network connection, identify the type of cable required to make th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1080" y="2233440"/>
            <a:ext cx="57625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rrect cable to use in connecting intermediate and end devices in a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70000" y="2212920"/>
            <a:ext cx="65149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inout of the straight-through and cross-over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2760" y="2287440"/>
            <a:ext cx="3668400" cy="405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325760" y="2184480"/>
            <a:ext cx="45849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ypes of Connections in a 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a different class of cables is used to connect WANs, and that the cables, standards and ports are different than those in use by L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23960" y="2824200"/>
            <a:ext cx="5445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7T04:42:45Z</dcterms:modified>
  <cp:revision>357</cp:revision>
  <dc:subject/>
  <dc:title>Planning and Cabling Net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