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9.xml" ContentType="application/vnd.openxmlformats-officedocument.presentationml.notesSlide+xml"/>
  <Override PartName="/ppt/notesSlides/notesSlide55.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5.png" ContentType="image/png"/>
  <Override PartName="/ppt/media/image4.png" ContentType="image/png"/>
  <Override PartName="/ppt/media/image3.png" ContentType="image/png"/>
  <Override PartName="/ppt/media/image25.jpeg" ContentType="image/jpeg"/>
  <Override PartName="/ppt/media/image2.jpeg" ContentType="image/jpeg"/>
  <Override PartName="/ppt/media/image23.png" ContentType="image/png"/>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wmf" ContentType="image/x-wmf"/>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
          <p:cNvSpPr/>
          <p:nvPr/>
        </p:nvSpPr>
        <p:spPr>
          <a:xfrm>
            <a:off x="6238800" y="8585280"/>
            <a:ext cx="44928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57240" y="8761320"/>
            <a:ext cx="261468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4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5" name=""/>
          <p:cNvSpPr/>
          <p:nvPr/>
        </p:nvSpPr>
        <p:spPr>
          <a:xfrm>
            <a:off x="152280" y="8775720"/>
            <a:ext cx="664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PlaceHolder 1"/>
          <p:cNvSpPr>
            <a:spLocks noGrp="1"/>
          </p:cNvSpPr>
          <p:nvPr>
            <p:ph type="sldNum" idx="1"/>
          </p:nvPr>
        </p:nvSpPr>
        <p:spPr>
          <a:xfrm>
            <a:off x="5918040" y="8656560"/>
            <a:ext cx="812880" cy="2872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AD0A859-C292-45D3-A27B-B1B218CDF76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7" name="PlaceHolder 2"/>
          <p:cNvSpPr>
            <a:spLocks noGrp="1"/>
          </p:cNvSpPr>
          <p:nvPr>
            <p:ph type="sldImg"/>
          </p:nvPr>
        </p:nvSpPr>
        <p:spPr>
          <a:xfrm>
            <a:off x="874800" y="244440"/>
            <a:ext cx="530676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8" name="PlaceHolder 3"/>
          <p:cNvSpPr>
            <a:spLocks noGrp="1"/>
          </p:cNvSpPr>
          <p:nvPr>
            <p:ph type="body"/>
          </p:nvPr>
        </p:nvSpPr>
        <p:spPr>
          <a:xfrm>
            <a:off x="402840" y="4365360"/>
            <a:ext cx="611028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0AD5F35-3701-4B76-95E4-08D962A534B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05" name="PlaceHolder 1"/>
          <p:cNvSpPr>
            <a:spLocks noGrp="1"/>
          </p:cNvSpPr>
          <p:nvPr>
            <p:ph type="sldImg"/>
          </p:nvPr>
        </p:nvSpPr>
        <p:spPr>
          <a:xfrm>
            <a:off x="1282680" y="571680"/>
            <a:ext cx="4444920" cy="3333600"/>
          </a:xfrm>
          <a:prstGeom prst="rect">
            <a:avLst/>
          </a:prstGeom>
          <a:ln w="0">
            <a:noFill/>
          </a:ln>
        </p:spPr>
      </p:sp>
      <p:sp>
        <p:nvSpPr>
          <p:cNvPr id="606"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B5D710B-398E-42A9-AB1D-399CBE2B8B0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08" name="PlaceHolder 1"/>
          <p:cNvSpPr>
            <a:spLocks noGrp="1"/>
          </p:cNvSpPr>
          <p:nvPr>
            <p:ph type="sldImg"/>
          </p:nvPr>
        </p:nvSpPr>
        <p:spPr>
          <a:xfrm>
            <a:off x="1282680" y="571680"/>
            <a:ext cx="4444920" cy="3333600"/>
          </a:xfrm>
          <a:prstGeom prst="rect">
            <a:avLst/>
          </a:prstGeom>
          <a:ln w="0">
            <a:noFill/>
          </a:ln>
        </p:spPr>
      </p:sp>
      <p:sp>
        <p:nvSpPr>
          <p:cNvPr id="609"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E0EF6B5-5637-475A-865E-D09CCD17751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11" name="PlaceHolder 1"/>
          <p:cNvSpPr>
            <a:spLocks noGrp="1"/>
          </p:cNvSpPr>
          <p:nvPr>
            <p:ph type="sldImg"/>
          </p:nvPr>
        </p:nvSpPr>
        <p:spPr>
          <a:xfrm>
            <a:off x="1282680" y="571680"/>
            <a:ext cx="4444920" cy="3333600"/>
          </a:xfrm>
          <a:prstGeom prst="rect">
            <a:avLst/>
          </a:prstGeom>
          <a:ln w="0">
            <a:noFill/>
          </a:ln>
        </p:spPr>
      </p:sp>
      <p:sp>
        <p:nvSpPr>
          <p:cNvPr id="612"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CDEB27A-B595-4493-BA84-0059123EA6C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14" name="PlaceHolder 1"/>
          <p:cNvSpPr>
            <a:spLocks noGrp="1"/>
          </p:cNvSpPr>
          <p:nvPr>
            <p:ph type="sldImg"/>
          </p:nvPr>
        </p:nvSpPr>
        <p:spPr>
          <a:xfrm>
            <a:off x="1282680" y="571680"/>
            <a:ext cx="4444920" cy="3333600"/>
          </a:xfrm>
          <a:prstGeom prst="rect">
            <a:avLst/>
          </a:prstGeom>
          <a:ln w="0">
            <a:noFill/>
          </a:ln>
        </p:spPr>
      </p:sp>
      <p:sp>
        <p:nvSpPr>
          <p:cNvPr id="615"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4523201-0863-462C-AD3F-97793CD6F4D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17" name="PlaceHolder 1"/>
          <p:cNvSpPr>
            <a:spLocks noGrp="1"/>
          </p:cNvSpPr>
          <p:nvPr>
            <p:ph type="sldImg"/>
          </p:nvPr>
        </p:nvSpPr>
        <p:spPr>
          <a:xfrm>
            <a:off x="1282680" y="571680"/>
            <a:ext cx="4444920" cy="3333600"/>
          </a:xfrm>
          <a:prstGeom prst="rect">
            <a:avLst/>
          </a:prstGeom>
          <a:ln w="0">
            <a:noFill/>
          </a:ln>
        </p:spPr>
      </p:sp>
      <p:sp>
        <p:nvSpPr>
          <p:cNvPr id="618"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F9153C6-EF40-4A2C-B8CC-DEA8AA4E288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20" name="PlaceHolder 1"/>
          <p:cNvSpPr>
            <a:spLocks noGrp="1"/>
          </p:cNvSpPr>
          <p:nvPr>
            <p:ph type="sldImg"/>
          </p:nvPr>
        </p:nvSpPr>
        <p:spPr>
          <a:xfrm>
            <a:off x="1282680" y="571680"/>
            <a:ext cx="4444920" cy="3333600"/>
          </a:xfrm>
          <a:prstGeom prst="rect">
            <a:avLst/>
          </a:prstGeom>
          <a:ln w="0">
            <a:noFill/>
          </a:ln>
        </p:spPr>
      </p:sp>
      <p:sp>
        <p:nvSpPr>
          <p:cNvPr id="621"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91FE92F-A41C-4158-A8BF-2C7BD9B684D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23" name="PlaceHolder 1"/>
          <p:cNvSpPr>
            <a:spLocks noGrp="1"/>
          </p:cNvSpPr>
          <p:nvPr>
            <p:ph type="sldImg"/>
          </p:nvPr>
        </p:nvSpPr>
        <p:spPr>
          <a:xfrm>
            <a:off x="1282680" y="571680"/>
            <a:ext cx="4444920" cy="3333600"/>
          </a:xfrm>
          <a:prstGeom prst="rect">
            <a:avLst/>
          </a:prstGeom>
          <a:ln w="0">
            <a:noFill/>
          </a:ln>
        </p:spPr>
      </p:sp>
      <p:sp>
        <p:nvSpPr>
          <p:cNvPr id="624"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014366B-8985-4FB5-83CC-3D4B1C6A293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90" name="PlaceHolder 1"/>
          <p:cNvSpPr>
            <a:spLocks noGrp="1"/>
          </p:cNvSpPr>
          <p:nvPr>
            <p:ph type="sldImg"/>
          </p:nvPr>
        </p:nvSpPr>
        <p:spPr>
          <a:xfrm>
            <a:off x="843120" y="249120"/>
            <a:ext cx="5419440" cy="4065840"/>
          </a:xfrm>
          <a:prstGeom prst="rect">
            <a:avLst/>
          </a:prstGeom>
          <a:ln w="0">
            <a:noFill/>
          </a:ln>
        </p:spPr>
      </p:sp>
      <p:sp>
        <p:nvSpPr>
          <p:cNvPr id="591" name="PlaceHolder 2"/>
          <p:cNvSpPr>
            <a:spLocks noGrp="1"/>
          </p:cNvSpPr>
          <p:nvPr>
            <p:ph type="body"/>
          </p:nvPr>
        </p:nvSpPr>
        <p:spPr>
          <a:xfrm>
            <a:off x="406080" y="4457880"/>
            <a:ext cx="6156360" cy="433368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168F042-D0B8-4A37-B311-A6768A825EE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26" name="PlaceHolder 1"/>
          <p:cNvSpPr>
            <a:spLocks noGrp="1"/>
          </p:cNvSpPr>
          <p:nvPr>
            <p:ph type="sldImg"/>
          </p:nvPr>
        </p:nvSpPr>
        <p:spPr>
          <a:xfrm>
            <a:off x="1282680" y="571680"/>
            <a:ext cx="4444920" cy="3333600"/>
          </a:xfrm>
          <a:prstGeom prst="rect">
            <a:avLst/>
          </a:prstGeom>
          <a:ln w="0">
            <a:noFill/>
          </a:ln>
        </p:spPr>
      </p:sp>
      <p:sp>
        <p:nvSpPr>
          <p:cNvPr id="627"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C9F9A16-107B-4207-97C8-894A1CB9832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29" name="PlaceHolder 1"/>
          <p:cNvSpPr>
            <a:spLocks noGrp="1"/>
          </p:cNvSpPr>
          <p:nvPr>
            <p:ph type="sldImg"/>
          </p:nvPr>
        </p:nvSpPr>
        <p:spPr>
          <a:xfrm>
            <a:off x="843120" y="249120"/>
            <a:ext cx="5419440" cy="4065840"/>
          </a:xfrm>
          <a:prstGeom prst="rect">
            <a:avLst/>
          </a:prstGeom>
          <a:ln w="0">
            <a:noFill/>
          </a:ln>
        </p:spPr>
      </p:sp>
      <p:sp>
        <p:nvSpPr>
          <p:cNvPr id="630" name="PlaceHolder 2"/>
          <p:cNvSpPr>
            <a:spLocks noGrp="1"/>
          </p:cNvSpPr>
          <p:nvPr>
            <p:ph type="body"/>
          </p:nvPr>
        </p:nvSpPr>
        <p:spPr>
          <a:xfrm>
            <a:off x="406080" y="4457880"/>
            <a:ext cx="6156360" cy="433368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88EDC65-9F19-451C-9F7F-B1E6A24A42A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32" name="PlaceHolder 1"/>
          <p:cNvSpPr>
            <a:spLocks noGrp="1"/>
          </p:cNvSpPr>
          <p:nvPr>
            <p:ph type="sldImg"/>
          </p:nvPr>
        </p:nvSpPr>
        <p:spPr>
          <a:xfrm>
            <a:off x="1282680" y="571680"/>
            <a:ext cx="4444920" cy="3333600"/>
          </a:xfrm>
          <a:prstGeom prst="rect">
            <a:avLst/>
          </a:prstGeom>
          <a:ln w="0">
            <a:noFill/>
          </a:ln>
        </p:spPr>
      </p:sp>
      <p:sp>
        <p:nvSpPr>
          <p:cNvPr id="633"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C7F7D2E-597F-42C0-8615-9A2528F27FB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35" name="PlaceHolder 1"/>
          <p:cNvSpPr>
            <a:spLocks noGrp="1"/>
          </p:cNvSpPr>
          <p:nvPr>
            <p:ph type="sldImg"/>
          </p:nvPr>
        </p:nvSpPr>
        <p:spPr>
          <a:xfrm>
            <a:off x="1282680" y="571680"/>
            <a:ext cx="4444920" cy="3333600"/>
          </a:xfrm>
          <a:prstGeom prst="rect">
            <a:avLst/>
          </a:prstGeom>
          <a:ln w="0">
            <a:noFill/>
          </a:ln>
        </p:spPr>
      </p:sp>
      <p:sp>
        <p:nvSpPr>
          <p:cNvPr id="636"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4175A28-3817-4684-8053-F8E7F39C76F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38" name="PlaceHolder 1"/>
          <p:cNvSpPr>
            <a:spLocks noGrp="1"/>
          </p:cNvSpPr>
          <p:nvPr>
            <p:ph type="sldImg"/>
          </p:nvPr>
        </p:nvSpPr>
        <p:spPr>
          <a:xfrm>
            <a:off x="1282680" y="571680"/>
            <a:ext cx="4444920" cy="3333600"/>
          </a:xfrm>
          <a:prstGeom prst="rect">
            <a:avLst/>
          </a:prstGeom>
          <a:ln w="0">
            <a:noFill/>
          </a:ln>
        </p:spPr>
      </p:sp>
      <p:sp>
        <p:nvSpPr>
          <p:cNvPr id="639"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D5ED570-C59E-4BAA-BC30-FDB0E682E87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41" name="PlaceHolder 1"/>
          <p:cNvSpPr>
            <a:spLocks noGrp="1"/>
          </p:cNvSpPr>
          <p:nvPr>
            <p:ph type="sldImg"/>
          </p:nvPr>
        </p:nvSpPr>
        <p:spPr>
          <a:xfrm>
            <a:off x="1282680" y="571680"/>
            <a:ext cx="4444920" cy="3333600"/>
          </a:xfrm>
          <a:prstGeom prst="rect">
            <a:avLst/>
          </a:prstGeom>
          <a:ln w="0">
            <a:noFill/>
          </a:ln>
        </p:spPr>
      </p:sp>
      <p:sp>
        <p:nvSpPr>
          <p:cNvPr id="642"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6E01A15-AD93-4DCD-88F6-F3E5E00F75F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93" name="PlaceHolder 1"/>
          <p:cNvSpPr>
            <a:spLocks noGrp="1"/>
          </p:cNvSpPr>
          <p:nvPr>
            <p:ph type="sldImg"/>
          </p:nvPr>
        </p:nvSpPr>
        <p:spPr>
          <a:xfrm>
            <a:off x="1282680" y="571680"/>
            <a:ext cx="4444920" cy="3333600"/>
          </a:xfrm>
          <a:prstGeom prst="rect">
            <a:avLst/>
          </a:prstGeom>
          <a:ln w="0">
            <a:noFill/>
          </a:ln>
        </p:spPr>
      </p:sp>
      <p:sp>
        <p:nvSpPr>
          <p:cNvPr id="594"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A6B74E1-8B17-4BC5-9CE2-34D4A5CE8FB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44" name="PlaceHolder 1"/>
          <p:cNvSpPr>
            <a:spLocks noGrp="1"/>
          </p:cNvSpPr>
          <p:nvPr>
            <p:ph type="sldImg"/>
          </p:nvPr>
        </p:nvSpPr>
        <p:spPr>
          <a:xfrm>
            <a:off x="1282680" y="571680"/>
            <a:ext cx="4444920" cy="3333600"/>
          </a:xfrm>
          <a:prstGeom prst="rect">
            <a:avLst/>
          </a:prstGeom>
          <a:ln w="0">
            <a:noFill/>
          </a:ln>
        </p:spPr>
      </p:sp>
      <p:sp>
        <p:nvSpPr>
          <p:cNvPr id="645"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6A7F1D7-8A90-4E99-9A7D-C56B3D7E646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47" name="PlaceHolder 1"/>
          <p:cNvSpPr>
            <a:spLocks noGrp="1"/>
          </p:cNvSpPr>
          <p:nvPr>
            <p:ph type="sldImg"/>
          </p:nvPr>
        </p:nvSpPr>
        <p:spPr>
          <a:xfrm>
            <a:off x="1282680" y="571680"/>
            <a:ext cx="4444920" cy="3333600"/>
          </a:xfrm>
          <a:prstGeom prst="rect">
            <a:avLst/>
          </a:prstGeom>
          <a:ln w="0">
            <a:noFill/>
          </a:ln>
        </p:spPr>
      </p:sp>
      <p:sp>
        <p:nvSpPr>
          <p:cNvPr id="648"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9FBA672-39A6-4CB3-9D5D-6E883AC2CC2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50" name="PlaceHolder 1"/>
          <p:cNvSpPr>
            <a:spLocks noGrp="1"/>
          </p:cNvSpPr>
          <p:nvPr>
            <p:ph type="sldImg"/>
          </p:nvPr>
        </p:nvSpPr>
        <p:spPr>
          <a:xfrm>
            <a:off x="1282680" y="571680"/>
            <a:ext cx="4444920" cy="3333600"/>
          </a:xfrm>
          <a:prstGeom prst="rect">
            <a:avLst/>
          </a:prstGeom>
          <a:ln w="0">
            <a:noFill/>
          </a:ln>
        </p:spPr>
      </p:sp>
      <p:sp>
        <p:nvSpPr>
          <p:cNvPr id="651"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C1B6462-7D55-438E-B409-D836ED9999B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53" name="PlaceHolder 1"/>
          <p:cNvSpPr>
            <a:spLocks noGrp="1"/>
          </p:cNvSpPr>
          <p:nvPr>
            <p:ph type="sldImg"/>
          </p:nvPr>
        </p:nvSpPr>
        <p:spPr>
          <a:xfrm>
            <a:off x="1282680" y="571680"/>
            <a:ext cx="4444920" cy="3333600"/>
          </a:xfrm>
          <a:prstGeom prst="rect">
            <a:avLst/>
          </a:prstGeom>
          <a:ln w="0">
            <a:noFill/>
          </a:ln>
        </p:spPr>
      </p:sp>
      <p:sp>
        <p:nvSpPr>
          <p:cNvPr id="654"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71561D6-AC87-46D7-BC26-C03D5A270CA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56" name="PlaceHolder 1"/>
          <p:cNvSpPr>
            <a:spLocks noGrp="1"/>
          </p:cNvSpPr>
          <p:nvPr>
            <p:ph type="sldImg"/>
          </p:nvPr>
        </p:nvSpPr>
        <p:spPr>
          <a:xfrm>
            <a:off x="1282680" y="571680"/>
            <a:ext cx="4444920" cy="3333600"/>
          </a:xfrm>
          <a:prstGeom prst="rect">
            <a:avLst/>
          </a:prstGeom>
          <a:ln w="0">
            <a:noFill/>
          </a:ln>
        </p:spPr>
      </p:sp>
      <p:sp>
        <p:nvSpPr>
          <p:cNvPr id="657"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53E025B-72FD-41EE-8295-1A7DBC33980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96" name="PlaceHolder 1"/>
          <p:cNvSpPr>
            <a:spLocks noGrp="1"/>
          </p:cNvSpPr>
          <p:nvPr>
            <p:ph type="sldImg"/>
          </p:nvPr>
        </p:nvSpPr>
        <p:spPr>
          <a:xfrm>
            <a:off x="1282680" y="571680"/>
            <a:ext cx="4444920" cy="3333600"/>
          </a:xfrm>
          <a:prstGeom prst="rect">
            <a:avLst/>
          </a:prstGeom>
          <a:ln w="0">
            <a:noFill/>
          </a:ln>
        </p:spPr>
      </p:sp>
      <p:sp>
        <p:nvSpPr>
          <p:cNvPr id="597"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EA4FAB0-FAB8-479E-86F9-2512FC17F79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59" name="PlaceHolder 1"/>
          <p:cNvSpPr>
            <a:spLocks noGrp="1"/>
          </p:cNvSpPr>
          <p:nvPr>
            <p:ph type="sldImg"/>
          </p:nvPr>
        </p:nvSpPr>
        <p:spPr>
          <a:xfrm>
            <a:off x="1282680" y="571680"/>
            <a:ext cx="4444920" cy="3333600"/>
          </a:xfrm>
          <a:prstGeom prst="rect">
            <a:avLst/>
          </a:prstGeom>
          <a:ln w="0">
            <a:noFill/>
          </a:ln>
        </p:spPr>
      </p:sp>
      <p:sp>
        <p:nvSpPr>
          <p:cNvPr id="660"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A20C17E-D205-4FAC-9D53-A3A8061DE59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62" name="PlaceHolder 1"/>
          <p:cNvSpPr>
            <a:spLocks noGrp="1"/>
          </p:cNvSpPr>
          <p:nvPr>
            <p:ph type="sldImg"/>
          </p:nvPr>
        </p:nvSpPr>
        <p:spPr>
          <a:xfrm>
            <a:off x="1282680" y="571680"/>
            <a:ext cx="4444920" cy="3333600"/>
          </a:xfrm>
          <a:prstGeom prst="rect">
            <a:avLst/>
          </a:prstGeom>
          <a:ln w="0">
            <a:noFill/>
          </a:ln>
        </p:spPr>
      </p:sp>
      <p:sp>
        <p:nvSpPr>
          <p:cNvPr id="663"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AC5132C-12F6-47AD-94F8-29EDFE22BE7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65" name="PlaceHolder 1"/>
          <p:cNvSpPr>
            <a:spLocks noGrp="1"/>
          </p:cNvSpPr>
          <p:nvPr>
            <p:ph type="sldImg"/>
          </p:nvPr>
        </p:nvSpPr>
        <p:spPr>
          <a:xfrm>
            <a:off x="1282680" y="571680"/>
            <a:ext cx="4444920" cy="3333600"/>
          </a:xfrm>
          <a:prstGeom prst="rect">
            <a:avLst/>
          </a:prstGeom>
          <a:ln w="0">
            <a:noFill/>
          </a:ln>
        </p:spPr>
      </p:sp>
      <p:sp>
        <p:nvSpPr>
          <p:cNvPr id="666"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2EFCC39-52A7-46AB-984A-986D050F6CD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68" name="PlaceHolder 1"/>
          <p:cNvSpPr>
            <a:spLocks noGrp="1"/>
          </p:cNvSpPr>
          <p:nvPr>
            <p:ph type="sldImg"/>
          </p:nvPr>
        </p:nvSpPr>
        <p:spPr>
          <a:xfrm>
            <a:off x="1282680" y="571680"/>
            <a:ext cx="4444920" cy="3333600"/>
          </a:xfrm>
          <a:prstGeom prst="rect">
            <a:avLst/>
          </a:prstGeom>
          <a:ln w="0">
            <a:noFill/>
          </a:ln>
        </p:spPr>
      </p:sp>
      <p:sp>
        <p:nvSpPr>
          <p:cNvPr id="669"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0A1583C-6652-4EBB-85D9-B284247A74A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71" name="PlaceHolder 1"/>
          <p:cNvSpPr>
            <a:spLocks noGrp="1"/>
          </p:cNvSpPr>
          <p:nvPr>
            <p:ph type="sldImg"/>
          </p:nvPr>
        </p:nvSpPr>
        <p:spPr>
          <a:xfrm>
            <a:off x="1282680" y="571680"/>
            <a:ext cx="4444920" cy="3333600"/>
          </a:xfrm>
          <a:prstGeom prst="rect">
            <a:avLst/>
          </a:prstGeom>
          <a:ln w="0">
            <a:noFill/>
          </a:ln>
        </p:spPr>
      </p:sp>
      <p:sp>
        <p:nvSpPr>
          <p:cNvPr id="672"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A188102-6805-48FE-9C7E-33A6E297C66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74" name="PlaceHolder 1"/>
          <p:cNvSpPr>
            <a:spLocks noGrp="1"/>
          </p:cNvSpPr>
          <p:nvPr>
            <p:ph type="sldImg"/>
          </p:nvPr>
        </p:nvSpPr>
        <p:spPr>
          <a:xfrm>
            <a:off x="1282680" y="571680"/>
            <a:ext cx="4444920" cy="3333600"/>
          </a:xfrm>
          <a:prstGeom prst="rect">
            <a:avLst/>
          </a:prstGeom>
          <a:ln w="0">
            <a:noFill/>
          </a:ln>
        </p:spPr>
      </p:sp>
      <p:sp>
        <p:nvSpPr>
          <p:cNvPr id="675"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A972FF0-3BAA-464A-8511-63DD1165617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99" name="PlaceHolder 1"/>
          <p:cNvSpPr>
            <a:spLocks noGrp="1"/>
          </p:cNvSpPr>
          <p:nvPr>
            <p:ph type="sldImg"/>
          </p:nvPr>
        </p:nvSpPr>
        <p:spPr>
          <a:xfrm>
            <a:off x="1282680" y="571680"/>
            <a:ext cx="4444920" cy="3333600"/>
          </a:xfrm>
          <a:prstGeom prst="rect">
            <a:avLst/>
          </a:prstGeom>
          <a:ln w="0">
            <a:noFill/>
          </a:ln>
        </p:spPr>
      </p:sp>
      <p:sp>
        <p:nvSpPr>
          <p:cNvPr id="600"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F2B0088-A213-41EA-ADC7-DC5EF085D47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77" name="PlaceHolder 1"/>
          <p:cNvSpPr>
            <a:spLocks noGrp="1"/>
          </p:cNvSpPr>
          <p:nvPr>
            <p:ph type="sldImg"/>
          </p:nvPr>
        </p:nvSpPr>
        <p:spPr>
          <a:xfrm>
            <a:off x="1282680" y="571680"/>
            <a:ext cx="4444920" cy="3333600"/>
          </a:xfrm>
          <a:prstGeom prst="rect">
            <a:avLst/>
          </a:prstGeom>
          <a:ln w="0">
            <a:noFill/>
          </a:ln>
        </p:spPr>
      </p:sp>
      <p:sp>
        <p:nvSpPr>
          <p:cNvPr id="678"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878040" y="244440"/>
            <a:ext cx="5306760" cy="3979800"/>
          </a:xfrm>
          <a:prstGeom prst="rect">
            <a:avLst/>
          </a:prstGeom>
          <a:ln w="0">
            <a:noFill/>
          </a:ln>
        </p:spPr>
      </p:sp>
      <p:sp>
        <p:nvSpPr>
          <p:cNvPr id="680" name="PlaceHolder 2"/>
          <p:cNvSpPr>
            <a:spLocks noGrp="1"/>
          </p:cNvSpPr>
          <p:nvPr>
            <p:ph type="body"/>
          </p:nvPr>
        </p:nvSpPr>
        <p:spPr>
          <a:xfrm>
            <a:off x="402840" y="4365360"/>
            <a:ext cx="6110280" cy="4241880"/>
          </a:xfrm>
          <a:prstGeom prst="rect">
            <a:avLst/>
          </a:prstGeom>
          <a:noFill/>
          <a:ln w="0">
            <a:noFill/>
          </a:ln>
        </p:spPr>
        <p:txBody>
          <a:bodyPr lIns="95400" rIns="95400" tIns="50040" bIns="50040"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imeouts interdigit</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is task configures the interdigit timeout value for all Cisco IP phones. The interdigit timeout is the amount of time that can elapse between the dialing of digits before the dialing process times out and is terminated.</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imeouts ringing</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ringing timeout is the amount of time a phone can ring with no answer before returning a disconnect code to the caller. This timeout is used only for extensions that do not have no-answer call forwarding enabled. The ringing timeout prevents hung calls received over interfaces such as Foreign Exchange Office (FXO) that do not have forward-disconnect supervision.</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7D200EE-0251-4BE6-A684-AECCFF922FD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82" name="PlaceHolder 1"/>
          <p:cNvSpPr>
            <a:spLocks noGrp="1"/>
          </p:cNvSpPr>
          <p:nvPr>
            <p:ph type="sldImg"/>
          </p:nvPr>
        </p:nvSpPr>
        <p:spPr>
          <a:xfrm>
            <a:off x="1282680" y="571680"/>
            <a:ext cx="4444920" cy="3333600"/>
          </a:xfrm>
          <a:prstGeom prst="rect">
            <a:avLst/>
          </a:prstGeom>
          <a:ln w="0">
            <a:noFill/>
          </a:ln>
        </p:spPr>
      </p:sp>
      <p:sp>
        <p:nvSpPr>
          <p:cNvPr id="683"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4ADB024-96B3-40BC-B965-6AF301D08DB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85" name="PlaceHolder 1"/>
          <p:cNvSpPr>
            <a:spLocks noGrp="1"/>
          </p:cNvSpPr>
          <p:nvPr>
            <p:ph type="sldImg"/>
          </p:nvPr>
        </p:nvSpPr>
        <p:spPr>
          <a:xfrm>
            <a:off x="1282680" y="571680"/>
            <a:ext cx="4444920" cy="3333600"/>
          </a:xfrm>
          <a:prstGeom prst="rect">
            <a:avLst/>
          </a:prstGeom>
          <a:ln w="0">
            <a:noFill/>
          </a:ln>
        </p:spPr>
      </p:sp>
      <p:sp>
        <p:nvSpPr>
          <p:cNvPr id="686"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BF4CF1C-3926-402F-B846-0BD4DF42B09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88" name="PlaceHolder 1"/>
          <p:cNvSpPr>
            <a:spLocks noGrp="1"/>
          </p:cNvSpPr>
          <p:nvPr>
            <p:ph type="sldImg"/>
          </p:nvPr>
        </p:nvSpPr>
        <p:spPr>
          <a:xfrm>
            <a:off x="1282680" y="571680"/>
            <a:ext cx="4444920" cy="3333600"/>
          </a:xfrm>
          <a:prstGeom prst="rect">
            <a:avLst/>
          </a:prstGeom>
          <a:ln w="0">
            <a:noFill/>
          </a:ln>
        </p:spPr>
      </p:sp>
      <p:sp>
        <p:nvSpPr>
          <p:cNvPr id="689"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5918040" y="8656560"/>
            <a:ext cx="8128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D04D617-64DD-46A6-90B9-4B18BE514A0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02" name="PlaceHolder 1"/>
          <p:cNvSpPr>
            <a:spLocks noGrp="1"/>
          </p:cNvSpPr>
          <p:nvPr>
            <p:ph type="sldImg"/>
          </p:nvPr>
        </p:nvSpPr>
        <p:spPr>
          <a:xfrm>
            <a:off x="1282680" y="571680"/>
            <a:ext cx="4444920" cy="3333600"/>
          </a:xfrm>
          <a:prstGeom prst="rect">
            <a:avLst/>
          </a:prstGeom>
          <a:ln w="0">
            <a:noFill/>
          </a:ln>
        </p:spPr>
      </p:sp>
      <p:sp>
        <p:nvSpPr>
          <p:cNvPr id="603"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2"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0"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5"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0"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23F362F-CD27-43DA-AC3C-C126FDAB7C19}"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7"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8"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7" name="" descr=""/>
          <p:cNvPicPr/>
          <p:nvPr/>
        </p:nvPicPr>
        <p:blipFill>
          <a:blip r:embed="rId2"/>
          <a:stretch/>
        </p:blipFill>
        <p:spPr>
          <a:xfrm>
            <a:off x="461880" y="485640"/>
            <a:ext cx="866880" cy="457200"/>
          </a:xfrm>
          <a:prstGeom prst="rect">
            <a:avLst/>
          </a:prstGeom>
          <a:ln w="0">
            <a:noFill/>
          </a:ln>
        </p:spPr>
      </p:pic>
      <p:sp>
        <p:nvSpPr>
          <p:cNvPr id="4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9"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0"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1"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BBEBB09-FF7D-4617-BFFB-ACD2DFC79ADE}"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52"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53"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54"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router_ipaddr/ccme.html" TargetMode="External"/><Relationship Id="rId2" Type="http://schemas.openxmlformats.org/officeDocument/2006/relationships/hyperlink" Target="http://router_ipaddr/ccme.html" TargetMode="Externa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CME Additional Features</a:t>
            </a:r>
            <a:endParaRPr b="1" lang="en-US" sz="3000" spc="-1" strike="noStrike">
              <a:solidFill>
                <a:srgbClr val="ffffff"/>
              </a:solidFill>
              <a:latin typeface="Arial"/>
            </a:endParaRPr>
          </a:p>
        </p:txBody>
      </p:sp>
      <p:sp>
        <p:nvSpPr>
          <p:cNvPr id="100"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Networking Academy Program</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ccessing the GUI</a:t>
            </a:r>
            <a:endParaRPr b="1" lang="en-US" sz="3000" spc="-1" strike="noStrike">
              <a:solidFill>
                <a:srgbClr val="ffffff"/>
              </a:solidFill>
              <a:latin typeface="Arial"/>
            </a:endParaRPr>
          </a:p>
        </p:txBody>
      </p:sp>
      <p:sp>
        <p:nvSpPr>
          <p:cNvPr id="14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The GUI in CallManager Express is Web-based</a:t>
            </a:r>
            <a:endParaRPr b="1" lang="en-US" sz="26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 IE 6.0 or greate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 the URL</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Hyperlink: </a:t>
            </a:r>
            <a:r>
              <a:rPr b="1" lang="en-US" sz="2000" spc="-1" strike="noStrike" u="sng">
                <a:solidFill>
                  <a:srgbClr val="9999cc"/>
                </a:solidFill>
                <a:uFillTx/>
                <a:latin typeface="Arial"/>
                <a:hlinkClick r:id="rId1"/>
              </a:rPr>
              <a:t>http://</a:t>
            </a:r>
            <a:r>
              <a:rPr b="1" lang="en-US" sz="2000" spc="-1" strike="noStrike" u="sng">
                <a:solidFill>
                  <a:srgbClr val="9999cc"/>
                </a:solidFill>
                <a:uFillTx/>
                <a:latin typeface="Arial"/>
                <a:hlinkClick r:id="rId2"/>
              </a:rPr>
              <a:t>router_ipaddr/ccme.html</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ter either system admin, customer admin or phone user credentials when prompted </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a:t>
            </a:r>
            <a:endParaRPr b="1" lang="en-US" sz="3000" spc="-1" strike="noStrike">
              <a:solidFill>
                <a:srgbClr val="ffffff"/>
              </a:solidFill>
              <a:latin typeface="Arial"/>
            </a:endParaRPr>
          </a:p>
        </p:txBody>
      </p:sp>
      <p:sp>
        <p:nvSpPr>
          <p:cNvPr id="147" name="PlaceHolder 2"/>
          <p:cNvSpPr>
            <a:spLocks noGrp="1"/>
          </p:cNvSpPr>
          <p:nvPr>
            <p:ph/>
          </p:nvPr>
        </p:nvSpPr>
        <p:spPr>
          <a:xfrm>
            <a:off x="655560" y="2971440"/>
            <a:ext cx="7940880" cy="19321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reate and load a custom XML configuration file </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fine the customer administrator credentials </a:t>
            </a:r>
            <a:endParaRPr b="1" lang="en-US" sz="2400" spc="-1" strike="noStrike">
              <a:solidFill>
                <a:srgbClr val="000000"/>
              </a:solidFill>
              <a:latin typeface="Arial"/>
            </a:endParaRPr>
          </a:p>
        </p:txBody>
      </p:sp>
      <p:sp>
        <p:nvSpPr>
          <p:cNvPr id="148" name=""/>
          <p:cNvSpPr/>
          <p:nvPr/>
        </p:nvSpPr>
        <p:spPr>
          <a:xfrm>
            <a:off x="654120" y="1627200"/>
            <a:ext cx="8051760" cy="156744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To configure a customer administrator with a subset of the system administrator access, two steps must be taken:</a:t>
            </a:r>
            <a:endParaRPr b="0" lang="en-US" sz="26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sp>
        <p:nvSpPr>
          <p:cNvPr id="150" name="PlaceHolder 2"/>
          <p:cNvSpPr>
            <a:spLocks noGrp="1"/>
          </p:cNvSpPr>
          <p:nvPr>
            <p:ph/>
          </p:nvPr>
        </p:nvSpPr>
        <p:spPr>
          <a:xfrm>
            <a:off x="655560" y="2590920"/>
            <a:ext cx="7940880" cy="350496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1 - Open a copy of the xml.template file in a text editor</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2 - Edit the file with desired changes to access</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3 - Save the file with a desired nam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4 - Upload to flash on the CallManager Express router via TFTP or FTP </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5 - Load the template from flash to the RAM on the CallManager Express router</a:t>
            </a:r>
            <a:endParaRPr b="1" lang="en-US" sz="2400" spc="-1" strike="noStrike">
              <a:solidFill>
                <a:srgbClr val="000000"/>
              </a:solidFill>
              <a:latin typeface="Arial"/>
            </a:endParaRPr>
          </a:p>
        </p:txBody>
      </p:sp>
      <p:sp>
        <p:nvSpPr>
          <p:cNvPr id="151" name=""/>
          <p:cNvSpPr/>
          <p:nvPr/>
        </p:nvSpPr>
        <p:spPr>
          <a:xfrm>
            <a:off x="654120" y="1627200"/>
            <a:ext cx="8051760" cy="83484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reating and loading an XML configuration file is a five step proces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952560" y="2057400"/>
            <a:ext cx="7010280" cy="4419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 – Demonstration</a:t>
            </a:r>
            <a:endParaRPr b="1" lang="en-US" sz="3000" spc="-1" strike="noStrike">
              <a:solidFill>
                <a:srgbClr val="ffffff"/>
              </a:solidFill>
              <a:latin typeface="Arial"/>
            </a:endParaRPr>
          </a:p>
        </p:txBody>
      </p:sp>
      <p:sp>
        <p:nvSpPr>
          <p:cNvPr id="154" name=""/>
          <p:cNvSpPr/>
          <p:nvPr/>
        </p:nvSpPr>
        <p:spPr>
          <a:xfrm>
            <a:off x="380880" y="1523880"/>
            <a:ext cx="8224920" cy="75276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1 – Copy of xml.template in text editor</a:t>
            </a:r>
            <a:endParaRPr b="0" lang="en-US" sz="2400" spc="-1" strike="noStrike">
              <a:solidFill>
                <a:srgbClr val="000000"/>
              </a:solidFill>
              <a:latin typeface="Arial"/>
            </a:endParaRPr>
          </a:p>
        </p:txBody>
      </p:sp>
      <p:sp>
        <p:nvSpPr>
          <p:cNvPr id="155" name=""/>
          <p:cNvSpPr/>
          <p:nvPr/>
        </p:nvSpPr>
        <p:spPr>
          <a:xfrm>
            <a:off x="990720" y="2057400"/>
            <a:ext cx="6933960" cy="452376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Presentat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ainMenu&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 Take Higher Precedence over CLI "dn-web-edit" --&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ddExtension&gt; [Hide | Show] &lt;/Add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DeleteExtension&gt; [Hide | Show] &lt;/Delete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ddPhone&gt; [Hide | Show] &lt;/AddPhon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DeletePhone&gt; [Hide | Show] &lt;/DeletePhon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ainMenu&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Control both view and change, and possible add or delet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SequenceNumber&gt; [Hide | Show] &lt;/SequenceNumber&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Type&gt; [Hide | Show] &lt;/Typ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Huntstop&gt; [Hide | Show] &lt;/Huntstop&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Preference&gt; [Hide | Show] &lt;/Preferenc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HoldAlert&gt; [Hide | Show] &lt;/HoldAlert&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TranslationRules&gt; [Hide | Show] &lt;/TranslationRules&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Paging&gt; [Hide | Show] &lt;/Paging&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Intercom&gt; [Hide | Show] &lt;/Intercom&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WI&gt; [Hide | Show] &lt;/MWI&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oH&gt; [Hide | Show] &lt;/MoH&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LBDN&gt; [Hide | Show] &lt;/LBD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DualLine&gt; [Hide | Show] &lt;/DualLin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Reg&gt; [Hide | Show] &lt;/Reg&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PGroup&gt; [Hide | Show] &lt;/PGroup&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952560" y="2057400"/>
            <a:ext cx="7010280" cy="419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 – Demonstration</a:t>
            </a:r>
            <a:endParaRPr b="1" lang="en-US" sz="3000" spc="-1" strike="noStrike">
              <a:solidFill>
                <a:srgbClr val="ffffff"/>
              </a:solidFill>
              <a:latin typeface="Arial"/>
            </a:endParaRPr>
          </a:p>
        </p:txBody>
      </p:sp>
      <p:sp>
        <p:nvSpPr>
          <p:cNvPr id="158" name=""/>
          <p:cNvSpPr/>
          <p:nvPr/>
        </p:nvSpPr>
        <p:spPr>
          <a:xfrm>
            <a:off x="380880" y="1523880"/>
            <a:ext cx="8224920" cy="752760"/>
          </a:xfrm>
          <a:prstGeom prst="rect">
            <a:avLst/>
          </a:prstGeom>
          <a:noFill/>
          <a:ln w="0">
            <a:noFill/>
          </a:ln>
        </p:spPr>
        <p:style>
          <a:lnRef idx="0"/>
          <a:fillRef idx="0"/>
          <a:effectRef idx="0"/>
          <a:fontRef idx="minor"/>
        </p:style>
        <p:txBody>
          <a:bodyPr lIns="82080" rIns="82080" tIns="128160" bIns="41040" anchor="t">
            <a:noAutofit/>
          </a:bodyPr>
          <a:p>
            <a:pPr lvl="1" marL="344520" indent="-23004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2 - xml.template in text editor</a:t>
            </a:r>
            <a:endParaRPr b="0" lang="en-US" sz="2400" spc="-1" strike="noStrike">
              <a:solidFill>
                <a:srgbClr val="000000"/>
              </a:solidFill>
              <a:latin typeface="Arial"/>
            </a:endParaRPr>
          </a:p>
        </p:txBody>
      </p:sp>
      <p:sp>
        <p:nvSpPr>
          <p:cNvPr id="159" name=""/>
          <p:cNvSpPr/>
          <p:nvPr/>
        </p:nvSpPr>
        <p:spPr>
          <a:xfrm>
            <a:off x="990720" y="2057400"/>
            <a:ext cx="6933960" cy="417708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Presentat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ainMenu&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ddExtension&gt; </a:t>
            </a:r>
            <a:r>
              <a:rPr b="1" lang="en-US" sz="1200" spc="-1" strike="noStrike">
                <a:solidFill>
                  <a:srgbClr val="ff3300"/>
                </a:solidFill>
                <a:latin typeface="Courier New"/>
              </a:rPr>
              <a:t>Hide</a:t>
            </a:r>
            <a:r>
              <a:rPr b="1" lang="en-US" sz="1200" spc="-1" strike="noStrike">
                <a:solidFill>
                  <a:srgbClr val="000000"/>
                </a:solidFill>
                <a:latin typeface="Courier New"/>
              </a:rPr>
              <a:t> &lt;/Add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DeleteExtension&gt; </a:t>
            </a:r>
            <a:r>
              <a:rPr b="1" lang="en-US" sz="1200" spc="-1" strike="noStrike">
                <a:solidFill>
                  <a:srgbClr val="ff3300"/>
                </a:solidFill>
                <a:latin typeface="Courier New"/>
              </a:rPr>
              <a:t>Hide</a:t>
            </a:r>
            <a:r>
              <a:rPr b="1" lang="en-US" sz="1200" spc="-1" strike="noStrike">
                <a:solidFill>
                  <a:srgbClr val="000000"/>
                </a:solidFill>
                <a:latin typeface="Courier New"/>
              </a:rPr>
              <a:t> &lt;/Delete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ddPhone&gt; </a:t>
            </a:r>
            <a:r>
              <a:rPr b="1" lang="en-US" sz="1200" spc="-1" strike="noStrike">
                <a:solidFill>
                  <a:srgbClr val="ff3300"/>
                </a:solidFill>
                <a:latin typeface="Courier New"/>
              </a:rPr>
              <a:t>Show</a:t>
            </a:r>
            <a:r>
              <a:rPr b="1" lang="en-US" sz="1200" spc="-1" strike="noStrike">
                <a:solidFill>
                  <a:srgbClr val="000000"/>
                </a:solidFill>
                <a:latin typeface="Courier New"/>
              </a:rPr>
              <a:t> &lt;/AddPhon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DeletePhone&gt; </a:t>
            </a:r>
            <a:r>
              <a:rPr b="1" lang="en-US" sz="1200" spc="-1" strike="noStrike">
                <a:solidFill>
                  <a:srgbClr val="ff3300"/>
                </a:solidFill>
                <a:latin typeface="Courier New"/>
              </a:rPr>
              <a:t>Show</a:t>
            </a:r>
            <a:r>
              <a:rPr b="1" lang="en-US" sz="1200" spc="-1" strike="noStrike">
                <a:solidFill>
                  <a:srgbClr val="000000"/>
                </a:solidFill>
                <a:latin typeface="Courier New"/>
              </a:rPr>
              <a:t> &lt;/DeletePhon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ainMenu&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SequenceNumber&gt; </a:t>
            </a:r>
            <a:r>
              <a:rPr b="1" lang="en-US" sz="1200" spc="-1" strike="noStrike">
                <a:solidFill>
                  <a:srgbClr val="ff3300"/>
                </a:solidFill>
                <a:latin typeface="Courier New"/>
              </a:rPr>
              <a:t>Hide</a:t>
            </a:r>
            <a:r>
              <a:rPr b="1" lang="en-US" sz="1200" spc="-1" strike="noStrike">
                <a:solidFill>
                  <a:srgbClr val="000000"/>
                </a:solidFill>
                <a:latin typeface="Courier New"/>
              </a:rPr>
              <a:t> &lt;/SequenceNumber&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Type&gt; </a:t>
            </a:r>
            <a:r>
              <a:rPr b="1" lang="en-US" sz="1200" spc="-1" strike="noStrike">
                <a:solidFill>
                  <a:srgbClr val="ff3300"/>
                </a:solidFill>
                <a:latin typeface="Courier New"/>
              </a:rPr>
              <a:t>Hide</a:t>
            </a:r>
            <a:r>
              <a:rPr b="1" lang="en-US" sz="1200" spc="-1" strike="noStrike">
                <a:solidFill>
                  <a:srgbClr val="000000"/>
                </a:solidFill>
                <a:latin typeface="Courier New"/>
              </a:rPr>
              <a:t> &lt;/Typ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Huntstop&gt; </a:t>
            </a:r>
            <a:r>
              <a:rPr b="1" lang="en-US" sz="1200" spc="-1" strike="noStrike">
                <a:solidFill>
                  <a:srgbClr val="ff3300"/>
                </a:solidFill>
                <a:latin typeface="Courier New"/>
              </a:rPr>
              <a:t>Hide</a:t>
            </a:r>
            <a:r>
              <a:rPr b="1" lang="en-US" sz="1200" spc="-1" strike="noStrike">
                <a:solidFill>
                  <a:srgbClr val="000000"/>
                </a:solidFill>
                <a:latin typeface="Courier New"/>
              </a:rPr>
              <a:t> &lt;/Huntstop&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Preference&gt; </a:t>
            </a:r>
            <a:r>
              <a:rPr b="1" lang="en-US" sz="1200" spc="-1" strike="noStrike">
                <a:solidFill>
                  <a:srgbClr val="ff3300"/>
                </a:solidFill>
                <a:latin typeface="Courier New"/>
              </a:rPr>
              <a:t>Hide</a:t>
            </a:r>
            <a:r>
              <a:rPr b="1" lang="en-US" sz="1200" spc="-1" strike="noStrike">
                <a:solidFill>
                  <a:srgbClr val="000000"/>
                </a:solidFill>
                <a:latin typeface="Courier New"/>
              </a:rPr>
              <a:t> &lt;/Preferenc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HoldAlert&gt; </a:t>
            </a:r>
            <a:r>
              <a:rPr b="1" lang="en-US" sz="1200" spc="-1" strike="noStrike">
                <a:solidFill>
                  <a:srgbClr val="ff3300"/>
                </a:solidFill>
                <a:latin typeface="Courier New"/>
              </a:rPr>
              <a:t>Hide</a:t>
            </a:r>
            <a:r>
              <a:rPr b="1" lang="en-US" sz="1200" spc="-1" strike="noStrike">
                <a:solidFill>
                  <a:srgbClr val="000000"/>
                </a:solidFill>
                <a:latin typeface="Courier New"/>
              </a:rPr>
              <a:t> &lt;/HoldAlert&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TranslationRule&gt; </a:t>
            </a:r>
            <a:r>
              <a:rPr b="1" lang="en-US" sz="1200" spc="-1" strike="noStrike">
                <a:solidFill>
                  <a:srgbClr val="ff3300"/>
                </a:solidFill>
                <a:latin typeface="Courier New"/>
              </a:rPr>
              <a:t>Hide</a:t>
            </a:r>
            <a:r>
              <a:rPr b="1" lang="en-US" sz="1200" spc="-1" strike="noStrike">
                <a:solidFill>
                  <a:srgbClr val="000000"/>
                </a:solidFill>
                <a:latin typeface="Courier New"/>
              </a:rPr>
              <a:t> &lt;/TranslationRul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Paging&gt; </a:t>
            </a:r>
            <a:r>
              <a:rPr b="1" lang="en-US" sz="1200" spc="-1" strike="noStrike">
                <a:solidFill>
                  <a:srgbClr val="ff3300"/>
                </a:solidFill>
                <a:latin typeface="Courier New"/>
              </a:rPr>
              <a:t>Show</a:t>
            </a:r>
            <a:r>
              <a:rPr b="1" lang="en-US" sz="1200" spc="-1" strike="noStrike">
                <a:solidFill>
                  <a:srgbClr val="000000"/>
                </a:solidFill>
                <a:latin typeface="Courier New"/>
              </a:rPr>
              <a:t> &lt;/Paging&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Intercom&gt; </a:t>
            </a:r>
            <a:r>
              <a:rPr b="1" lang="en-US" sz="1200" spc="-1" strike="noStrike">
                <a:solidFill>
                  <a:srgbClr val="ff3300"/>
                </a:solidFill>
                <a:latin typeface="Courier New"/>
              </a:rPr>
              <a:t>Hide</a:t>
            </a:r>
            <a:r>
              <a:rPr b="1" lang="en-US" sz="1200" spc="-1" strike="noStrike">
                <a:solidFill>
                  <a:srgbClr val="000000"/>
                </a:solidFill>
                <a:latin typeface="Courier New"/>
              </a:rPr>
              <a:t> &lt;/Intercom&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WI&gt; </a:t>
            </a:r>
            <a:r>
              <a:rPr b="1" lang="en-US" sz="1200" spc="-1" strike="noStrike">
                <a:solidFill>
                  <a:srgbClr val="ff3300"/>
                </a:solidFill>
                <a:latin typeface="Courier New"/>
              </a:rPr>
              <a:t>Hide</a:t>
            </a:r>
            <a:r>
              <a:rPr b="1" lang="en-US" sz="1200" spc="-1" strike="noStrike">
                <a:solidFill>
                  <a:srgbClr val="000000"/>
                </a:solidFill>
                <a:latin typeface="Courier New"/>
              </a:rPr>
              <a:t> &lt;/MWI&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MoH&gt; </a:t>
            </a:r>
            <a:r>
              <a:rPr b="1" lang="en-US" sz="1200" spc="-1" strike="noStrike">
                <a:solidFill>
                  <a:srgbClr val="ff3300"/>
                </a:solidFill>
                <a:latin typeface="Courier New"/>
              </a:rPr>
              <a:t>Hide</a:t>
            </a:r>
            <a:r>
              <a:rPr b="1" lang="en-US" sz="1200" spc="-1" strike="noStrike">
                <a:solidFill>
                  <a:srgbClr val="000000"/>
                </a:solidFill>
                <a:latin typeface="Courier New"/>
              </a:rPr>
              <a:t> &lt;/MoH&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LBDN&gt; </a:t>
            </a:r>
            <a:r>
              <a:rPr b="1" lang="en-US" sz="1200" spc="-1" strike="noStrike">
                <a:solidFill>
                  <a:srgbClr val="ff3300"/>
                </a:solidFill>
                <a:latin typeface="Courier New"/>
              </a:rPr>
              <a:t>Hide</a:t>
            </a:r>
            <a:r>
              <a:rPr b="1" lang="en-US" sz="1200" spc="-1" strike="noStrike">
                <a:solidFill>
                  <a:srgbClr val="000000"/>
                </a:solidFill>
                <a:latin typeface="Courier New"/>
              </a:rPr>
              <a:t> &lt;/LBD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DualLine&gt; </a:t>
            </a:r>
            <a:r>
              <a:rPr b="1" lang="en-US" sz="1200" spc="-1" strike="noStrike">
                <a:solidFill>
                  <a:srgbClr val="ff3300"/>
                </a:solidFill>
                <a:latin typeface="Courier New"/>
              </a:rPr>
              <a:t>Hide</a:t>
            </a:r>
            <a:r>
              <a:rPr b="1" lang="en-US" sz="1200" spc="-1" strike="noStrike">
                <a:solidFill>
                  <a:srgbClr val="000000"/>
                </a:solidFill>
                <a:latin typeface="Courier New"/>
              </a:rPr>
              <a:t> &lt;/DualLine&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Reg&gt; </a:t>
            </a:r>
            <a:r>
              <a:rPr b="1" lang="en-US" sz="1200" spc="-1" strike="noStrike">
                <a:solidFill>
                  <a:srgbClr val="ff3300"/>
                </a:solidFill>
                <a:latin typeface="Courier New"/>
              </a:rPr>
              <a:t>Hide</a:t>
            </a:r>
            <a:r>
              <a:rPr b="1" lang="en-US" sz="1200" spc="-1" strike="noStrike">
                <a:solidFill>
                  <a:srgbClr val="000000"/>
                </a:solidFill>
                <a:latin typeface="Courier New"/>
              </a:rPr>
              <a:t> &lt;/Reg&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PGroup&gt; </a:t>
            </a:r>
            <a:r>
              <a:rPr b="1" lang="en-US" sz="1200" spc="-1" strike="noStrike">
                <a:solidFill>
                  <a:srgbClr val="ff3300"/>
                </a:solidFill>
                <a:latin typeface="Courier New"/>
              </a:rPr>
              <a:t>Hide</a:t>
            </a:r>
            <a:r>
              <a:rPr b="1" lang="en-US" sz="1200" spc="-1" strike="noStrike">
                <a:solidFill>
                  <a:srgbClr val="000000"/>
                </a:solidFill>
                <a:latin typeface="Courier New"/>
              </a:rPr>
              <a:t> &lt;/PGroup&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Extension&g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 – Demonstration Results</a:t>
            </a:r>
            <a:endParaRPr b="1" lang="en-US" sz="3000" spc="-1" strike="noStrike">
              <a:solidFill>
                <a:srgbClr val="ffffff"/>
              </a:solidFill>
              <a:latin typeface="Arial"/>
            </a:endParaRPr>
          </a:p>
        </p:txBody>
      </p:sp>
      <p:pic>
        <p:nvPicPr>
          <p:cNvPr id="161" name="" descr=""/>
          <p:cNvPicPr/>
          <p:nvPr/>
        </p:nvPicPr>
        <p:blipFill>
          <a:blip r:embed="rId1"/>
          <a:stretch/>
        </p:blipFill>
        <p:spPr>
          <a:xfrm>
            <a:off x="2971800" y="1371600"/>
            <a:ext cx="3733920" cy="3586320"/>
          </a:xfrm>
          <a:prstGeom prst="rect">
            <a:avLst/>
          </a:prstGeom>
          <a:ln w="0">
            <a:noFill/>
          </a:ln>
        </p:spPr>
      </p:pic>
      <p:pic>
        <p:nvPicPr>
          <p:cNvPr id="162" name="" descr=""/>
          <p:cNvPicPr/>
          <p:nvPr/>
        </p:nvPicPr>
        <p:blipFill>
          <a:blip r:embed="rId2"/>
          <a:stretch/>
        </p:blipFill>
        <p:spPr>
          <a:xfrm>
            <a:off x="5334120" y="2895480"/>
            <a:ext cx="3717720" cy="3571920"/>
          </a:xfrm>
          <a:prstGeom prst="rect">
            <a:avLst/>
          </a:prstGeom>
          <a:ln w="0">
            <a:noFill/>
          </a:ln>
        </p:spPr>
      </p:pic>
      <p:sp>
        <p:nvSpPr>
          <p:cNvPr id="163" name=""/>
          <p:cNvSpPr/>
          <p:nvPr/>
        </p:nvSpPr>
        <p:spPr>
          <a:xfrm>
            <a:off x="685800" y="5486400"/>
            <a:ext cx="3429000" cy="90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Modified XML Template applied</a:t>
            </a:r>
            <a:endParaRPr b="0" lang="en-US" sz="3000" spc="-1" strike="noStrike">
              <a:solidFill>
                <a:srgbClr val="000000"/>
              </a:solidFill>
              <a:latin typeface="Arial"/>
            </a:endParaRPr>
          </a:p>
        </p:txBody>
      </p:sp>
      <p:sp>
        <p:nvSpPr>
          <p:cNvPr id="164" name=""/>
          <p:cNvSpPr/>
          <p:nvPr/>
        </p:nvSpPr>
        <p:spPr>
          <a:xfrm>
            <a:off x="3581280" y="5791320"/>
            <a:ext cx="1447920" cy="0"/>
          </a:xfrm>
          <a:prstGeom prst="line">
            <a:avLst/>
          </a:prstGeom>
          <a:ln w="38160">
            <a:solidFill>
              <a:srgbClr val="00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65" name=""/>
          <p:cNvSpPr/>
          <p:nvPr/>
        </p:nvSpPr>
        <p:spPr>
          <a:xfrm>
            <a:off x="0" y="1828800"/>
            <a:ext cx="3124080" cy="13158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Default system Administrator access</a:t>
            </a:r>
            <a:endParaRPr b="0" lang="en-US" sz="3000" spc="-1" strike="noStrike">
              <a:solidFill>
                <a:srgbClr val="000000"/>
              </a:solidFill>
              <a:latin typeface="Arial"/>
            </a:endParaRPr>
          </a:p>
        </p:txBody>
      </p:sp>
      <p:sp>
        <p:nvSpPr>
          <p:cNvPr id="166" name=""/>
          <p:cNvSpPr/>
          <p:nvPr/>
        </p:nvSpPr>
        <p:spPr>
          <a:xfrm>
            <a:off x="1676520" y="2895480"/>
            <a:ext cx="1218960" cy="0"/>
          </a:xfrm>
          <a:prstGeom prst="line">
            <a:avLst/>
          </a:prstGeom>
          <a:ln w="38160">
            <a:solidFill>
              <a:srgbClr val="00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55560" y="1676520"/>
            <a:ext cx="795492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Define the custom administrator credentials in one of two ways:</a:t>
            </a:r>
            <a:endParaRPr b="0" lang="en-US" sz="28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rough the System Administrator GUI</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rom the CLI of the CallManager Express</a:t>
            </a:r>
            <a:endParaRPr b="0" lang="en-US" sz="2400" spc="-1" strike="noStrike">
              <a:solidFill>
                <a:srgbClr val="000000"/>
              </a:solidFill>
              <a:latin typeface="Arial"/>
            </a:endParaRPr>
          </a:p>
        </p:txBody>
      </p:sp>
      <p:sp>
        <p:nvSpPr>
          <p:cNvPr id="1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pic>
        <p:nvPicPr>
          <p:cNvPr id="170" name="" descr=""/>
          <p:cNvPicPr/>
          <p:nvPr/>
        </p:nvPicPr>
        <p:blipFill>
          <a:blip r:embed="rId1"/>
          <a:stretch/>
        </p:blipFill>
        <p:spPr>
          <a:xfrm>
            <a:off x="2286000" y="1600200"/>
            <a:ext cx="6705720" cy="4664160"/>
          </a:xfrm>
          <a:prstGeom prst="rect">
            <a:avLst/>
          </a:prstGeom>
          <a:ln w="0">
            <a:noFill/>
          </a:ln>
        </p:spPr>
      </p:pic>
      <p:sp>
        <p:nvSpPr>
          <p:cNvPr id="171" name=""/>
          <p:cNvSpPr/>
          <p:nvPr/>
        </p:nvSpPr>
        <p:spPr>
          <a:xfrm>
            <a:off x="5715000" y="4191120"/>
            <a:ext cx="990720" cy="22860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2" name=""/>
          <p:cNvSpPr/>
          <p:nvPr/>
        </p:nvSpPr>
        <p:spPr>
          <a:xfrm>
            <a:off x="152280" y="1752480"/>
            <a:ext cx="2057400" cy="41911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o add a Customer Admin</a:t>
            </a:r>
            <a:endParaRPr b="0"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dd a username</a:t>
            </a:r>
            <a:endParaRPr b="0"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lect Customer from the Admin type</a:t>
            </a:r>
            <a:endParaRPr b="0"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t the password</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telephony-service</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74" name=""/>
          <p:cNvSpPr/>
          <p:nvPr/>
        </p:nvSpPr>
        <p:spPr>
          <a:xfrm>
            <a:off x="39672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a:t>
            </a:r>
            <a:endParaRPr b="0" lang="en-US" sz="1600" spc="-1" strike="noStrike">
              <a:solidFill>
                <a:srgbClr val="000000"/>
              </a:solidFill>
              <a:latin typeface="Arial"/>
            </a:endParaRPr>
          </a:p>
        </p:txBody>
      </p:sp>
      <p:sp>
        <p:nvSpPr>
          <p:cNvPr id="175" name=""/>
          <p:cNvSpPr/>
          <p:nvPr/>
        </p:nvSpPr>
        <p:spPr>
          <a:xfrm>
            <a:off x="380880" y="29718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s telephony-service configuration mode</a:t>
            </a:r>
            <a:endParaRPr b="0" lang="en-US" sz="2400" spc="-1" strike="noStrike">
              <a:solidFill>
                <a:srgbClr val="000000"/>
              </a:solidFill>
              <a:latin typeface="Arial"/>
            </a:endParaRPr>
          </a:p>
        </p:txBody>
      </p:sp>
      <p:sp>
        <p:nvSpPr>
          <p:cNvPr id="176" name=""/>
          <p:cNvSpPr/>
          <p:nvPr/>
        </p:nvSpPr>
        <p:spPr>
          <a:xfrm>
            <a:off x="450720" y="41544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web admin customer name </a:t>
            </a:r>
            <a:r>
              <a:rPr b="1" i="1" lang="en-US" sz="1800" spc="-1" strike="noStrike">
                <a:solidFill>
                  <a:srgbClr val="000000"/>
                </a:solidFill>
                <a:latin typeface="Courier New"/>
              </a:rPr>
              <a:t>username </a:t>
            </a:r>
            <a:r>
              <a:rPr b="1" lang="en-US" sz="1800" spc="-1" strike="noStrike">
                <a:solidFill>
                  <a:srgbClr val="000000"/>
                </a:solidFill>
                <a:latin typeface="Courier New"/>
              </a:rPr>
              <a:t>password </a:t>
            </a:r>
            <a:r>
              <a:rPr b="1" i="1" lang="en-US" sz="1800" spc="-1" strike="noStrike">
                <a:solidFill>
                  <a:srgbClr val="000000"/>
                </a:solidFill>
                <a:latin typeface="Courier New"/>
              </a:rPr>
              <a:t>string</a:t>
            </a:r>
            <a:endParaRPr b="0" lang="en-US" sz="1800" spc="-1" strike="noStrike">
              <a:solidFill>
                <a:srgbClr val="000000"/>
              </a:solidFill>
              <a:latin typeface="Arial"/>
            </a:endParaRPr>
          </a:p>
        </p:txBody>
      </p:sp>
      <p:sp>
        <p:nvSpPr>
          <p:cNvPr id="177" name=""/>
          <p:cNvSpPr/>
          <p:nvPr/>
        </p:nvSpPr>
        <p:spPr>
          <a:xfrm>
            <a:off x="396720" y="38098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178" name=""/>
          <p:cNvSpPr/>
          <p:nvPr/>
        </p:nvSpPr>
        <p:spPr>
          <a:xfrm>
            <a:off x="380880" y="472428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a username and password for the GUI customer administrator</a:t>
            </a:r>
            <a:endParaRPr b="0" lang="en-US" sz="2400" spc="-1" strike="noStrike">
              <a:solidFill>
                <a:srgbClr val="000000"/>
              </a:solidFill>
              <a:latin typeface="Arial"/>
            </a:endParaRPr>
          </a:p>
        </p:txBody>
      </p:sp>
      <p:sp>
        <p:nvSpPr>
          <p:cNvPr id="17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55560" y="1676520"/>
            <a:ext cx="711216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Two ways to define phone users:</a:t>
            </a:r>
            <a:endParaRPr b="0" lang="en-US" sz="28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rough the System Administrator GUI</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rom the CLI of the CallManager Express</a:t>
            </a:r>
            <a:endParaRPr b="0" lang="en-US" sz="2400" spc="-1" strike="noStrike">
              <a:solidFill>
                <a:srgbClr val="000000"/>
              </a:solidFill>
              <a:latin typeface="Arial"/>
            </a:endParaRPr>
          </a:p>
        </p:txBody>
      </p:sp>
      <p:sp>
        <p:nvSpPr>
          <p:cNvPr id="18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0" y="0"/>
            <a:ext cx="9144000" cy="4272120"/>
            <a:chOff x="0" y="0"/>
            <a:chExt cx="9144000" cy="4272120"/>
          </a:xfrm>
        </p:grpSpPr>
        <p:sp>
          <p:nvSpPr>
            <p:cNvPr id="102"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03" name="" descr=""/>
            <p:cNvPicPr/>
            <p:nvPr/>
          </p:nvPicPr>
          <p:blipFill>
            <a:blip r:embed="rId1"/>
            <a:stretch/>
          </p:blipFill>
          <p:spPr>
            <a:xfrm>
              <a:off x="5800680" y="2119320"/>
              <a:ext cx="3343320" cy="2152800"/>
            </a:xfrm>
            <a:prstGeom prst="rect">
              <a:avLst/>
            </a:prstGeom>
            <a:ln w="0">
              <a:noFill/>
            </a:ln>
          </p:spPr>
        </p:pic>
        <p:sp>
          <p:nvSpPr>
            <p:cNvPr id="104"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05"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isco CME GUI Features </a:t>
            </a:r>
            <a:endParaRPr b="1" lang="en-US" sz="2400" spc="-1" strike="noStrike">
              <a:solidFill>
                <a:srgbClr val="ffffff"/>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pic>
        <p:nvPicPr>
          <p:cNvPr id="183" name="" descr=""/>
          <p:cNvPicPr/>
          <p:nvPr/>
        </p:nvPicPr>
        <p:blipFill>
          <a:blip r:embed="rId1"/>
          <a:stretch/>
        </p:blipFill>
        <p:spPr>
          <a:xfrm>
            <a:off x="762120" y="1447920"/>
            <a:ext cx="3341520" cy="3657600"/>
          </a:xfrm>
          <a:prstGeom prst="rect">
            <a:avLst/>
          </a:prstGeom>
          <a:ln w="0">
            <a:noFill/>
          </a:ln>
        </p:spPr>
      </p:pic>
      <p:pic>
        <p:nvPicPr>
          <p:cNvPr id="184" name="" descr=""/>
          <p:cNvPicPr/>
          <p:nvPr/>
        </p:nvPicPr>
        <p:blipFill>
          <a:blip r:embed="rId2"/>
          <a:stretch/>
        </p:blipFill>
        <p:spPr>
          <a:xfrm>
            <a:off x="3962520" y="1782720"/>
            <a:ext cx="4572000" cy="4541760"/>
          </a:xfrm>
          <a:prstGeom prst="rect">
            <a:avLst/>
          </a:prstGeom>
          <a:ln w="0">
            <a:noFill/>
          </a:ln>
        </p:spPr>
      </p:pic>
      <p:sp>
        <p:nvSpPr>
          <p:cNvPr id="185" name=""/>
          <p:cNvSpPr/>
          <p:nvPr/>
        </p:nvSpPr>
        <p:spPr>
          <a:xfrm>
            <a:off x="1600200" y="3657600"/>
            <a:ext cx="609480" cy="22860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86" name=""/>
          <p:cNvSpPr/>
          <p:nvPr/>
        </p:nvSpPr>
        <p:spPr>
          <a:xfrm>
            <a:off x="5486400" y="5181480"/>
            <a:ext cx="1447920" cy="99072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87" name=""/>
          <p:cNvSpPr/>
          <p:nvPr/>
        </p:nvSpPr>
        <p:spPr>
          <a:xfrm>
            <a:off x="609480" y="5257800"/>
            <a:ext cx="3429000" cy="9054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lect the phone of the user, then set credentials on the phone</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gtEl>
                                        <p:attrNameLst>
                                          <p:attrName>style.visibility</p:attrName>
                                        </p:attrNameLst>
                                      </p:cBhvr>
                                      <p:to>
                                        <p:strVal val="visible"/>
                                      </p:to>
                                    </p:set>
                                    <p:animEffect filter="dissolve" transition="in">
                                      <p:cBhvr additive="repl">
                                        <p:cTn id="7" dur="500"/>
                                        <p:tgtEl>
                                          <p:spTgt spid="1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6"/>
                                        </p:tgtEl>
                                        <p:attrNameLst>
                                          <p:attrName>style.visibility</p:attrName>
                                        </p:attrNameLst>
                                      </p:cBhvr>
                                      <p:to>
                                        <p:strVal val="visible"/>
                                      </p:to>
                                    </p:set>
                                    <p:animEffect filter="dissolve" transition="in">
                                      <p:cBhvr additive="repl">
                                        <p:cTn id="1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ephone </a:t>
            </a:r>
            <a:r>
              <a:rPr b="1" i="1" lang="en-US" sz="1800" spc="-1" strike="noStrike">
                <a:solidFill>
                  <a:srgbClr val="000000"/>
                </a:solidFill>
                <a:latin typeface="Courier New"/>
              </a:rPr>
              <a:t>phone tag</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89" name=""/>
          <p:cNvSpPr/>
          <p:nvPr/>
        </p:nvSpPr>
        <p:spPr>
          <a:xfrm>
            <a:off x="39672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a:t>
            </a:r>
            <a:endParaRPr b="0" lang="en-US" sz="1600" spc="-1" strike="noStrike">
              <a:solidFill>
                <a:srgbClr val="000000"/>
              </a:solidFill>
              <a:latin typeface="Arial"/>
            </a:endParaRPr>
          </a:p>
        </p:txBody>
      </p:sp>
      <p:sp>
        <p:nvSpPr>
          <p:cNvPr id="190" name=""/>
          <p:cNvSpPr/>
          <p:nvPr/>
        </p:nvSpPr>
        <p:spPr>
          <a:xfrm>
            <a:off x="380880" y="29718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s telephony-service configuration mode</a:t>
            </a:r>
            <a:endParaRPr b="0" lang="en-US" sz="2400" spc="-1" strike="noStrike">
              <a:solidFill>
                <a:srgbClr val="000000"/>
              </a:solidFill>
              <a:latin typeface="Arial"/>
            </a:endParaRPr>
          </a:p>
        </p:txBody>
      </p:sp>
      <p:sp>
        <p:nvSpPr>
          <p:cNvPr id="191" name=""/>
          <p:cNvSpPr/>
          <p:nvPr/>
        </p:nvSpPr>
        <p:spPr>
          <a:xfrm>
            <a:off x="450720" y="41544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username </a:t>
            </a:r>
            <a:r>
              <a:rPr b="1" i="1" lang="en-US" sz="1800" spc="-1" strike="noStrike">
                <a:solidFill>
                  <a:srgbClr val="000000"/>
                </a:solidFill>
                <a:latin typeface="Courier New"/>
              </a:rPr>
              <a:t>username </a:t>
            </a:r>
            <a:r>
              <a:rPr b="1" lang="en-US" sz="1800" spc="-1" strike="noStrike">
                <a:solidFill>
                  <a:srgbClr val="000000"/>
                </a:solidFill>
                <a:latin typeface="Courier New"/>
              </a:rPr>
              <a:t>password </a:t>
            </a:r>
            <a:r>
              <a:rPr b="1" i="1" lang="en-US" sz="1800" spc="-1" strike="noStrike">
                <a:solidFill>
                  <a:srgbClr val="000000"/>
                </a:solidFill>
                <a:latin typeface="Courier New"/>
              </a:rPr>
              <a:t>password</a:t>
            </a:r>
            <a:endParaRPr b="0" lang="en-US" sz="1800" spc="-1" strike="noStrike">
              <a:solidFill>
                <a:srgbClr val="000000"/>
              </a:solidFill>
              <a:latin typeface="Arial"/>
            </a:endParaRPr>
          </a:p>
        </p:txBody>
      </p:sp>
      <p:sp>
        <p:nvSpPr>
          <p:cNvPr id="192" name=""/>
          <p:cNvSpPr/>
          <p:nvPr/>
        </p:nvSpPr>
        <p:spPr>
          <a:xfrm>
            <a:off x="396720" y="38098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a:t>
            </a:r>
            <a:endParaRPr b="0" lang="en-US" sz="1600" spc="-1" strike="noStrike">
              <a:solidFill>
                <a:srgbClr val="000000"/>
              </a:solidFill>
              <a:latin typeface="Arial"/>
            </a:endParaRPr>
          </a:p>
        </p:txBody>
      </p:sp>
      <p:sp>
        <p:nvSpPr>
          <p:cNvPr id="193" name=""/>
          <p:cNvSpPr/>
          <p:nvPr/>
        </p:nvSpPr>
        <p:spPr>
          <a:xfrm>
            <a:off x="380880" y="472428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a username and password for the GUI phone user</a:t>
            </a:r>
            <a:endParaRPr b="0" lang="en-US" sz="2400" spc="-1" strike="noStrike">
              <a:solidFill>
                <a:srgbClr val="000000"/>
              </a:solidFill>
              <a:latin typeface="Arial"/>
            </a:endParaRPr>
          </a:p>
        </p:txBody>
      </p:sp>
      <p:sp>
        <p:nvSpPr>
          <p:cNvPr id="1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dministrative User Classes (Cont.)</a:t>
            </a:r>
            <a:endParaRPr b="1" lang="en-US" sz="3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0" y="0"/>
            <a:ext cx="9144000" cy="4272120"/>
            <a:chOff x="0" y="0"/>
            <a:chExt cx="9144000" cy="4272120"/>
          </a:xfrm>
        </p:grpSpPr>
        <p:sp>
          <p:nvSpPr>
            <p:cNvPr id="196"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97" name="" descr=""/>
            <p:cNvPicPr/>
            <p:nvPr/>
          </p:nvPicPr>
          <p:blipFill>
            <a:blip r:embed="rId1"/>
            <a:stretch/>
          </p:blipFill>
          <p:spPr>
            <a:xfrm>
              <a:off x="5800680" y="2119320"/>
              <a:ext cx="3343320" cy="2152800"/>
            </a:xfrm>
            <a:prstGeom prst="rect">
              <a:avLst/>
            </a:prstGeom>
            <a:ln w="0">
              <a:noFill/>
            </a:ln>
          </p:spPr>
        </p:pic>
        <p:sp>
          <p:nvSpPr>
            <p:cNvPr id="198"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99"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onfiguring Phone Features </a:t>
            </a:r>
            <a:endParaRPr b="1" lang="en-US" sz="2400" spc="-1" strike="noStrike">
              <a:solidFill>
                <a:srgbClr val="ffffff"/>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Transfer</a:t>
            </a:r>
            <a:br>
              <a:rPr sz="3000"/>
            </a:br>
            <a:r>
              <a:rPr b="1" lang="en-US" sz="3000" spc="-1" strike="noStrike">
                <a:solidFill>
                  <a:srgbClr val="ffffff"/>
                </a:solidFill>
                <a:latin typeface="Arial"/>
              </a:rPr>
              <a:t>Transferring a Call from an IP Phone</a:t>
            </a:r>
            <a:endParaRPr b="1" lang="en-US" sz="3000" spc="-1" strike="noStrike">
              <a:solidFill>
                <a:srgbClr val="ffffff"/>
              </a:solidFill>
              <a:latin typeface="Arial"/>
            </a:endParaRPr>
          </a:p>
        </p:txBody>
      </p:sp>
      <p:pic>
        <p:nvPicPr>
          <p:cNvPr id="201" name="" descr=""/>
          <p:cNvPicPr/>
          <p:nvPr/>
        </p:nvPicPr>
        <p:blipFill>
          <a:blip r:embed="rId1"/>
          <a:stretch/>
        </p:blipFill>
        <p:spPr>
          <a:xfrm>
            <a:off x="2575080" y="1657440"/>
            <a:ext cx="6146640" cy="4610160"/>
          </a:xfrm>
          <a:prstGeom prst="rect">
            <a:avLst/>
          </a:prstGeom>
          <a:ln w="0">
            <a:noFill/>
          </a:ln>
        </p:spPr>
      </p:pic>
      <p:sp>
        <p:nvSpPr>
          <p:cNvPr id="202" name=""/>
          <p:cNvSpPr/>
          <p:nvPr/>
        </p:nvSpPr>
        <p:spPr>
          <a:xfrm>
            <a:off x="5622840" y="5626080"/>
            <a:ext cx="1575000" cy="72396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203" name=""/>
          <p:cNvSpPr/>
          <p:nvPr/>
        </p:nvSpPr>
        <p:spPr>
          <a:xfrm>
            <a:off x="219240" y="1819440"/>
            <a:ext cx="2304720" cy="1069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r transfers a call to another DN</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55560" y="1676520"/>
            <a:ext cx="7950240" cy="391140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Call Transfer Commands</a:t>
            </a:r>
            <a:endParaRPr b="0" lang="en-US" sz="28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guring system transfer settings</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guring individual IP phone transfer settings</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guring a transfer pattern</a:t>
            </a:r>
            <a:endParaRPr b="0" lang="en-US" sz="2400" spc="-1" strike="noStrike">
              <a:solidFill>
                <a:srgbClr val="000000"/>
              </a:solidFill>
              <a:latin typeface="Arial"/>
            </a:endParaRPr>
          </a:p>
        </p:txBody>
      </p:sp>
      <p:sp>
        <p:nvSpPr>
          <p:cNvPr id="2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Transfer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57200" y="2490840"/>
            <a:ext cx="8159760" cy="6411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transfer-system</a:t>
            </a:r>
            <a:r>
              <a:rPr b="1" lang="en-US" sz="1800" spc="-1" strike="noStrike">
                <a:solidFill>
                  <a:srgbClr val="000000"/>
                </a:solidFill>
                <a:latin typeface="Courier New"/>
              </a:rPr>
              <a:t> {blind | full-blind | full-consult | local-consult}</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07" name=""/>
          <p:cNvSpPr/>
          <p:nvPr/>
        </p:nvSpPr>
        <p:spPr>
          <a:xfrm>
            <a:off x="457200" y="2116080"/>
            <a:ext cx="4302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2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Transfer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
        <p:nvSpPr>
          <p:cNvPr id="209" name=""/>
          <p:cNvSpPr/>
          <p:nvPr/>
        </p:nvSpPr>
        <p:spPr>
          <a:xfrm>
            <a:off x="469800" y="4851360"/>
            <a:ext cx="8153640" cy="631080"/>
          </a:xfrm>
          <a:prstGeom prst="rect">
            <a:avLst/>
          </a:prstGeom>
          <a:noFill/>
          <a:ln w="28440">
            <a:solidFill>
              <a:srgbClr val="000000"/>
            </a:solidFill>
            <a:miter/>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CMERouter(config-telephony-service)#transfer-system full-blind</a:t>
            </a:r>
            <a:endParaRPr b="0" lang="en-US" sz="2000" spc="-1" strike="noStrike">
              <a:solidFill>
                <a:srgbClr val="000000"/>
              </a:solidFill>
              <a:latin typeface="Arial"/>
            </a:endParaRPr>
          </a:p>
        </p:txBody>
      </p:sp>
      <p:sp>
        <p:nvSpPr>
          <p:cNvPr id="210" name="PlaceHolder 2"/>
          <p:cNvSpPr>
            <a:spLocks noGrp="1"/>
          </p:cNvSpPr>
          <p:nvPr>
            <p:ph/>
          </p:nvPr>
        </p:nvSpPr>
        <p:spPr>
          <a:xfrm>
            <a:off x="533160" y="3276360"/>
            <a:ext cx="7940520" cy="94140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pecifies the call transfer method for all Cisco CME extensions</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20560" y="25146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transfer-mode {blind | consult}</a:t>
            </a:r>
            <a:endParaRPr b="0" lang="en-US" sz="1800" spc="-1" strike="noStrike">
              <a:solidFill>
                <a:srgbClr val="000000"/>
              </a:solidFill>
              <a:latin typeface="Arial"/>
            </a:endParaRPr>
          </a:p>
        </p:txBody>
      </p:sp>
      <p:sp>
        <p:nvSpPr>
          <p:cNvPr id="212" name=""/>
          <p:cNvSpPr/>
          <p:nvPr/>
        </p:nvSpPr>
        <p:spPr>
          <a:xfrm>
            <a:off x="520560" y="213984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dn)#</a:t>
            </a:r>
            <a:endParaRPr b="0" lang="en-US" sz="1600" spc="-1" strike="noStrike">
              <a:solidFill>
                <a:srgbClr val="000000"/>
              </a:solidFill>
              <a:latin typeface="Arial"/>
            </a:endParaRPr>
          </a:p>
        </p:txBody>
      </p:sp>
      <p:sp>
        <p:nvSpPr>
          <p:cNvPr id="2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Transfer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
        <p:nvSpPr>
          <p:cNvPr id="214" name=""/>
          <p:cNvSpPr/>
          <p:nvPr/>
        </p:nvSpPr>
        <p:spPr>
          <a:xfrm>
            <a:off x="533520" y="4863960"/>
            <a:ext cx="8153280" cy="356760"/>
          </a:xfrm>
          <a:prstGeom prst="rect">
            <a:avLst/>
          </a:prstGeom>
          <a:noFill/>
          <a:ln w="28440">
            <a:solidFill>
              <a:srgbClr val="000000"/>
            </a:solidFill>
            <a:miter/>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CMERouter(config-ephone-dn)#transfer-mode consult</a:t>
            </a:r>
            <a:endParaRPr b="0" lang="en-US" sz="2000" spc="-1" strike="noStrike">
              <a:solidFill>
                <a:srgbClr val="000000"/>
              </a:solidFill>
              <a:latin typeface="Arial"/>
            </a:endParaRPr>
          </a:p>
        </p:txBody>
      </p:sp>
      <p:sp>
        <p:nvSpPr>
          <p:cNvPr id="215" name="PlaceHolder 2"/>
          <p:cNvSpPr>
            <a:spLocks noGrp="1"/>
          </p:cNvSpPr>
          <p:nvPr>
            <p:ph/>
          </p:nvPr>
        </p:nvSpPr>
        <p:spPr>
          <a:xfrm>
            <a:off x="593640" y="3048120"/>
            <a:ext cx="7940880" cy="76176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pecifies the type of call transfer for an individual IP phone extension number</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Transfer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
        <p:nvSpPr>
          <p:cNvPr id="217" name=""/>
          <p:cNvSpPr/>
          <p:nvPr/>
        </p:nvSpPr>
        <p:spPr>
          <a:xfrm>
            <a:off x="520560" y="25178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transfer-pattern </a:t>
            </a:r>
            <a:r>
              <a:rPr b="1" i="1" lang="en-US" sz="1800" spc="-1" strike="noStrike">
                <a:solidFill>
                  <a:srgbClr val="000000"/>
                </a:solidFill>
                <a:latin typeface="Courier New"/>
              </a:rPr>
              <a:t>transfer-pattern </a:t>
            </a:r>
            <a:r>
              <a:rPr b="1" lang="en-US" sz="1800" spc="-1" strike="noStrike">
                <a:solidFill>
                  <a:srgbClr val="000000"/>
                </a:solidFill>
                <a:latin typeface="Courier New"/>
              </a:rPr>
              <a:t>[blind]</a:t>
            </a:r>
            <a:endParaRPr b="0" lang="en-US" sz="1800" spc="-1" strike="noStrike">
              <a:solidFill>
                <a:srgbClr val="000000"/>
              </a:solidFill>
              <a:latin typeface="Arial"/>
            </a:endParaRPr>
          </a:p>
        </p:txBody>
      </p:sp>
      <p:sp>
        <p:nvSpPr>
          <p:cNvPr id="218" name=""/>
          <p:cNvSpPr/>
          <p:nvPr/>
        </p:nvSpPr>
        <p:spPr>
          <a:xfrm>
            <a:off x="520560" y="21430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219" name=""/>
          <p:cNvSpPr/>
          <p:nvPr/>
        </p:nvSpPr>
        <p:spPr>
          <a:xfrm>
            <a:off x="533520" y="4863960"/>
            <a:ext cx="8153280" cy="631080"/>
          </a:xfrm>
          <a:prstGeom prst="rect">
            <a:avLst/>
          </a:prstGeom>
          <a:noFill/>
          <a:ln w="28440">
            <a:solidFill>
              <a:srgbClr val="000000"/>
            </a:solidFill>
            <a:miter/>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CMERouter(config-telephony-service)#transfer-pattern 2095559... blind</a:t>
            </a:r>
            <a:endParaRPr b="0" lang="en-US" sz="2000" spc="-1" strike="noStrike">
              <a:solidFill>
                <a:srgbClr val="000000"/>
              </a:solidFill>
              <a:latin typeface="Arial"/>
            </a:endParaRPr>
          </a:p>
        </p:txBody>
      </p:sp>
      <p:sp>
        <p:nvSpPr>
          <p:cNvPr id="220" name="PlaceHolder 2"/>
          <p:cNvSpPr>
            <a:spLocks noGrp="1"/>
          </p:cNvSpPr>
          <p:nvPr>
            <p:ph/>
          </p:nvPr>
        </p:nvSpPr>
        <p:spPr>
          <a:xfrm>
            <a:off x="517320" y="2971800"/>
            <a:ext cx="7940520" cy="109368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o allow transfer of telephone calls from Cisco IP phones to phones other than Cisco IP phones</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orwarding</a:t>
            </a:r>
            <a:br>
              <a:rPr sz="3000"/>
            </a:br>
            <a:r>
              <a:rPr b="1" lang="en-US" sz="3000" spc="-1" strike="noStrike">
                <a:solidFill>
                  <a:srgbClr val="ffffff"/>
                </a:solidFill>
                <a:latin typeface="Arial"/>
              </a:rPr>
              <a:t>Forwarding a Call from an IP phone</a:t>
            </a:r>
            <a:endParaRPr b="1" lang="en-US" sz="3000" spc="-1" strike="noStrike">
              <a:solidFill>
                <a:srgbClr val="ffffff"/>
              </a:solidFill>
              <a:latin typeface="Arial"/>
            </a:endParaRPr>
          </a:p>
        </p:txBody>
      </p:sp>
      <p:pic>
        <p:nvPicPr>
          <p:cNvPr id="222" name="" descr=""/>
          <p:cNvPicPr/>
          <p:nvPr/>
        </p:nvPicPr>
        <p:blipFill>
          <a:blip r:embed="rId1"/>
          <a:stretch/>
        </p:blipFill>
        <p:spPr>
          <a:xfrm>
            <a:off x="2451240" y="1566720"/>
            <a:ext cx="6222960" cy="4680000"/>
          </a:xfrm>
          <a:prstGeom prst="rect">
            <a:avLst/>
          </a:prstGeom>
          <a:ln w="0">
            <a:noFill/>
          </a:ln>
        </p:spPr>
      </p:pic>
      <p:sp>
        <p:nvSpPr>
          <p:cNvPr id="223" name=""/>
          <p:cNvSpPr/>
          <p:nvPr/>
        </p:nvSpPr>
        <p:spPr>
          <a:xfrm>
            <a:off x="5499000" y="5626080"/>
            <a:ext cx="1575000" cy="72396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224" name=""/>
          <p:cNvSpPr/>
          <p:nvPr/>
        </p:nvSpPr>
        <p:spPr>
          <a:xfrm>
            <a:off x="219240" y="1819440"/>
            <a:ext cx="2257200" cy="1069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r forwards all calls to a DN</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orwarding (Cont.)</a:t>
            </a:r>
            <a:br>
              <a:rPr sz="3000"/>
            </a:br>
            <a:r>
              <a:rPr b="1" lang="en-US" sz="3000" spc="-1" strike="noStrike">
                <a:solidFill>
                  <a:srgbClr val="ffffff"/>
                </a:solidFill>
                <a:latin typeface="Arial"/>
              </a:rPr>
              <a:t>Forwarding a Call from an IP phone</a:t>
            </a:r>
            <a:endParaRPr b="1" lang="en-US" sz="3000" spc="-1" strike="noStrike">
              <a:solidFill>
                <a:srgbClr val="ffffff"/>
              </a:solidFill>
              <a:latin typeface="Arial"/>
            </a:endParaRPr>
          </a:p>
        </p:txBody>
      </p:sp>
      <p:pic>
        <p:nvPicPr>
          <p:cNvPr id="226" name="" descr=""/>
          <p:cNvPicPr/>
          <p:nvPr/>
        </p:nvPicPr>
        <p:blipFill>
          <a:blip r:embed="rId1"/>
          <a:stretch/>
        </p:blipFill>
        <p:spPr>
          <a:xfrm>
            <a:off x="225360" y="1295280"/>
            <a:ext cx="3888000" cy="5181840"/>
          </a:xfrm>
          <a:prstGeom prst="rect">
            <a:avLst/>
          </a:prstGeom>
          <a:ln w="0">
            <a:noFill/>
          </a:ln>
        </p:spPr>
      </p:pic>
      <p:pic>
        <p:nvPicPr>
          <p:cNvPr id="227" name="" descr=""/>
          <p:cNvPicPr/>
          <p:nvPr/>
        </p:nvPicPr>
        <p:blipFill>
          <a:blip r:embed="rId2"/>
          <a:stretch/>
        </p:blipFill>
        <p:spPr>
          <a:xfrm>
            <a:off x="3487680" y="3130560"/>
            <a:ext cx="5303880" cy="3355920"/>
          </a:xfrm>
          <a:prstGeom prst="rect">
            <a:avLst/>
          </a:prstGeom>
          <a:ln w="0">
            <a:noFill/>
          </a:ln>
        </p:spPr>
      </p:pic>
      <p:sp>
        <p:nvSpPr>
          <p:cNvPr id="228" name=""/>
          <p:cNvSpPr/>
          <p:nvPr/>
        </p:nvSpPr>
        <p:spPr>
          <a:xfrm>
            <a:off x="419040" y="3619440"/>
            <a:ext cx="800280" cy="2476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229" name=""/>
          <p:cNvSpPr/>
          <p:nvPr/>
        </p:nvSpPr>
        <p:spPr>
          <a:xfrm>
            <a:off x="5029200" y="4495680"/>
            <a:ext cx="1352520" cy="111456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230" name=""/>
          <p:cNvSpPr/>
          <p:nvPr/>
        </p:nvSpPr>
        <p:spPr>
          <a:xfrm>
            <a:off x="4657680" y="1343160"/>
            <a:ext cx="4095720" cy="17269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orward all, busy, and no answer all in the phone user Web pages</a:t>
            </a:r>
            <a:endParaRPr b="0" lang="en-US" sz="3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228"/>
                                        </p:tgtEl>
                                        <p:attrNameLst>
                                          <p:attrName>style.visibility</p:attrName>
                                        </p:attrNameLst>
                                      </p:cBhvr>
                                      <p:to>
                                        <p:strVal val="visible"/>
                                      </p:to>
                                    </p:set>
                                    <p:animEffect filter="dissolve" transition="in">
                                      <p:cBhvr additive="repl">
                                        <p:cTn id="19" dur="500"/>
                                        <p:tgtEl>
                                          <p:spTgt spid="22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27"/>
                                        </p:tgtEl>
                                        <p:attrNameLst>
                                          <p:attrName>style.visibility</p:attrName>
                                        </p:attrNameLst>
                                      </p:cBhvr>
                                      <p:to>
                                        <p:strVal val="visible"/>
                                      </p:to>
                                    </p:set>
                                    <p:animEffect filter="box(in)" transition="in">
                                      <p:cBhvr additive="repl">
                                        <p:cTn id="24" dur="500"/>
                                        <p:tgtEl>
                                          <p:spTgt spid="227"/>
                                        </p:tgtEl>
                                      </p:cBhvr>
                                    </p:animEffect>
                                  </p:childTnLst>
                                </p:cTn>
                              </p:par>
                            </p:childTnLst>
                          </p:cTn>
                        </p:par>
                        <p:par>
                          <p:cTn id="25" fill="hold">
                            <p:stCondLst>
                              <p:cond delay="500"/>
                            </p:stCondLst>
                            <p:childTnLst>
                              <p:par>
                                <p:cTn id="26" nodeType="afterEffect" fill="hold" presetClass="entr" presetID="9">
                                  <p:stCondLst>
                                    <p:cond delay="0"/>
                                  </p:stCondLst>
                                  <p:childTnLst>
                                    <p:set>
                                      <p:cBhvr>
                                        <p:cTn id="27" dur="1" fill="hold">
                                          <p:stCondLst>
                                            <p:cond delay="0"/>
                                          </p:stCondLst>
                                        </p:cTn>
                                        <p:tgtEl>
                                          <p:spTgt spid="229"/>
                                        </p:tgtEl>
                                        <p:attrNameLst>
                                          <p:attrName>style.visibility</p:attrName>
                                        </p:attrNameLst>
                                      </p:cBhvr>
                                      <p:to>
                                        <p:strVal val="visible"/>
                                      </p:to>
                                    </p:set>
                                    <p:animEffect filter="dissolve" transition="in">
                                      <p:cBhvr additive="repl">
                                        <p:cTn id="2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User Classes</a:t>
            </a:r>
            <a:endParaRPr b="1" lang="en-US" sz="3000" spc="-1" strike="noStrike">
              <a:solidFill>
                <a:srgbClr val="ffffff"/>
              </a:solidFill>
              <a:latin typeface="Arial"/>
            </a:endParaRPr>
          </a:p>
        </p:txBody>
      </p:sp>
      <p:sp>
        <p:nvSpPr>
          <p:cNvPr id="10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isco CME provides three levels of HTTP based GUI acces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ystem Administrator</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stomer Administrator</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hone User</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orwarding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
        <p:nvSpPr>
          <p:cNvPr id="23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all Forwarding Commands</a:t>
            </a:r>
            <a:endParaRPr b="1" lang="en-US" sz="26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forward all</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forward bus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forward no answe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forward max-length</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forward pattern</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04920" y="19098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call-forward all </a:t>
            </a:r>
            <a:r>
              <a:rPr b="1" i="1" lang="en-GB" sz="1800" spc="-1" strike="noStrike">
                <a:solidFill>
                  <a:srgbClr val="000000"/>
                </a:solidFill>
                <a:latin typeface="Courier New"/>
              </a:rPr>
              <a:t>directory-number</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34" name=""/>
          <p:cNvSpPr/>
          <p:nvPr/>
        </p:nvSpPr>
        <p:spPr>
          <a:xfrm>
            <a:off x="304920" y="1494000"/>
            <a:ext cx="4302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235" name=""/>
          <p:cNvSpPr/>
          <p:nvPr/>
        </p:nvSpPr>
        <p:spPr>
          <a:xfrm>
            <a:off x="304920" y="237024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wards all calls to the Directory Number specified</a:t>
            </a:r>
            <a:endParaRPr b="0" lang="en-US" sz="2400" spc="-1" strike="noStrike">
              <a:solidFill>
                <a:srgbClr val="000000"/>
              </a:solidFill>
              <a:latin typeface="Arial"/>
            </a:endParaRPr>
          </a:p>
        </p:txBody>
      </p:sp>
      <p:sp>
        <p:nvSpPr>
          <p:cNvPr id="236" name=""/>
          <p:cNvSpPr/>
          <p:nvPr/>
        </p:nvSpPr>
        <p:spPr>
          <a:xfrm>
            <a:off x="304920" y="332568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call-forward busy </a:t>
            </a:r>
            <a:r>
              <a:rPr b="1" i="1" lang="en-US" sz="1800" spc="-1" strike="noStrike">
                <a:solidFill>
                  <a:srgbClr val="000000"/>
                </a:solidFill>
                <a:latin typeface="Courier New"/>
              </a:rPr>
              <a:t>directory-number</a:t>
            </a:r>
            <a:endParaRPr b="0" lang="en-US" sz="1800" spc="-1" strike="noStrike">
              <a:solidFill>
                <a:srgbClr val="000000"/>
              </a:solidFill>
              <a:latin typeface="Arial"/>
            </a:endParaRPr>
          </a:p>
        </p:txBody>
      </p:sp>
      <p:sp>
        <p:nvSpPr>
          <p:cNvPr id="237" name=""/>
          <p:cNvSpPr/>
          <p:nvPr/>
        </p:nvSpPr>
        <p:spPr>
          <a:xfrm>
            <a:off x="304920" y="290844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238" name=""/>
          <p:cNvSpPr/>
          <p:nvPr/>
        </p:nvSpPr>
        <p:spPr>
          <a:xfrm>
            <a:off x="304920" y="378468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wards incoming calls when the DN is busy to another DN</a:t>
            </a:r>
            <a:endParaRPr b="0" lang="en-US" sz="2400" spc="-1" strike="noStrike">
              <a:solidFill>
                <a:srgbClr val="000000"/>
              </a:solidFill>
              <a:latin typeface="Arial"/>
            </a:endParaRPr>
          </a:p>
        </p:txBody>
      </p:sp>
      <p:sp>
        <p:nvSpPr>
          <p:cNvPr id="2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orwarding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
        <p:nvSpPr>
          <p:cNvPr id="240" name=""/>
          <p:cNvSpPr/>
          <p:nvPr/>
        </p:nvSpPr>
        <p:spPr>
          <a:xfrm>
            <a:off x="304920" y="510552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call-forward noan </a:t>
            </a:r>
            <a:r>
              <a:rPr b="1" i="1" lang="en-US" sz="1800" spc="-1" strike="noStrike">
                <a:solidFill>
                  <a:srgbClr val="000000"/>
                </a:solidFill>
                <a:latin typeface="Courier New"/>
              </a:rPr>
              <a:t>directory-number </a:t>
            </a:r>
            <a:r>
              <a:rPr b="1" lang="en-US" sz="1800" spc="-1" strike="noStrike">
                <a:solidFill>
                  <a:srgbClr val="000000"/>
                </a:solidFill>
                <a:latin typeface="Courier New"/>
              </a:rPr>
              <a:t>timeout </a:t>
            </a:r>
            <a:r>
              <a:rPr b="1" i="1" lang="en-US" sz="1800" spc="-1" strike="noStrike">
                <a:solidFill>
                  <a:srgbClr val="000000"/>
                </a:solidFill>
                <a:latin typeface="Courier New"/>
              </a:rPr>
              <a:t>seconds</a:t>
            </a:r>
            <a:endParaRPr b="0" lang="en-US" sz="1800" spc="-1" strike="noStrike">
              <a:solidFill>
                <a:srgbClr val="000000"/>
              </a:solidFill>
              <a:latin typeface="Arial"/>
            </a:endParaRPr>
          </a:p>
        </p:txBody>
      </p:sp>
      <p:sp>
        <p:nvSpPr>
          <p:cNvPr id="241" name=""/>
          <p:cNvSpPr/>
          <p:nvPr/>
        </p:nvSpPr>
        <p:spPr>
          <a:xfrm>
            <a:off x="304920" y="468792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242" name=""/>
          <p:cNvSpPr/>
          <p:nvPr/>
        </p:nvSpPr>
        <p:spPr>
          <a:xfrm>
            <a:off x="304920" y="55656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wards calls that are not answered in the time specified to another DN</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80880" y="26337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call-forward max-length </a:t>
            </a:r>
            <a:r>
              <a:rPr b="1" i="1" lang="en-US" sz="1800" spc="-1" strike="noStrike">
                <a:solidFill>
                  <a:srgbClr val="000000"/>
                </a:solidFill>
                <a:latin typeface="Courier New"/>
              </a:rPr>
              <a:t>length</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44" name=""/>
          <p:cNvSpPr/>
          <p:nvPr/>
        </p:nvSpPr>
        <p:spPr>
          <a:xfrm>
            <a:off x="38088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245" name=""/>
          <p:cNvSpPr/>
          <p:nvPr/>
        </p:nvSpPr>
        <p:spPr>
          <a:xfrm>
            <a:off x="380880" y="314316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icts the number of digits that can be used with call forward</a:t>
            </a:r>
            <a:endParaRPr b="0" lang="en-US" sz="2400" spc="-1" strike="noStrike">
              <a:solidFill>
                <a:srgbClr val="000000"/>
              </a:solidFill>
              <a:latin typeface="Arial"/>
            </a:endParaRPr>
          </a:p>
        </p:txBody>
      </p:sp>
      <p:sp>
        <p:nvSpPr>
          <p:cNvPr id="246" name=""/>
          <p:cNvSpPr/>
          <p:nvPr/>
        </p:nvSpPr>
        <p:spPr>
          <a:xfrm>
            <a:off x="380880" y="45608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call-forward pattern </a:t>
            </a:r>
            <a:r>
              <a:rPr b="1" i="1" lang="en-US" sz="1800" spc="-1" strike="noStrike">
                <a:solidFill>
                  <a:srgbClr val="000000"/>
                </a:solidFill>
                <a:latin typeface="Courier New"/>
              </a:rPr>
              <a:t>pattern</a:t>
            </a:r>
            <a:endParaRPr b="0" lang="en-US" sz="1800" spc="-1" strike="noStrike">
              <a:solidFill>
                <a:srgbClr val="000000"/>
              </a:solidFill>
              <a:latin typeface="Arial"/>
            </a:endParaRPr>
          </a:p>
        </p:txBody>
      </p:sp>
      <p:sp>
        <p:nvSpPr>
          <p:cNvPr id="247" name=""/>
          <p:cNvSpPr/>
          <p:nvPr/>
        </p:nvSpPr>
        <p:spPr>
          <a:xfrm>
            <a:off x="380880" y="4094280"/>
            <a:ext cx="4972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telephony-service)#</a:t>
            </a:r>
            <a:endParaRPr b="0" lang="en-US" sz="1600" spc="-1" strike="noStrike">
              <a:solidFill>
                <a:srgbClr val="000000"/>
              </a:solidFill>
              <a:latin typeface="Arial"/>
            </a:endParaRPr>
          </a:p>
        </p:txBody>
      </p:sp>
      <p:sp>
        <p:nvSpPr>
          <p:cNvPr id="248" name=""/>
          <p:cNvSpPr/>
          <p:nvPr/>
        </p:nvSpPr>
        <p:spPr>
          <a:xfrm>
            <a:off x="380880" y="50706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pecify a pattern for calling-party numbers that support H.450.3</a:t>
            </a:r>
            <a:endParaRPr b="0" lang="en-US" sz="2400" spc="-1" strike="noStrike">
              <a:solidFill>
                <a:srgbClr val="000000"/>
              </a:solidFill>
              <a:latin typeface="Arial"/>
            </a:endParaRPr>
          </a:p>
        </p:txBody>
      </p:sp>
      <p:sp>
        <p:nvSpPr>
          <p:cNvPr id="2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Forwarding (Cont.)</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Phone Display</a:t>
            </a:r>
            <a:br>
              <a:rPr sz="3000"/>
            </a:br>
            <a:r>
              <a:rPr b="1" lang="en-US" sz="3000" spc="-1" strike="noStrike">
                <a:solidFill>
                  <a:srgbClr val="ffffff"/>
                </a:solidFill>
                <a:latin typeface="Arial"/>
              </a:rPr>
              <a:t>Configuring</a:t>
            </a:r>
            <a:endParaRPr b="1" lang="en-US" sz="3000" spc="-1" strike="noStrike">
              <a:solidFill>
                <a:srgbClr val="ffffff"/>
              </a:solidFill>
              <a:latin typeface="Arial"/>
            </a:endParaRPr>
          </a:p>
        </p:txBody>
      </p:sp>
      <p:sp>
        <p:nvSpPr>
          <p:cNvPr id="251" name="PlaceHolder 2"/>
          <p:cNvSpPr>
            <a:spLocks noGrp="1"/>
          </p:cNvSpPr>
          <p:nvPr>
            <p:ph/>
          </p:nvPr>
        </p:nvSpPr>
        <p:spPr>
          <a:xfrm>
            <a:off x="655560" y="2590560"/>
            <a:ext cx="7940880" cy="231300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Phone Header Ba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 Text Message</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 Display Message (Idle URL)</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2" name=""/>
          <p:cNvSpPr/>
          <p:nvPr/>
        </p:nvSpPr>
        <p:spPr>
          <a:xfrm>
            <a:off x="654120" y="1600200"/>
            <a:ext cx="7778520" cy="119124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The Phone display can be customized in the following ways</a:t>
            </a:r>
            <a:endParaRPr b="0" lang="en-US" sz="26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739880" y="1523880"/>
            <a:ext cx="5197320" cy="3908520"/>
          </a:xfrm>
          <a:prstGeom prst="rect">
            <a:avLst/>
          </a:prstGeom>
          <a:ln w="0">
            <a:noFill/>
          </a:ln>
        </p:spPr>
      </p:pic>
      <p:sp>
        <p:nvSpPr>
          <p:cNvPr id="2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Phone Display (Cont.)</a:t>
            </a:r>
            <a:endParaRPr b="1" lang="en-US" sz="3000" spc="-1" strike="noStrike">
              <a:solidFill>
                <a:srgbClr val="ffffff"/>
              </a:solidFill>
              <a:latin typeface="Arial"/>
            </a:endParaRPr>
          </a:p>
        </p:txBody>
      </p:sp>
      <p:sp>
        <p:nvSpPr>
          <p:cNvPr id="255" name=""/>
          <p:cNvSpPr/>
          <p:nvPr/>
        </p:nvSpPr>
        <p:spPr>
          <a:xfrm flipV="1">
            <a:off x="1314360" y="2204640"/>
            <a:ext cx="4533840" cy="9720"/>
          </a:xfrm>
          <a:prstGeom prst="line">
            <a:avLst/>
          </a:prstGeom>
          <a:ln w="38160">
            <a:solidFill>
              <a:srgbClr val="ff0000"/>
            </a:solidFill>
            <a:miter/>
            <a:tailEnd len="med" type="triangle" w="med"/>
          </a:ln>
        </p:spPr>
        <p:style>
          <a:lnRef idx="0"/>
          <a:fillRef idx="0"/>
          <a:effectRef idx="0"/>
          <a:fontRef idx="minor"/>
        </p:style>
        <p:txBody>
          <a:bodyPr lIns="82080" rIns="82080" tIns="-31320" bIns="-31320" anchor="t">
            <a:noAutofit/>
          </a:bodyPr>
          <a:p>
            <a:endParaRPr b="0" lang="en-US" sz="2400" spc="-1" strike="noStrike">
              <a:solidFill>
                <a:srgbClr val="000000"/>
              </a:solidFill>
              <a:latin typeface="Arial"/>
            </a:endParaRPr>
          </a:p>
        </p:txBody>
      </p:sp>
      <p:sp>
        <p:nvSpPr>
          <p:cNvPr id="256" name=""/>
          <p:cNvSpPr/>
          <p:nvPr/>
        </p:nvSpPr>
        <p:spPr>
          <a:xfrm>
            <a:off x="6905520" y="1700280"/>
            <a:ext cx="838440" cy="2081160"/>
          </a:xfrm>
          <a:custGeom>
            <a:avLst/>
            <a:gdLst/>
            <a:ahLst/>
            <a:rect l="l" t="t" r="r" b="b"/>
            <a:pathLst>
              <a:path w="528" h="1311">
                <a:moveTo>
                  <a:pt x="528" y="1311"/>
                </a:moveTo>
                <a:lnTo>
                  <a:pt x="528" y="525"/>
                </a:lnTo>
                <a:lnTo>
                  <a:pt x="0" y="0"/>
                </a:lnTo>
              </a:path>
            </a:pathLst>
          </a:custGeom>
          <a:noFill/>
          <a:ln w="38160">
            <a:solidFill>
              <a:srgbClr val="ff0000"/>
            </a:solidFill>
            <a:round/>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257" name=""/>
          <p:cNvSpPr/>
          <p:nvPr/>
        </p:nvSpPr>
        <p:spPr>
          <a:xfrm>
            <a:off x="447840" y="5595840"/>
            <a:ext cx="340020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 Text Message</a:t>
            </a:r>
            <a:endParaRPr b="0" lang="en-US" sz="2400" spc="-1" strike="noStrike">
              <a:solidFill>
                <a:srgbClr val="000000"/>
              </a:solidFill>
              <a:latin typeface="Arial"/>
            </a:endParaRPr>
          </a:p>
        </p:txBody>
      </p:sp>
      <p:sp>
        <p:nvSpPr>
          <p:cNvPr id="258" name=""/>
          <p:cNvSpPr/>
          <p:nvPr/>
        </p:nvSpPr>
        <p:spPr>
          <a:xfrm>
            <a:off x="6934320" y="3881520"/>
            <a:ext cx="205740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Phone Header Bar</a:t>
            </a:r>
            <a:endParaRPr b="0" lang="en-US" sz="2400" spc="-1" strike="noStrike">
              <a:solidFill>
                <a:srgbClr val="000000"/>
              </a:solidFill>
              <a:latin typeface="Arial"/>
            </a:endParaRPr>
          </a:p>
        </p:txBody>
      </p:sp>
      <p:sp>
        <p:nvSpPr>
          <p:cNvPr id="259" name=""/>
          <p:cNvSpPr/>
          <p:nvPr/>
        </p:nvSpPr>
        <p:spPr>
          <a:xfrm>
            <a:off x="5019840" y="5548320"/>
            <a:ext cx="259056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 Display Message</a:t>
            </a:r>
            <a:endParaRPr b="0" lang="en-US" sz="2400" spc="-1" strike="noStrike">
              <a:solidFill>
                <a:srgbClr val="000000"/>
              </a:solidFill>
              <a:latin typeface="Arial"/>
            </a:endParaRPr>
          </a:p>
        </p:txBody>
      </p:sp>
      <p:sp>
        <p:nvSpPr>
          <p:cNvPr id="260" name=""/>
          <p:cNvSpPr/>
          <p:nvPr/>
        </p:nvSpPr>
        <p:spPr>
          <a:xfrm flipH="1" flipV="1">
            <a:off x="4143240" y="3481200"/>
            <a:ext cx="1990800" cy="199044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261" name=""/>
          <p:cNvSpPr/>
          <p:nvPr/>
        </p:nvSpPr>
        <p:spPr>
          <a:xfrm>
            <a:off x="324000" y="2033640"/>
            <a:ext cx="116208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abel</a:t>
            </a:r>
            <a:endParaRPr b="0" lang="en-US" sz="2400" spc="-1" strike="noStrike">
              <a:solidFill>
                <a:srgbClr val="000000"/>
              </a:solidFill>
              <a:latin typeface="Arial"/>
            </a:endParaRPr>
          </a:p>
        </p:txBody>
      </p:sp>
      <p:sp>
        <p:nvSpPr>
          <p:cNvPr id="262" name=""/>
          <p:cNvSpPr/>
          <p:nvPr/>
        </p:nvSpPr>
        <p:spPr>
          <a:xfrm flipV="1">
            <a:off x="1200240" y="4890600"/>
            <a:ext cx="914400" cy="72396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258"/>
                                        </p:tgtEl>
                                        <p:attrNameLst>
                                          <p:attrName>style.visibility</p:attrName>
                                        </p:attrNameLst>
                                      </p:cBhvr>
                                      <p:to>
                                        <p:strVal val="visible"/>
                                      </p:to>
                                    </p:set>
                                    <p:anim calcmode="lin" valueType="num">
                                      <p:cBhvr additive="base">
                                        <p:cTn id="35" dur="500" fill="hold"/>
                                        <p:tgtEl>
                                          <p:spTgt spid="258"/>
                                        </p:tgtEl>
                                        <p:attrNameLst>
                                          <p:attrName>ppt_x</p:attrName>
                                        </p:attrNameLst>
                                      </p:cBhvr>
                                      <p:tavLst>
                                        <p:tav tm="0">
                                          <p:val>
                                            <p:strVal val="1+#ppt_w/2"/>
                                          </p:val>
                                        </p:tav>
                                        <p:tav tm="100000">
                                          <p:val>
                                            <p:strVal val="#ppt_x"/>
                                          </p:val>
                                        </p:tav>
                                      </p:tavLst>
                                    </p:anim>
                                    <p:anim calcmode="lin" valueType="num">
                                      <p:cBhvr additive="base">
                                        <p:cTn id="36" dur="500" fill="hold"/>
                                        <p:tgtEl>
                                          <p:spTgt spid="258"/>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2" presetSubtype="4">
                                  <p:stCondLst>
                                    <p:cond delay="0"/>
                                  </p:stCondLst>
                                  <p:childTnLst>
                                    <p:set>
                                      <p:cBhvr>
                                        <p:cTn id="39" dur="1" fill="hold">
                                          <p:stCondLst>
                                            <p:cond delay="0"/>
                                          </p:stCondLst>
                                        </p:cTn>
                                        <p:tgtEl>
                                          <p:spTgt spid="256"/>
                                        </p:tgtEl>
                                        <p:attrNameLst>
                                          <p:attrName>style.visibility</p:attrName>
                                        </p:attrNameLst>
                                      </p:cBhvr>
                                      <p:to>
                                        <p:strVal val="visible"/>
                                      </p:to>
                                    </p:set>
                                    <p:animEffect filter="wipe(down)" transition="in">
                                      <p:cBhvr additive="repl">
                                        <p:cTn id="40" dur="500"/>
                                        <p:tgtEl>
                                          <p:spTgt spid="25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57"/>
                                        </p:tgtEl>
                                        <p:attrNameLst>
                                          <p:attrName>style.visibility</p:attrName>
                                        </p:attrNameLst>
                                      </p:cBhvr>
                                      <p:to>
                                        <p:strVal val="visible"/>
                                      </p:to>
                                    </p:set>
                                    <p:anim calcmode="lin" valueType="num">
                                      <p:cBhvr additive="base">
                                        <p:cTn id="45" dur="500" fill="hold"/>
                                        <p:tgtEl>
                                          <p:spTgt spid="257"/>
                                        </p:tgtEl>
                                        <p:attrNameLst>
                                          <p:attrName>ppt_x</p:attrName>
                                        </p:attrNameLst>
                                      </p:cBhvr>
                                      <p:tavLst>
                                        <p:tav tm="0">
                                          <p:val>
                                            <p:strVal val="#ppt_x"/>
                                          </p:val>
                                        </p:tav>
                                        <p:tav tm="100000">
                                          <p:val>
                                            <p:strVal val="#ppt_x"/>
                                          </p:val>
                                        </p:tav>
                                      </p:tavLst>
                                    </p:anim>
                                    <p:anim calcmode="lin" valueType="num">
                                      <p:cBhvr additive="base">
                                        <p:cTn id="46" dur="500" fill="hold"/>
                                        <p:tgtEl>
                                          <p:spTgt spid="257"/>
                                        </p:tgtEl>
                                        <p:attrNameLst>
                                          <p:attrName>ppt_y</p:attrName>
                                        </p:attrNameLst>
                                      </p:cBhvr>
                                      <p:tavLst>
                                        <p:tav tm="0">
                                          <p:val>
                                            <p:strVal val="1+#ppt_h/2"/>
                                          </p:val>
                                        </p:tav>
                                        <p:tav tm="100000">
                                          <p:val>
                                            <p:strVal val="#ppt_y"/>
                                          </p:val>
                                        </p:tav>
                                      </p:tavLst>
                                    </p:anim>
                                  </p:childTnLst>
                                </p:cTn>
                              </p:par>
                            </p:childTnLst>
                          </p:cTn>
                        </p:par>
                        <p:par>
                          <p:cTn id="47" fill="hold">
                            <p:stCondLst>
                              <p:cond delay="500"/>
                            </p:stCondLst>
                            <p:childTnLst>
                              <p:par>
                                <p:cTn id="48" nodeType="afterEffect" fill="hold" presetClass="entr" presetID="22" presetSubtype="4">
                                  <p:stCondLst>
                                    <p:cond delay="0"/>
                                  </p:stCondLst>
                                  <p:childTnLst>
                                    <p:set>
                                      <p:cBhvr>
                                        <p:cTn id="49" dur="1" fill="hold">
                                          <p:stCondLst>
                                            <p:cond delay="0"/>
                                          </p:stCondLst>
                                        </p:cTn>
                                        <p:tgtEl>
                                          <p:spTgt spid="255"/>
                                        </p:tgtEl>
                                        <p:attrNameLst>
                                          <p:attrName>style.visibility</p:attrName>
                                        </p:attrNameLst>
                                      </p:cBhvr>
                                      <p:to>
                                        <p:strVal val="visible"/>
                                      </p:to>
                                    </p:set>
                                    <p:animEffect filter="wipe(down)" transition="in">
                                      <p:cBhvr additive="repl">
                                        <p:cTn id="50" dur="500"/>
                                        <p:tgtEl>
                                          <p:spTgt spid="25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59"/>
                                        </p:tgtEl>
                                        <p:attrNameLst>
                                          <p:attrName>style.visibility</p:attrName>
                                        </p:attrNameLst>
                                      </p:cBhvr>
                                      <p:to>
                                        <p:strVal val="visible"/>
                                      </p:to>
                                    </p:set>
                                    <p:anim calcmode="lin" valueType="num">
                                      <p:cBhvr additive="base">
                                        <p:cTn id="55" dur="500" fill="hold"/>
                                        <p:tgtEl>
                                          <p:spTgt spid="259"/>
                                        </p:tgtEl>
                                        <p:attrNameLst>
                                          <p:attrName>ppt_x</p:attrName>
                                        </p:attrNameLst>
                                      </p:cBhvr>
                                      <p:tavLst>
                                        <p:tav tm="0">
                                          <p:val>
                                            <p:strVal val="#ppt_x"/>
                                          </p:val>
                                        </p:tav>
                                        <p:tav tm="100000">
                                          <p:val>
                                            <p:strVal val="#ppt_x"/>
                                          </p:val>
                                        </p:tav>
                                      </p:tavLst>
                                    </p:anim>
                                    <p:anim calcmode="lin" valueType="num">
                                      <p:cBhvr additive="base">
                                        <p:cTn id="56"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260"/>
                                        </p:tgtEl>
                                        <p:attrNameLst>
                                          <p:attrName>style.visibility</p:attrName>
                                        </p:attrNameLst>
                                      </p:cBhvr>
                                      <p:to>
                                        <p:strVal val="visible"/>
                                      </p:to>
                                    </p:set>
                                    <p:animEffect filter="wipe(down)" transition="in">
                                      <p:cBhvr additive="repl">
                                        <p:cTn id="61" dur="500"/>
                                        <p:tgtEl>
                                          <p:spTgt spid="2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61"/>
                                        </p:tgtEl>
                                        <p:attrNameLst>
                                          <p:attrName>style.visibility</p:attrName>
                                        </p:attrNameLst>
                                      </p:cBhvr>
                                      <p:to>
                                        <p:strVal val="visible"/>
                                      </p:to>
                                    </p:set>
                                    <p:anim calcmode="lin" valueType="num">
                                      <p:cBhvr additive="base">
                                        <p:cTn id="66" dur="500" fill="hold"/>
                                        <p:tgtEl>
                                          <p:spTgt spid="261"/>
                                        </p:tgtEl>
                                        <p:attrNameLst>
                                          <p:attrName>ppt_x</p:attrName>
                                        </p:attrNameLst>
                                      </p:cBhvr>
                                      <p:tavLst>
                                        <p:tav tm="0">
                                          <p:val>
                                            <p:strVal val="#ppt_x"/>
                                          </p:val>
                                        </p:tav>
                                        <p:tav tm="100000">
                                          <p:val>
                                            <p:strVal val="#ppt_x"/>
                                          </p:val>
                                        </p:tav>
                                      </p:tavLst>
                                    </p:anim>
                                    <p:anim calcmode="lin" valueType="num">
                                      <p:cBhvr additive="base">
                                        <p:cTn id="67" dur="500" fill="hold"/>
                                        <p:tgtEl>
                                          <p:spTgt spid="261"/>
                                        </p:tgtEl>
                                        <p:attrNameLst>
                                          <p:attrName>ppt_y</p:attrName>
                                        </p:attrNameLst>
                                      </p:cBhvr>
                                      <p:tavLst>
                                        <p:tav tm="0">
                                          <p:val>
                                            <p:strVal val="1+#ppt_h/2"/>
                                          </p:val>
                                        </p:tav>
                                        <p:tav tm="100000">
                                          <p:val>
                                            <p:strVal val="#ppt_y"/>
                                          </p:val>
                                        </p:tav>
                                      </p:tavLst>
                                    </p:anim>
                                  </p:childTnLst>
                                </p:cTn>
                              </p:par>
                            </p:childTnLst>
                          </p:cTn>
                        </p:par>
                        <p:par>
                          <p:cTn id="68" fill="hold">
                            <p:stCondLst>
                              <p:cond delay="500"/>
                            </p:stCondLst>
                            <p:childTnLst>
                              <p:par>
                                <p:cTn id="69" nodeType="afterEffect" fill="hold" presetClass="entr" presetID="22" presetSubtype="4">
                                  <p:stCondLst>
                                    <p:cond delay="0"/>
                                  </p:stCondLst>
                                  <p:childTnLst>
                                    <p:set>
                                      <p:cBhvr>
                                        <p:cTn id="70" dur="1" fill="hold">
                                          <p:stCondLst>
                                            <p:cond delay="0"/>
                                          </p:stCondLst>
                                        </p:cTn>
                                        <p:tgtEl>
                                          <p:spTgt spid="262"/>
                                        </p:tgtEl>
                                        <p:attrNameLst>
                                          <p:attrName>style.visibility</p:attrName>
                                        </p:attrNameLst>
                                      </p:cBhvr>
                                      <p:to>
                                        <p:strVal val="visible"/>
                                      </p:to>
                                    </p:set>
                                    <p:animEffect filter="wipe(down)" transition="in">
                                      <p:cBhvr additive="repl">
                                        <p:cTn id="7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50720" y="22557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ephone-dn </a:t>
            </a:r>
            <a:r>
              <a:rPr b="1" i="1" lang="en-US" sz="1800" spc="-1" strike="noStrike">
                <a:solidFill>
                  <a:srgbClr val="000000"/>
                </a:solidFill>
                <a:latin typeface="Courier New"/>
              </a:rPr>
              <a:t>dn-tag</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4" name=""/>
          <p:cNvSpPr/>
          <p:nvPr/>
        </p:nvSpPr>
        <p:spPr>
          <a:xfrm>
            <a:off x="396720" y="19112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a:t>
            </a:r>
            <a:endParaRPr b="0" lang="en-US" sz="1600" spc="-1" strike="noStrike">
              <a:solidFill>
                <a:srgbClr val="000000"/>
              </a:solidFill>
              <a:latin typeface="Arial"/>
            </a:endParaRPr>
          </a:p>
        </p:txBody>
      </p:sp>
      <p:sp>
        <p:nvSpPr>
          <p:cNvPr id="265" name=""/>
          <p:cNvSpPr/>
          <p:nvPr/>
        </p:nvSpPr>
        <p:spPr>
          <a:xfrm>
            <a:off x="380880" y="271476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s ephone-dn configuration mode</a:t>
            </a:r>
            <a:endParaRPr b="0" lang="en-US" sz="2400" spc="-1" strike="noStrike">
              <a:solidFill>
                <a:srgbClr val="000000"/>
              </a:solidFill>
              <a:latin typeface="Arial"/>
            </a:endParaRPr>
          </a:p>
        </p:txBody>
      </p:sp>
      <p:sp>
        <p:nvSpPr>
          <p:cNvPr id="266" name=""/>
          <p:cNvSpPr/>
          <p:nvPr/>
        </p:nvSpPr>
        <p:spPr>
          <a:xfrm>
            <a:off x="450720" y="36972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description </a:t>
            </a:r>
            <a:r>
              <a:rPr b="1" i="1" lang="en-US" sz="1800" spc="-1" strike="noStrike">
                <a:solidFill>
                  <a:srgbClr val="000000"/>
                </a:solidFill>
                <a:latin typeface="Courier New"/>
              </a:rPr>
              <a:t>display-text</a:t>
            </a:r>
            <a:endParaRPr b="0" lang="en-US" sz="1800" spc="-1" strike="noStrike">
              <a:solidFill>
                <a:srgbClr val="000000"/>
              </a:solidFill>
              <a:latin typeface="Arial"/>
            </a:endParaRPr>
          </a:p>
        </p:txBody>
      </p:sp>
      <p:sp>
        <p:nvSpPr>
          <p:cNvPr id="267" name=""/>
          <p:cNvSpPr/>
          <p:nvPr/>
        </p:nvSpPr>
        <p:spPr>
          <a:xfrm>
            <a:off x="396720" y="33526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268" name=""/>
          <p:cNvSpPr/>
          <p:nvPr/>
        </p:nvSpPr>
        <p:spPr>
          <a:xfrm>
            <a:off x="380880" y="41562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s the header bar for the IP Phone</a:t>
            </a:r>
            <a:endParaRPr b="0" lang="en-US" sz="2400" spc="-1" strike="noStrike">
              <a:solidFill>
                <a:srgbClr val="000000"/>
              </a:solidFill>
              <a:latin typeface="Arial"/>
            </a:endParaRPr>
          </a:p>
        </p:txBody>
      </p:sp>
      <p:sp>
        <p:nvSpPr>
          <p:cNvPr id="2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Phone Display (Cont.)</a:t>
            </a:r>
            <a:endParaRPr b="1" lang="en-US" sz="3000" spc="-1" strike="noStrike">
              <a:solidFill>
                <a:srgbClr val="ffffff"/>
              </a:solidFill>
              <a:latin typeface="Arial"/>
            </a:endParaRPr>
          </a:p>
        </p:txBody>
      </p:sp>
      <p:sp>
        <p:nvSpPr>
          <p:cNvPr id="270" name=""/>
          <p:cNvSpPr/>
          <p:nvPr/>
        </p:nvSpPr>
        <p:spPr>
          <a:xfrm>
            <a:off x="457200" y="1390680"/>
            <a:ext cx="518148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Phone Header Bar</a:t>
            </a:r>
            <a:endParaRPr b="0" lang="en-US" sz="2400" spc="-1" strike="noStrike">
              <a:solidFill>
                <a:srgbClr val="000000"/>
              </a:solidFill>
              <a:latin typeface="Arial"/>
            </a:endParaRPr>
          </a:p>
        </p:txBody>
      </p:sp>
      <p:sp>
        <p:nvSpPr>
          <p:cNvPr id="271" name=""/>
          <p:cNvSpPr/>
          <p:nvPr/>
        </p:nvSpPr>
        <p:spPr>
          <a:xfrm>
            <a:off x="450720" y="52214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label </a:t>
            </a:r>
            <a:r>
              <a:rPr b="1" i="1" lang="en-US" sz="1800" spc="-1" strike="noStrike">
                <a:solidFill>
                  <a:srgbClr val="000000"/>
                </a:solidFill>
                <a:latin typeface="Courier New"/>
              </a:rPr>
              <a:t>string</a:t>
            </a:r>
            <a:endParaRPr b="0" lang="en-US" sz="1800" spc="-1" strike="noStrike">
              <a:solidFill>
                <a:srgbClr val="000000"/>
              </a:solidFill>
              <a:latin typeface="Arial"/>
            </a:endParaRPr>
          </a:p>
        </p:txBody>
      </p:sp>
      <p:sp>
        <p:nvSpPr>
          <p:cNvPr id="272" name=""/>
          <p:cNvSpPr/>
          <p:nvPr/>
        </p:nvSpPr>
        <p:spPr>
          <a:xfrm>
            <a:off x="396720" y="487692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273" name=""/>
          <p:cNvSpPr/>
          <p:nvPr/>
        </p:nvSpPr>
        <p:spPr>
          <a:xfrm>
            <a:off x="380880" y="568008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s a label on the line instead of the line number</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system message </a:t>
            </a:r>
            <a:r>
              <a:rPr b="1" i="1" lang="en-US" sz="1800" spc="-1" strike="noStrike">
                <a:solidFill>
                  <a:srgbClr val="000000"/>
                </a:solidFill>
                <a:latin typeface="Courier New"/>
              </a:rPr>
              <a:t>text-message</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75" name=""/>
          <p:cNvSpPr/>
          <p:nvPr/>
        </p:nvSpPr>
        <p:spPr>
          <a:xfrm>
            <a:off x="396720" y="2168640"/>
            <a:ext cx="5445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telephony-service)#</a:t>
            </a:r>
            <a:endParaRPr b="0" lang="en-US" sz="1600" spc="-1" strike="noStrike">
              <a:solidFill>
                <a:srgbClr val="000000"/>
              </a:solidFill>
              <a:latin typeface="Arial"/>
            </a:endParaRPr>
          </a:p>
        </p:txBody>
      </p:sp>
      <p:sp>
        <p:nvSpPr>
          <p:cNvPr id="276" name=""/>
          <p:cNvSpPr/>
          <p:nvPr/>
        </p:nvSpPr>
        <p:spPr>
          <a:xfrm>
            <a:off x="380880" y="29718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the text message to play when the phone is idle</a:t>
            </a:r>
            <a:endParaRPr b="0" lang="en-US" sz="2400" spc="-1" strike="noStrike">
              <a:solidFill>
                <a:srgbClr val="000000"/>
              </a:solidFill>
              <a:latin typeface="Arial"/>
            </a:endParaRPr>
          </a:p>
        </p:txBody>
      </p:sp>
      <p:sp>
        <p:nvSpPr>
          <p:cNvPr id="277" name=""/>
          <p:cNvSpPr/>
          <p:nvPr/>
        </p:nvSpPr>
        <p:spPr>
          <a:xfrm>
            <a:off x="450720" y="41544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url idle </a:t>
            </a:r>
            <a:r>
              <a:rPr b="1" i="1" lang="en-US" sz="1800" spc="-1" strike="noStrike">
                <a:solidFill>
                  <a:srgbClr val="000000"/>
                </a:solidFill>
                <a:latin typeface="Courier New"/>
              </a:rPr>
              <a:t>url </a:t>
            </a:r>
            <a:r>
              <a:rPr b="1" lang="en-US" sz="1800" spc="-1" strike="noStrike">
                <a:solidFill>
                  <a:srgbClr val="000000"/>
                </a:solidFill>
                <a:latin typeface="Courier New"/>
              </a:rPr>
              <a:t>idle-timeout </a:t>
            </a:r>
            <a:r>
              <a:rPr b="1" i="1" lang="en-US" sz="1800" spc="-1" strike="noStrike">
                <a:solidFill>
                  <a:srgbClr val="000000"/>
                </a:solidFill>
                <a:latin typeface="Courier New"/>
              </a:rPr>
              <a:t>seconds</a:t>
            </a:r>
            <a:endParaRPr b="0" lang="en-US" sz="1800" spc="-1" strike="noStrike">
              <a:solidFill>
                <a:srgbClr val="000000"/>
              </a:solidFill>
              <a:latin typeface="Arial"/>
            </a:endParaRPr>
          </a:p>
        </p:txBody>
      </p:sp>
      <p:sp>
        <p:nvSpPr>
          <p:cNvPr id="278" name=""/>
          <p:cNvSpPr/>
          <p:nvPr/>
        </p:nvSpPr>
        <p:spPr>
          <a:xfrm>
            <a:off x="396720" y="3809880"/>
            <a:ext cx="53294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telephony-service)#</a:t>
            </a:r>
            <a:endParaRPr b="0" lang="en-US" sz="1600" spc="-1" strike="noStrike">
              <a:solidFill>
                <a:srgbClr val="000000"/>
              </a:solidFill>
              <a:latin typeface="Arial"/>
            </a:endParaRPr>
          </a:p>
        </p:txBody>
      </p:sp>
      <p:sp>
        <p:nvSpPr>
          <p:cNvPr id="279" name=""/>
          <p:cNvSpPr/>
          <p:nvPr/>
        </p:nvSpPr>
        <p:spPr>
          <a:xfrm>
            <a:off x="380880" y="46134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a url to be displayed on the IP phone when idle for the set number of seconds</a:t>
            </a:r>
            <a:endParaRPr b="0" lang="en-US" sz="2400" spc="-1" strike="noStrike">
              <a:solidFill>
                <a:srgbClr val="000000"/>
              </a:solidFill>
              <a:latin typeface="Arial"/>
            </a:endParaRPr>
          </a:p>
        </p:txBody>
      </p:sp>
      <p:sp>
        <p:nvSpPr>
          <p:cNvPr id="2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Phone Display (Cont.)</a:t>
            </a:r>
            <a:endParaRPr b="1" lang="en-US" sz="3000" spc="-1" strike="noStrike">
              <a:solidFill>
                <a:srgbClr val="ffffff"/>
              </a:solidFill>
              <a:latin typeface="Arial"/>
            </a:endParaRPr>
          </a:p>
        </p:txBody>
      </p:sp>
      <p:sp>
        <p:nvSpPr>
          <p:cNvPr id="281" name=""/>
          <p:cNvSpPr/>
          <p:nvPr/>
        </p:nvSpPr>
        <p:spPr>
          <a:xfrm>
            <a:off x="457200" y="1523880"/>
            <a:ext cx="563868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 Display Message (Idle URL)</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url {directory | services}</a:t>
            </a:r>
            <a:r>
              <a:rPr b="1" i="1" lang="en-US" sz="1800" spc="-1" strike="noStrike">
                <a:solidFill>
                  <a:srgbClr val="000000"/>
                </a:solidFill>
                <a:latin typeface="Courier New"/>
              </a:rPr>
              <a:t> url</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83" name=""/>
          <p:cNvSpPr/>
          <p:nvPr/>
        </p:nvSpPr>
        <p:spPr>
          <a:xfrm>
            <a:off x="396720" y="2168640"/>
            <a:ext cx="5559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telephony-service)#</a:t>
            </a:r>
            <a:endParaRPr b="0" lang="en-US" sz="1600" spc="-1" strike="noStrike">
              <a:solidFill>
                <a:srgbClr val="000000"/>
              </a:solidFill>
              <a:latin typeface="Arial"/>
            </a:endParaRPr>
          </a:p>
        </p:txBody>
      </p:sp>
      <p:sp>
        <p:nvSpPr>
          <p:cNvPr id="284" name=""/>
          <p:cNvSpPr/>
          <p:nvPr/>
        </p:nvSpPr>
        <p:spPr>
          <a:xfrm>
            <a:off x="380880" y="29718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the url that will be used when the corresponding function button is pressed</a:t>
            </a:r>
            <a:endParaRPr b="0" lang="en-US" sz="2400" spc="-1" strike="noStrike">
              <a:solidFill>
                <a:srgbClr val="000000"/>
              </a:solidFill>
              <a:latin typeface="Arial"/>
            </a:endParaRPr>
          </a:p>
        </p:txBody>
      </p:sp>
      <p:sp>
        <p:nvSpPr>
          <p:cNvPr id="2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Phone Display (Cont.)</a:t>
            </a:r>
            <a:endParaRPr b="1" lang="en-US" sz="3000" spc="-1" strike="noStrike">
              <a:solidFill>
                <a:srgbClr val="ffffff"/>
              </a:solidFill>
              <a:latin typeface="Arial"/>
            </a:endParaRPr>
          </a:p>
        </p:txBody>
      </p:sp>
      <p:sp>
        <p:nvSpPr>
          <p:cNvPr id="286" name=""/>
          <p:cNvSpPr/>
          <p:nvPr/>
        </p:nvSpPr>
        <p:spPr>
          <a:xfrm>
            <a:off x="457200" y="1523880"/>
            <a:ext cx="819936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ovisioning URL for customized function buttons</a:t>
            </a:r>
            <a:endParaRPr b="0" lang="en-US" sz="2400" spc="-1" strike="noStrike">
              <a:solidFill>
                <a:srgbClr val="000000"/>
              </a:solidFill>
              <a:latin typeface="Arial"/>
            </a:endParaRPr>
          </a:p>
        </p:txBody>
      </p:sp>
      <p:sp>
        <p:nvSpPr>
          <p:cNvPr id="287" name=""/>
          <p:cNvSpPr/>
          <p:nvPr/>
        </p:nvSpPr>
        <p:spPr>
          <a:xfrm>
            <a:off x="541440" y="4098960"/>
            <a:ext cx="8221680" cy="879480"/>
          </a:xfrm>
          <a:prstGeom prst="rect">
            <a:avLst/>
          </a:prstGeom>
          <a:noFill/>
          <a:ln w="28440">
            <a:solidFill>
              <a:srgbClr val="000000"/>
            </a:solidFill>
            <a:miter/>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telephony-service</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url directories http://10.4.212.11/localdirectory</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url services http://10.4.212.4/CCMUser/123456/urltest.html  </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600120" y="4962600"/>
            <a:ext cx="1762200" cy="1019160"/>
          </a:xfrm>
          <a:prstGeom prst="roundRect">
            <a:avLst>
              <a:gd name="adj" fmla="val 36292"/>
            </a:avLst>
          </a:prstGeom>
          <a:solidFill>
            <a:srgbClr val="666699"/>
          </a:solidFill>
          <a:ln w="38160">
            <a:solidFill>
              <a:srgbClr val="666699"/>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289" name=""/>
          <p:cNvSpPr/>
          <p:nvPr/>
        </p:nvSpPr>
        <p:spPr>
          <a:xfrm>
            <a:off x="571680" y="4924440"/>
            <a:ext cx="1761840" cy="1019160"/>
          </a:xfrm>
          <a:prstGeom prst="roundRect">
            <a:avLst>
              <a:gd name="adj" fmla="val 36292"/>
            </a:avLst>
          </a:prstGeom>
          <a:solidFill>
            <a:srgbClr val="808080"/>
          </a:solidFill>
          <a:ln w="38160">
            <a:solidFill>
              <a:srgbClr val="80808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290" name=""/>
          <p:cNvSpPr/>
          <p:nvPr/>
        </p:nvSpPr>
        <p:spPr>
          <a:xfrm>
            <a:off x="655560" y="1676520"/>
            <a:ext cx="711216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ing and Directory Features</a:t>
            </a:r>
            <a:endParaRPr b="1" lang="en-US" sz="3000" spc="-1" strike="noStrike">
              <a:solidFill>
                <a:srgbClr val="ffffff"/>
              </a:solidFill>
              <a:latin typeface="Arial"/>
            </a:endParaRPr>
          </a:p>
        </p:txBody>
      </p:sp>
      <p:graphicFrame>
        <p:nvGraphicFramePr>
          <p:cNvPr id="292" name=""/>
          <p:cNvGraphicFramePr/>
          <p:nvPr/>
        </p:nvGraphicFramePr>
        <p:xfrm>
          <a:off x="568440" y="5070600"/>
          <a:ext cx="1825560" cy="734760"/>
        </p:xfrm>
        <a:graphic>
          <a:graphicData uri="http://schemas.openxmlformats.org/presentationml/2006/ole">
            <p:oleObj r:id="rId1" spid="">
              <p:embed/>
              <p:pic>
                <p:nvPicPr>
                  <p:cNvPr id="293" name="" descr=""/>
                  <p:cNvPicPr/>
                  <p:nvPr/>
                </p:nvPicPr>
                <p:blipFill>
                  <a:blip r:embed="rId2"/>
                  <a:stretch/>
                </p:blipFill>
                <p:spPr>
                  <a:xfrm>
                    <a:off x="568440" y="5070600"/>
                    <a:ext cx="1825560" cy="734760"/>
                  </a:xfrm>
                  <a:prstGeom prst="rect">
                    <a:avLst/>
                  </a:prstGeom>
                  <a:ln w="0">
                    <a:noFill/>
                  </a:ln>
                </p:spPr>
              </p:pic>
            </p:oleObj>
          </a:graphicData>
        </a:graphic>
      </p:graphicFrame>
      <p:sp>
        <p:nvSpPr>
          <p:cNvPr id="294" name=""/>
          <p:cNvSpPr/>
          <p:nvPr/>
        </p:nvSpPr>
        <p:spPr>
          <a:xfrm>
            <a:off x="399960" y="1733400"/>
            <a:ext cx="2505240" cy="25491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Directory can be accessed by pressing the directory button</a:t>
            </a:r>
            <a:endParaRPr b="0" lang="en-US" sz="3000" spc="-1" strike="noStrike">
              <a:solidFill>
                <a:srgbClr val="000000"/>
              </a:solidFill>
              <a:latin typeface="Arial"/>
            </a:endParaRPr>
          </a:p>
        </p:txBody>
      </p:sp>
      <p:pic>
        <p:nvPicPr>
          <p:cNvPr id="295" name="" descr=""/>
          <p:cNvPicPr/>
          <p:nvPr/>
        </p:nvPicPr>
        <p:blipFill>
          <a:blip r:embed="rId3"/>
          <a:stretch/>
        </p:blipFill>
        <p:spPr>
          <a:xfrm>
            <a:off x="3400560" y="1806480"/>
            <a:ext cx="5151240" cy="38642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55560" y="1676520"/>
            <a:ext cx="711216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ing and Directory Features (Cont.)</a:t>
            </a:r>
            <a:endParaRPr b="1" lang="en-US" sz="3000" spc="-1" strike="noStrike">
              <a:solidFill>
                <a:srgbClr val="ffffff"/>
              </a:solidFill>
              <a:latin typeface="Arial"/>
            </a:endParaRPr>
          </a:p>
        </p:txBody>
      </p:sp>
      <p:graphicFrame>
        <p:nvGraphicFramePr>
          <p:cNvPr id="298" name=""/>
          <p:cNvGraphicFramePr/>
          <p:nvPr/>
        </p:nvGraphicFramePr>
        <p:xfrm>
          <a:off x="568440" y="5070600"/>
          <a:ext cx="1825560" cy="734760"/>
        </p:xfrm>
        <a:graphic>
          <a:graphicData uri="http://schemas.openxmlformats.org/presentationml/2006/ole">
            <p:oleObj r:id="rId1" spid="">
              <p:embed/>
              <p:pic>
                <p:nvPicPr>
                  <p:cNvPr id="299" name="" descr=""/>
                  <p:cNvPicPr/>
                  <p:nvPr/>
                </p:nvPicPr>
                <p:blipFill>
                  <a:blip r:embed="rId2"/>
                  <a:stretch/>
                </p:blipFill>
                <p:spPr>
                  <a:xfrm>
                    <a:off x="568440" y="5070600"/>
                    <a:ext cx="1825560" cy="734760"/>
                  </a:xfrm>
                  <a:prstGeom prst="rect">
                    <a:avLst/>
                  </a:prstGeom>
                  <a:ln w="0">
                    <a:noFill/>
                  </a:ln>
                </p:spPr>
              </p:pic>
            </p:oleObj>
          </a:graphicData>
        </a:graphic>
      </p:graphicFrame>
      <p:sp>
        <p:nvSpPr>
          <p:cNvPr id="300" name=""/>
          <p:cNvSpPr/>
          <p:nvPr/>
        </p:nvSpPr>
        <p:spPr>
          <a:xfrm>
            <a:off x="428760" y="2752560"/>
            <a:ext cx="2860560" cy="25491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The directory can be accessed through the phone user Web page</a:t>
            </a:r>
            <a:endParaRPr b="0" lang="en-US" sz="3000" spc="-1" strike="noStrike">
              <a:solidFill>
                <a:srgbClr val="000000"/>
              </a:solidFill>
              <a:latin typeface="Arial"/>
            </a:endParaRPr>
          </a:p>
        </p:txBody>
      </p:sp>
      <p:pic>
        <p:nvPicPr>
          <p:cNvPr id="301" name="" descr=""/>
          <p:cNvPicPr/>
          <p:nvPr/>
        </p:nvPicPr>
        <p:blipFill>
          <a:blip r:embed="rId3"/>
          <a:stretch/>
        </p:blipFill>
        <p:spPr>
          <a:xfrm>
            <a:off x="3581280" y="2133720"/>
            <a:ext cx="5156280" cy="4184640"/>
          </a:xfrm>
          <a:prstGeom prst="rect">
            <a:avLst/>
          </a:prstGeom>
          <a:ln w="0">
            <a:noFill/>
          </a:ln>
        </p:spPr>
      </p:pic>
      <p:sp>
        <p:nvSpPr>
          <p:cNvPr id="302" name=""/>
          <p:cNvSpPr/>
          <p:nvPr/>
        </p:nvSpPr>
        <p:spPr>
          <a:xfrm>
            <a:off x="1305000" y="1467000"/>
            <a:ext cx="6858000" cy="493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HTTP://</a:t>
            </a:r>
            <a:r>
              <a:rPr b="1" i="1" lang="en-US" sz="3000" spc="-1" strike="noStrike">
                <a:solidFill>
                  <a:srgbClr val="000000"/>
                </a:solidFill>
                <a:latin typeface="Arial"/>
              </a:rPr>
              <a:t>ip_address</a:t>
            </a:r>
            <a:r>
              <a:rPr b="1" lang="en-US" sz="3000" spc="-1" strike="noStrike">
                <a:solidFill>
                  <a:srgbClr val="000000"/>
                </a:solidFill>
                <a:latin typeface="Arial"/>
              </a:rPr>
              <a:t>/ccme.html</a:t>
            </a: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6320" y="3200400"/>
            <a:ext cx="3657600" cy="251460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 and Customer Administrator Web-based GUI interface</a:t>
            </a:r>
            <a:endParaRPr b="0" lang="en-US" sz="2400" spc="-1" strike="noStrike">
              <a:solidFill>
                <a:srgbClr val="000000"/>
              </a:solidFill>
              <a:latin typeface="Arial"/>
            </a:endParaRPr>
          </a:p>
        </p:txBody>
      </p:sp>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User Classes (Cont.)</a:t>
            </a:r>
            <a:endParaRPr b="1" lang="en-US" sz="3000" spc="-1" strike="noStrike">
              <a:solidFill>
                <a:srgbClr val="ffffff"/>
              </a:solidFill>
              <a:latin typeface="Arial"/>
            </a:endParaRPr>
          </a:p>
        </p:txBody>
      </p:sp>
      <p:pic>
        <p:nvPicPr>
          <p:cNvPr id="110" name="" descr=""/>
          <p:cNvPicPr/>
          <p:nvPr/>
        </p:nvPicPr>
        <p:blipFill>
          <a:blip r:embed="rId1"/>
          <a:stretch/>
        </p:blipFill>
        <p:spPr>
          <a:xfrm>
            <a:off x="3622680" y="2057400"/>
            <a:ext cx="5334120" cy="4308480"/>
          </a:xfrm>
          <a:prstGeom prst="rect">
            <a:avLst/>
          </a:prstGeom>
          <a:ln w="0">
            <a:noFill/>
          </a:ln>
        </p:spPr>
      </p:pic>
      <p:sp>
        <p:nvSpPr>
          <p:cNvPr id="111" name=""/>
          <p:cNvSpPr/>
          <p:nvPr/>
        </p:nvSpPr>
        <p:spPr>
          <a:xfrm>
            <a:off x="3429000" y="3452760"/>
            <a:ext cx="4114800" cy="6094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12" name=""/>
          <p:cNvSpPr/>
          <p:nvPr/>
        </p:nvSpPr>
        <p:spPr>
          <a:xfrm>
            <a:off x="1676520" y="1447920"/>
            <a:ext cx="6019560" cy="493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HTTP://</a:t>
            </a:r>
            <a:r>
              <a:rPr b="1" i="1" lang="en-US" sz="3000" spc="-1" strike="noStrike">
                <a:solidFill>
                  <a:srgbClr val="000000"/>
                </a:solidFill>
                <a:latin typeface="Arial"/>
              </a:rPr>
              <a:t>ip_address</a:t>
            </a:r>
            <a:r>
              <a:rPr b="1" lang="en-US" sz="3000" spc="-1" strike="noStrike">
                <a:solidFill>
                  <a:srgbClr val="000000"/>
                </a:solidFill>
                <a:latin typeface="Arial"/>
              </a:rPr>
              <a:t>/ccme.html</a:t>
            </a:r>
            <a:endParaRPr b="0" lang="en-US" sz="3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655560" y="1676520"/>
            <a:ext cx="711216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ing and Directory Features (Cont.)</a:t>
            </a:r>
            <a:endParaRPr b="1" lang="en-US" sz="3000" spc="-1" strike="noStrike">
              <a:solidFill>
                <a:srgbClr val="ffffff"/>
              </a:solidFill>
              <a:latin typeface="Arial"/>
            </a:endParaRPr>
          </a:p>
        </p:txBody>
      </p:sp>
      <p:pic>
        <p:nvPicPr>
          <p:cNvPr id="305" name="" descr=""/>
          <p:cNvPicPr/>
          <p:nvPr/>
        </p:nvPicPr>
        <p:blipFill>
          <a:blip r:embed="rId1"/>
          <a:stretch/>
        </p:blipFill>
        <p:spPr>
          <a:xfrm>
            <a:off x="204840" y="1295280"/>
            <a:ext cx="5648400" cy="4010040"/>
          </a:xfrm>
          <a:prstGeom prst="rect">
            <a:avLst/>
          </a:prstGeom>
          <a:ln w="19080">
            <a:solidFill>
              <a:srgbClr val="000000"/>
            </a:solidFill>
            <a:miter/>
          </a:ln>
        </p:spPr>
      </p:pic>
      <p:pic>
        <p:nvPicPr>
          <p:cNvPr id="306" name="" descr=""/>
          <p:cNvPicPr/>
          <p:nvPr/>
        </p:nvPicPr>
        <p:blipFill>
          <a:blip r:embed="rId2"/>
          <a:stretch/>
        </p:blipFill>
        <p:spPr>
          <a:xfrm>
            <a:off x="3610080" y="1295280"/>
            <a:ext cx="5333760" cy="5220000"/>
          </a:xfrm>
          <a:prstGeom prst="rect">
            <a:avLst/>
          </a:prstGeom>
          <a:ln w="19080">
            <a:solidFill>
              <a:srgbClr val="000000"/>
            </a:solidFill>
            <a:miter/>
          </a:ln>
        </p:spPr>
      </p:pic>
      <p:sp>
        <p:nvSpPr>
          <p:cNvPr id="307" name=""/>
          <p:cNvSpPr/>
          <p:nvPr/>
        </p:nvSpPr>
        <p:spPr>
          <a:xfrm>
            <a:off x="752400" y="3419640"/>
            <a:ext cx="371520" cy="2854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08" name=""/>
          <p:cNvSpPr/>
          <p:nvPr/>
        </p:nvSpPr>
        <p:spPr>
          <a:xfrm flipV="1">
            <a:off x="1190520" y="3371400"/>
            <a:ext cx="2324160" cy="18108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09" name=""/>
          <p:cNvSpPr/>
          <p:nvPr/>
        </p:nvSpPr>
        <p:spPr>
          <a:xfrm>
            <a:off x="5267160" y="2019240"/>
            <a:ext cx="1762200" cy="4096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10" name=""/>
          <p:cNvSpPr/>
          <p:nvPr/>
        </p:nvSpPr>
        <p:spPr>
          <a:xfrm>
            <a:off x="247680" y="5486400"/>
            <a:ext cx="3267000" cy="9054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dding a user to the directory of CallManager Express</a:t>
            </a:r>
            <a:endParaRPr b="0" lang="en-US" sz="20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childTnLst>
                                    <p:set>
                                      <p:cBhvr>
                                        <p:cTn id="77" dur="1" fill="hold">
                                          <p:stCondLst>
                                            <p:cond delay="0"/>
                                          </p:stCondLst>
                                        </p:cTn>
                                        <p:tgtEl>
                                          <p:spTgt spid="307"/>
                                        </p:tgtEl>
                                        <p:attrNameLst>
                                          <p:attrName>style.visibility</p:attrName>
                                        </p:attrNameLst>
                                      </p:cBhvr>
                                      <p:to>
                                        <p:strVal val="visible"/>
                                      </p:to>
                                    </p:set>
                                    <p:animEffect filter="dissolve" transition="in">
                                      <p:cBhvr additive="repl">
                                        <p:cTn id="78" dur="500"/>
                                        <p:tgtEl>
                                          <p:spTgt spid="307"/>
                                        </p:tgtEl>
                                      </p:cBhvr>
                                    </p:animEffect>
                                  </p:childTnLst>
                                </p:cTn>
                              </p:par>
                              <p:par>
                                <p:cTn id="79" nodeType="withEffect" fill="hold" presetClass="entr" presetID="9">
                                  <p:stCondLst>
                                    <p:cond delay="0"/>
                                  </p:stCondLst>
                                  <p:childTnLst>
                                    <p:set>
                                      <p:cBhvr>
                                        <p:cTn id="80" dur="1" fill="hold">
                                          <p:stCondLst>
                                            <p:cond delay="0"/>
                                          </p:stCondLst>
                                        </p:cTn>
                                        <p:tgtEl>
                                          <p:spTgt spid="308"/>
                                        </p:tgtEl>
                                        <p:attrNameLst>
                                          <p:attrName>style.visibility</p:attrName>
                                        </p:attrNameLst>
                                      </p:cBhvr>
                                      <p:to>
                                        <p:strVal val="visible"/>
                                      </p:to>
                                    </p:set>
                                    <p:animEffect filter="dissolve" transition="in">
                                      <p:cBhvr additive="repl">
                                        <p:cTn id="81" dur="500"/>
                                        <p:tgtEl>
                                          <p:spTgt spid="308"/>
                                        </p:tgtEl>
                                      </p:cBhvr>
                                    </p:animEffect>
                                  </p:childTnLst>
                                </p:cTn>
                              </p:par>
                            </p:childTnLst>
                          </p:cTn>
                        </p:par>
                        <p:par>
                          <p:cTn id="82" fill="hold">
                            <p:stCondLst>
                              <p:cond delay="500"/>
                            </p:stCondLst>
                            <p:childTnLst>
                              <p:par>
                                <p:cTn id="83" nodeType="afterEffect" fill="hold" presetClass="entr" presetID="9">
                                  <p:stCondLst>
                                    <p:cond delay="0"/>
                                  </p:stCondLst>
                                  <p:childTnLst>
                                    <p:set>
                                      <p:cBhvr>
                                        <p:cTn id="84" dur="1" fill="hold">
                                          <p:stCondLst>
                                            <p:cond delay="0"/>
                                          </p:stCondLst>
                                        </p:cTn>
                                        <p:tgtEl>
                                          <p:spTgt spid="306"/>
                                        </p:tgtEl>
                                        <p:attrNameLst>
                                          <p:attrName>style.visibility</p:attrName>
                                        </p:attrNameLst>
                                      </p:cBhvr>
                                      <p:to>
                                        <p:strVal val="visible"/>
                                      </p:to>
                                    </p:set>
                                    <p:animEffect filter="dissolve" transition="in">
                                      <p:cBhvr additive="repl">
                                        <p:cTn id="85" dur="1000"/>
                                        <p:tgtEl>
                                          <p:spTgt spid="306"/>
                                        </p:tgtEl>
                                      </p:cBhvr>
                                    </p:animEffect>
                                  </p:childTnLst>
                                </p:cTn>
                              </p:par>
                            </p:childTnLst>
                          </p:cTn>
                        </p:par>
                        <p:par>
                          <p:cTn id="86" fill="hold">
                            <p:stCondLst>
                              <p:cond delay="1500"/>
                            </p:stCondLst>
                            <p:childTnLst>
                              <p:par>
                                <p:cTn id="87" nodeType="afterEffect" fill="hold" presetClass="entr" presetID="9">
                                  <p:stCondLst>
                                    <p:cond delay="0"/>
                                  </p:stCondLst>
                                  <p:childTnLst>
                                    <p:set>
                                      <p:cBhvr>
                                        <p:cTn id="88" dur="1" fill="hold">
                                          <p:stCondLst>
                                            <p:cond delay="0"/>
                                          </p:stCondLst>
                                        </p:cTn>
                                        <p:tgtEl>
                                          <p:spTgt spid="309"/>
                                        </p:tgtEl>
                                        <p:attrNameLst>
                                          <p:attrName>style.visibility</p:attrName>
                                        </p:attrNameLst>
                                      </p:cBhvr>
                                      <p:to>
                                        <p:strVal val="visible"/>
                                      </p:to>
                                    </p:set>
                                    <p:animEffect filter="dissolve" transition="in">
                                      <p:cBhvr additive="repl">
                                        <p:cTn id="89"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ing and Directory Features (Cont.)</a:t>
            </a:r>
            <a:endParaRPr b="1" lang="en-US" sz="3000" spc="-1" strike="noStrike">
              <a:solidFill>
                <a:srgbClr val="ffffff"/>
              </a:solidFill>
              <a:latin typeface="Arial"/>
            </a:endParaRPr>
          </a:p>
        </p:txBody>
      </p:sp>
      <p:pic>
        <p:nvPicPr>
          <p:cNvPr id="312" name="" descr=""/>
          <p:cNvPicPr/>
          <p:nvPr/>
        </p:nvPicPr>
        <p:blipFill>
          <a:blip r:embed="rId1"/>
          <a:stretch/>
        </p:blipFill>
        <p:spPr>
          <a:xfrm>
            <a:off x="347760" y="1395360"/>
            <a:ext cx="4327560" cy="4248360"/>
          </a:xfrm>
          <a:prstGeom prst="rect">
            <a:avLst/>
          </a:prstGeom>
          <a:ln w="0">
            <a:noFill/>
          </a:ln>
        </p:spPr>
      </p:pic>
      <p:pic>
        <p:nvPicPr>
          <p:cNvPr id="313" name="" descr=""/>
          <p:cNvPicPr/>
          <p:nvPr/>
        </p:nvPicPr>
        <p:blipFill>
          <a:blip r:embed="rId2"/>
          <a:stretch/>
        </p:blipFill>
        <p:spPr>
          <a:xfrm>
            <a:off x="4394160" y="2133720"/>
            <a:ext cx="4368960" cy="4289400"/>
          </a:xfrm>
          <a:prstGeom prst="rect">
            <a:avLst/>
          </a:prstGeom>
          <a:ln w="0">
            <a:noFill/>
          </a:ln>
        </p:spPr>
      </p:pic>
      <p:sp>
        <p:nvSpPr>
          <p:cNvPr id="314" name=""/>
          <p:cNvSpPr/>
          <p:nvPr/>
        </p:nvSpPr>
        <p:spPr>
          <a:xfrm>
            <a:off x="2847960" y="3324240"/>
            <a:ext cx="1362240" cy="6382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15" name=""/>
          <p:cNvSpPr/>
          <p:nvPr/>
        </p:nvSpPr>
        <p:spPr>
          <a:xfrm>
            <a:off x="5905440" y="4143240"/>
            <a:ext cx="2486160" cy="112392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50720" y="237168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directory {first-name-first | last-name-first}</a:t>
            </a:r>
            <a:r>
              <a:rPr b="1" lang="en-US" sz="1800" spc="-1" strike="noStrike">
                <a:solidFill>
                  <a:srgbClr val="000000"/>
                </a:solidFill>
                <a:latin typeface="Courier New"/>
              </a:rPr>
              <a:t> </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317" name=""/>
          <p:cNvSpPr/>
          <p:nvPr/>
        </p:nvSpPr>
        <p:spPr>
          <a:xfrm>
            <a:off x="396720" y="190800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318" name=""/>
          <p:cNvSpPr/>
          <p:nvPr/>
        </p:nvSpPr>
        <p:spPr>
          <a:xfrm>
            <a:off x="380880" y="28782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the order that the directory will be listed in</a:t>
            </a:r>
            <a:endParaRPr b="0" lang="en-US" sz="2400" spc="-1" strike="noStrike">
              <a:solidFill>
                <a:srgbClr val="000000"/>
              </a:solidFill>
              <a:latin typeface="Arial"/>
            </a:endParaRPr>
          </a:p>
        </p:txBody>
      </p:sp>
      <p:sp>
        <p:nvSpPr>
          <p:cNvPr id="319" name=""/>
          <p:cNvSpPr/>
          <p:nvPr/>
        </p:nvSpPr>
        <p:spPr>
          <a:xfrm>
            <a:off x="450720" y="39243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directory entry {[entry-tag </a:t>
            </a:r>
            <a:r>
              <a:rPr b="1" i="1" lang="en-US" sz="1800" spc="-1" strike="noStrike">
                <a:solidFill>
                  <a:srgbClr val="000000"/>
                </a:solidFill>
                <a:latin typeface="Courier New"/>
              </a:rPr>
              <a:t>number</a:t>
            </a:r>
            <a:r>
              <a:rPr b="1" lang="en-US" sz="1800" spc="-1" strike="noStrike">
                <a:solidFill>
                  <a:srgbClr val="000000"/>
                </a:solidFill>
                <a:latin typeface="Courier New"/>
              </a:rPr>
              <a:t> name </a:t>
            </a:r>
            <a:r>
              <a:rPr b="1" i="1" lang="en-US" sz="1800" spc="-1" strike="noStrike">
                <a:solidFill>
                  <a:srgbClr val="000000"/>
                </a:solidFill>
                <a:latin typeface="Courier New"/>
              </a:rPr>
              <a:t>name</a:t>
            </a:r>
            <a:r>
              <a:rPr b="1" lang="en-US" sz="1800" spc="-1" strike="noStrike">
                <a:solidFill>
                  <a:srgbClr val="000000"/>
                </a:solidFill>
                <a:latin typeface="Courier New"/>
              </a:rPr>
              <a:t>] | clear}</a:t>
            </a:r>
            <a:endParaRPr b="0" lang="en-US" sz="1800" spc="-1" strike="noStrike">
              <a:solidFill>
                <a:srgbClr val="000000"/>
              </a:solidFill>
              <a:latin typeface="Arial"/>
            </a:endParaRPr>
          </a:p>
        </p:txBody>
      </p:sp>
      <p:sp>
        <p:nvSpPr>
          <p:cNvPr id="320" name=""/>
          <p:cNvSpPr/>
          <p:nvPr/>
        </p:nvSpPr>
        <p:spPr>
          <a:xfrm>
            <a:off x="396720" y="34624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321" name=""/>
          <p:cNvSpPr/>
          <p:nvPr/>
        </p:nvSpPr>
        <p:spPr>
          <a:xfrm>
            <a:off x="380880" y="443088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the order that the directory will be listed in</a:t>
            </a:r>
            <a:endParaRPr b="0" lang="en-US" sz="2400" spc="-1" strike="noStrike">
              <a:solidFill>
                <a:srgbClr val="000000"/>
              </a:solidFill>
              <a:latin typeface="Arial"/>
            </a:endParaRPr>
          </a:p>
        </p:txBody>
      </p:sp>
      <p:sp>
        <p:nvSpPr>
          <p:cNvPr id="3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ing and Directory Features (Cont.)</a:t>
            </a:r>
            <a:endParaRPr b="1" lang="en-US" sz="3000" spc="-1" strike="noStrike">
              <a:solidFill>
                <a:srgbClr val="ffffff"/>
              </a:solidFill>
              <a:latin typeface="Arial"/>
            </a:endParaRPr>
          </a:p>
        </p:txBody>
      </p:sp>
      <p:sp>
        <p:nvSpPr>
          <p:cNvPr id="323" name=""/>
          <p:cNvSpPr/>
          <p:nvPr/>
        </p:nvSpPr>
        <p:spPr>
          <a:xfrm>
            <a:off x="457200" y="1371600"/>
            <a:ext cx="563868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Directory order and entry</a:t>
            </a:r>
            <a:endParaRPr b="0" lang="en-US" sz="2600" spc="-1" strike="noStrike">
              <a:solidFill>
                <a:srgbClr val="000000"/>
              </a:solidFill>
              <a:latin typeface="Arial"/>
            </a:endParaRPr>
          </a:p>
        </p:txBody>
      </p:sp>
      <p:sp>
        <p:nvSpPr>
          <p:cNvPr id="324" name=""/>
          <p:cNvSpPr/>
          <p:nvPr/>
        </p:nvSpPr>
        <p:spPr>
          <a:xfrm>
            <a:off x="511200" y="547848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name </a:t>
            </a:r>
            <a:r>
              <a:rPr b="1" i="1" lang="en-US" sz="1800" spc="-1" strike="noStrike">
                <a:solidFill>
                  <a:srgbClr val="000000"/>
                </a:solidFill>
                <a:latin typeface="Courier New"/>
              </a:rPr>
              <a:t>name</a:t>
            </a:r>
            <a:endParaRPr b="0" lang="en-US" sz="1800" spc="-1" strike="noStrike">
              <a:solidFill>
                <a:srgbClr val="000000"/>
              </a:solidFill>
              <a:latin typeface="Arial"/>
            </a:endParaRPr>
          </a:p>
        </p:txBody>
      </p:sp>
      <p:sp>
        <p:nvSpPr>
          <p:cNvPr id="325" name=""/>
          <p:cNvSpPr/>
          <p:nvPr/>
        </p:nvSpPr>
        <p:spPr>
          <a:xfrm>
            <a:off x="457200" y="501480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dn)#</a:t>
            </a:r>
            <a:endParaRPr b="0" lang="en-US" sz="1600" spc="-1" strike="noStrike">
              <a:solidFill>
                <a:srgbClr val="000000"/>
              </a:solidFill>
              <a:latin typeface="Arial"/>
            </a:endParaRPr>
          </a:p>
        </p:txBody>
      </p:sp>
      <p:sp>
        <p:nvSpPr>
          <p:cNvPr id="326" name=""/>
          <p:cNvSpPr/>
          <p:nvPr/>
        </p:nvSpPr>
        <p:spPr>
          <a:xfrm>
            <a:off x="441360" y="59850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s a name with an extension (ephone-dn)</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655560" y="1676520"/>
            <a:ext cx="772632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1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Productivity tools for Cisco CME include:</a:t>
            </a:r>
            <a:endParaRPr b="0" lang="en-US" sz="26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lash softkey for hookflash functionality </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tercom</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ging</a:t>
            </a:r>
            <a:endParaRPr b="0" lang="en-US" sz="2400" spc="-1" strike="noStrike">
              <a:solidFill>
                <a:srgbClr val="000000"/>
              </a:solidFill>
              <a:latin typeface="Arial"/>
            </a:endParaRPr>
          </a:p>
        </p:txBody>
      </p:sp>
      <p:sp>
        <p:nvSpPr>
          <p:cNvPr id="32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a:t>
            </a:r>
            <a:endParaRPr b="1" lang="en-US" sz="3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 y="30481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fxo hook-flash</a:t>
            </a:r>
            <a:endParaRPr b="0" lang="en-US" sz="2000" spc="-1" strike="noStrike">
              <a:solidFill>
                <a:srgbClr val="000000"/>
              </a:solidFill>
              <a:latin typeface="Arial"/>
            </a:endParaRPr>
          </a:p>
        </p:txBody>
      </p:sp>
      <p:sp>
        <p:nvSpPr>
          <p:cNvPr id="330" name=""/>
          <p:cNvSpPr/>
          <p:nvPr/>
        </p:nvSpPr>
        <p:spPr>
          <a:xfrm>
            <a:off x="403200" y="2703600"/>
            <a:ext cx="4778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331" name=""/>
          <p:cNvSpPr/>
          <p:nvPr/>
        </p:nvSpPr>
        <p:spPr>
          <a:xfrm>
            <a:off x="387360" y="350676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the flash softkey button on the IP phones</a:t>
            </a:r>
            <a:endParaRPr b="0" lang="en-US" sz="2400" spc="-1" strike="noStrike">
              <a:solidFill>
                <a:srgbClr val="000000"/>
              </a:solidFill>
              <a:latin typeface="Arial"/>
            </a:endParaRPr>
          </a:p>
        </p:txBody>
      </p:sp>
      <p:sp>
        <p:nvSpPr>
          <p:cNvPr id="33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
        <p:nvSpPr>
          <p:cNvPr id="333" name=""/>
          <p:cNvSpPr/>
          <p:nvPr/>
        </p:nvSpPr>
        <p:spPr>
          <a:xfrm>
            <a:off x="451440" y="1795320"/>
            <a:ext cx="6695280" cy="4388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Flash Softkey for Hookflash Functionality</a:t>
            </a:r>
            <a:endParaRPr b="0" lang="en-US" sz="2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pic>
        <p:nvPicPr>
          <p:cNvPr id="335" name="" descr=""/>
          <p:cNvPicPr/>
          <p:nvPr/>
        </p:nvPicPr>
        <p:blipFill>
          <a:blip r:embed="rId1"/>
          <a:stretch/>
        </p:blipFill>
        <p:spPr>
          <a:xfrm>
            <a:off x="6324480" y="1619280"/>
            <a:ext cx="1236960" cy="681120"/>
          </a:xfrm>
          <a:prstGeom prst="rect">
            <a:avLst/>
          </a:prstGeom>
          <a:ln w="0">
            <a:noFill/>
          </a:ln>
        </p:spPr>
      </p:pic>
      <p:pic>
        <p:nvPicPr>
          <p:cNvPr id="336" name="" descr=""/>
          <p:cNvPicPr/>
          <p:nvPr/>
        </p:nvPicPr>
        <p:blipFill>
          <a:blip r:embed="rId2"/>
          <a:stretch/>
        </p:blipFill>
        <p:spPr>
          <a:xfrm>
            <a:off x="6248520" y="3981600"/>
            <a:ext cx="1236600" cy="680760"/>
          </a:xfrm>
          <a:prstGeom prst="rect">
            <a:avLst/>
          </a:prstGeom>
          <a:ln w="0">
            <a:noFill/>
          </a:ln>
        </p:spPr>
      </p:pic>
      <p:sp>
        <p:nvSpPr>
          <p:cNvPr id="337" name=""/>
          <p:cNvSpPr/>
          <p:nvPr/>
        </p:nvSpPr>
        <p:spPr>
          <a:xfrm>
            <a:off x="399960" y="2114640"/>
            <a:ext cx="4448160" cy="4122360"/>
          </a:xfrm>
          <a:prstGeom prst="rect">
            <a:avLst/>
          </a:prstGeom>
          <a:noFill/>
          <a:ln w="2844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1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Admin Assist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119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The Bo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5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B5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Admin Assist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ercom B4999 label “Admin Ass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B499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The Bos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ercom B5000 label “The Bo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 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utton 1:10 2:5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utton 1:20 2: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
          <p:cNvSpPr/>
          <p:nvPr/>
        </p:nvSpPr>
        <p:spPr>
          <a:xfrm>
            <a:off x="6000840" y="2419200"/>
            <a:ext cx="2609640" cy="9932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A – The Boss</a:t>
            </a:r>
            <a:endParaRPr b="0" lang="en-US" sz="1600" spc="-1" strike="noStrike">
              <a:solidFill>
                <a:srgbClr val="000000"/>
              </a:solidFill>
              <a:latin typeface="Arial"/>
            </a:endParaRPr>
          </a:p>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Line 1 – 1100</a:t>
            </a:r>
            <a:endParaRPr b="0" lang="en-US" sz="1600" spc="-1" strike="noStrike">
              <a:solidFill>
                <a:srgbClr val="000000"/>
              </a:solidFill>
              <a:latin typeface="Arial"/>
            </a:endParaRPr>
          </a:p>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Line 2 – Admin Assist</a:t>
            </a:r>
            <a:endParaRPr b="0" lang="en-US" sz="1600" spc="-1" strike="noStrike">
              <a:solidFill>
                <a:srgbClr val="000000"/>
              </a:solidFill>
              <a:latin typeface="Arial"/>
            </a:endParaRPr>
          </a:p>
        </p:txBody>
      </p:sp>
      <p:sp>
        <p:nvSpPr>
          <p:cNvPr id="339" name=""/>
          <p:cNvSpPr/>
          <p:nvPr/>
        </p:nvSpPr>
        <p:spPr>
          <a:xfrm>
            <a:off x="6029280" y="4848120"/>
            <a:ext cx="2819520" cy="9932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B – Admin Assistant</a:t>
            </a:r>
            <a:endParaRPr b="0" lang="en-US" sz="1600" spc="-1" strike="noStrike">
              <a:solidFill>
                <a:srgbClr val="000000"/>
              </a:solidFill>
              <a:latin typeface="Arial"/>
            </a:endParaRPr>
          </a:p>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Line 1 – 1199</a:t>
            </a:r>
            <a:endParaRPr b="0" lang="en-US" sz="1600" spc="-1" strike="noStrike">
              <a:solidFill>
                <a:srgbClr val="000000"/>
              </a:solidFill>
              <a:latin typeface="Arial"/>
            </a:endParaRPr>
          </a:p>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Line 2 – The Boss</a:t>
            </a:r>
            <a:endParaRPr b="0" lang="en-US" sz="1600" spc="-1" strike="noStrike">
              <a:solidFill>
                <a:srgbClr val="000000"/>
              </a:solidFill>
              <a:latin typeface="Arial"/>
            </a:endParaRPr>
          </a:p>
        </p:txBody>
      </p:sp>
      <p:sp>
        <p:nvSpPr>
          <p:cNvPr id="340" name=""/>
          <p:cNvSpPr/>
          <p:nvPr/>
        </p:nvSpPr>
        <p:spPr>
          <a:xfrm>
            <a:off x="914400" y="1447920"/>
            <a:ext cx="281952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Intercom</a:t>
            </a:r>
            <a:endParaRPr b="0" lang="en-US" sz="2600" spc="-1" strike="noStrike">
              <a:solidFill>
                <a:srgbClr val="000000"/>
              </a:solidFill>
              <a:latin typeface="Arial"/>
            </a:endParaRPr>
          </a:p>
        </p:txBody>
      </p:sp>
      <p:sp>
        <p:nvSpPr>
          <p:cNvPr id="341" name=""/>
          <p:cNvSpPr/>
          <p:nvPr/>
        </p:nvSpPr>
        <p:spPr>
          <a:xfrm>
            <a:off x="5638680" y="1847880"/>
            <a:ext cx="0" cy="335268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42" name=""/>
          <p:cNvSpPr/>
          <p:nvPr/>
        </p:nvSpPr>
        <p:spPr>
          <a:xfrm flipH="1">
            <a:off x="5648040" y="4591080"/>
            <a:ext cx="60012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43" name=""/>
          <p:cNvSpPr/>
          <p:nvPr/>
        </p:nvSpPr>
        <p:spPr>
          <a:xfrm flipH="1">
            <a:off x="5638320" y="2228760"/>
            <a:ext cx="68580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44" name=""/>
          <p:cNvSpPr/>
          <p:nvPr/>
        </p:nvSpPr>
        <p:spPr>
          <a:xfrm>
            <a:off x="2028960" y="5295960"/>
            <a:ext cx="303120" cy="2998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45" name=""/>
          <p:cNvSpPr/>
          <p:nvPr/>
        </p:nvSpPr>
        <p:spPr>
          <a:xfrm>
            <a:off x="2028960" y="5715000"/>
            <a:ext cx="303120" cy="2998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46" name=""/>
          <p:cNvSpPr/>
          <p:nvPr/>
        </p:nvSpPr>
        <p:spPr>
          <a:xfrm>
            <a:off x="1504800" y="3390840"/>
            <a:ext cx="303480" cy="30024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47" name=""/>
          <p:cNvSpPr/>
          <p:nvPr/>
        </p:nvSpPr>
        <p:spPr>
          <a:xfrm>
            <a:off x="2828880" y="3990960"/>
            <a:ext cx="1695600" cy="37152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48" name=""/>
          <p:cNvSpPr/>
          <p:nvPr/>
        </p:nvSpPr>
        <p:spPr>
          <a:xfrm>
            <a:off x="6734160" y="3067200"/>
            <a:ext cx="1695600" cy="37116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345"/>
                                        </p:tgtEl>
                                        <p:attrNameLst>
                                          <p:attrName>style.visibility</p:attrName>
                                        </p:attrNameLst>
                                      </p:cBhvr>
                                      <p:to>
                                        <p:strVal val="visible"/>
                                      </p:to>
                                    </p:set>
                                    <p:animEffect filter="wipe(down)" transition="in">
                                      <p:cBhvr additive="repl">
                                        <p:cTn id="96" dur="1000"/>
                                        <p:tgtEl>
                                          <p:spTgt spid="34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346"/>
                                        </p:tgtEl>
                                        <p:attrNameLst>
                                          <p:attrName>style.visibility</p:attrName>
                                        </p:attrNameLst>
                                      </p:cBhvr>
                                      <p:to>
                                        <p:strVal val="visible"/>
                                      </p:to>
                                    </p:set>
                                    <p:animEffect filter="wipe(down)" transition="in">
                                      <p:cBhvr additive="repl">
                                        <p:cTn id="101" dur="1000"/>
                                        <p:tgtEl>
                                          <p:spTgt spid="346"/>
                                        </p:tgtEl>
                                      </p:cBhvr>
                                    </p:animEffect>
                                  </p:childTnLst>
                                </p:cTn>
                              </p:par>
                              <p:par>
                                <p:cTn id="102" nodeType="withEffect" fill="hold" presetClass="entr" presetID="22" presetSubtype="4">
                                  <p:stCondLst>
                                    <p:cond delay="0"/>
                                  </p:stCondLst>
                                  <p:childTnLst>
                                    <p:set>
                                      <p:cBhvr>
                                        <p:cTn id="103" dur="1" fill="hold">
                                          <p:stCondLst>
                                            <p:cond delay="0"/>
                                          </p:stCondLst>
                                        </p:cTn>
                                        <p:tgtEl>
                                          <p:spTgt spid="344"/>
                                        </p:tgtEl>
                                        <p:attrNameLst>
                                          <p:attrName>style.visibility</p:attrName>
                                        </p:attrNameLst>
                                      </p:cBhvr>
                                      <p:to>
                                        <p:strVal val="visible"/>
                                      </p:to>
                                    </p:set>
                                    <p:animEffect filter="wipe(down)" transition="in">
                                      <p:cBhvr additive="repl">
                                        <p:cTn id="104" dur="1000"/>
                                        <p:tgtEl>
                                          <p:spTgt spid="34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347"/>
                                        </p:tgtEl>
                                        <p:attrNameLst>
                                          <p:attrName>style.visibility</p:attrName>
                                        </p:attrNameLst>
                                      </p:cBhvr>
                                      <p:to>
                                        <p:strVal val="visible"/>
                                      </p:to>
                                    </p:set>
                                    <p:animEffect filter="wipe(down)" transition="in">
                                      <p:cBhvr additive="repl">
                                        <p:cTn id="109" dur="500"/>
                                        <p:tgtEl>
                                          <p:spTgt spid="347"/>
                                        </p:tgtEl>
                                      </p:cBhvr>
                                    </p:animEffect>
                                  </p:childTnLst>
                                </p:cTn>
                              </p:par>
                              <p:par>
                                <p:cTn id="110" nodeType="withEffect" fill="hold" presetClass="entr" presetID="22" presetSubtype="4">
                                  <p:stCondLst>
                                    <p:cond delay="0"/>
                                  </p:stCondLst>
                                  <p:childTnLst>
                                    <p:set>
                                      <p:cBhvr>
                                        <p:cTn id="111" dur="1" fill="hold">
                                          <p:stCondLst>
                                            <p:cond delay="0"/>
                                          </p:stCondLst>
                                        </p:cTn>
                                        <p:tgtEl>
                                          <p:spTgt spid="348"/>
                                        </p:tgtEl>
                                        <p:attrNameLst>
                                          <p:attrName>style.visibility</p:attrName>
                                        </p:attrNameLst>
                                      </p:cBhvr>
                                      <p:to>
                                        <p:strVal val="visible"/>
                                      </p:to>
                                    </p:set>
                                    <p:animEffect filter="wipe(down)" transition="in">
                                      <p:cBhvr additive="repl">
                                        <p:cTn id="112"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74760" y="2922480"/>
            <a:ext cx="8159760" cy="6411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intercom </a:t>
            </a:r>
            <a:r>
              <a:rPr b="1" i="1" lang="en-US" sz="1800" spc="-1" strike="noStrike">
                <a:solidFill>
                  <a:srgbClr val="000000"/>
                </a:solidFill>
                <a:latin typeface="Courier New"/>
              </a:rPr>
              <a:t>extension-number </a:t>
            </a:r>
            <a:r>
              <a:rPr b="1" lang="en-US" sz="1800" spc="-1" strike="noStrike">
                <a:solidFill>
                  <a:srgbClr val="000000"/>
                </a:solidFill>
                <a:latin typeface="Courier New"/>
              </a:rPr>
              <a:t>[barge-in | no-auto-answer] [label </a:t>
            </a:r>
            <a:r>
              <a:rPr b="1" i="1" lang="en-US" sz="1800" spc="-1" strike="noStrike">
                <a:solidFill>
                  <a:srgbClr val="000000"/>
                </a:solidFill>
                <a:latin typeface="Courier New"/>
              </a:rPr>
              <a:t>label</a:t>
            </a: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50" name=""/>
          <p:cNvSpPr/>
          <p:nvPr/>
        </p:nvSpPr>
        <p:spPr>
          <a:xfrm>
            <a:off x="320760" y="257796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dn)#</a:t>
            </a:r>
            <a:endParaRPr b="0" lang="en-US" sz="1600" spc="-1" strike="noStrike">
              <a:solidFill>
                <a:srgbClr val="000000"/>
              </a:solidFill>
              <a:latin typeface="Arial"/>
            </a:endParaRPr>
          </a:p>
        </p:txBody>
      </p:sp>
      <p:sp>
        <p:nvSpPr>
          <p:cNvPr id="351" name=""/>
          <p:cNvSpPr/>
          <p:nvPr/>
        </p:nvSpPr>
        <p:spPr>
          <a:xfrm>
            <a:off x="304920" y="363528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s an extension to call another intercom phone</a:t>
            </a:r>
            <a:endParaRPr b="0" lang="en-US" sz="2400" spc="-1" strike="noStrike">
              <a:solidFill>
                <a:srgbClr val="000000"/>
              </a:solidFill>
              <a:latin typeface="Arial"/>
            </a:endParaRPr>
          </a:p>
        </p:txBody>
      </p:sp>
      <p:sp>
        <p:nvSpPr>
          <p:cNvPr id="3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
        <p:nvSpPr>
          <p:cNvPr id="353" name=""/>
          <p:cNvSpPr/>
          <p:nvPr/>
        </p:nvSpPr>
        <p:spPr>
          <a:xfrm>
            <a:off x="419040" y="1473120"/>
            <a:ext cx="447048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Intercom</a:t>
            </a:r>
            <a:endParaRPr b="0" lang="en-US" sz="2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55560" y="1676520"/>
            <a:ext cx="711216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1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Paging Function</a:t>
            </a:r>
            <a:endParaRPr b="0" lang="en-US" sz="26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reates a one way voice path</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icast or Multicast </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ngle Group </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ultiple Groups</a:t>
            </a:r>
            <a:endParaRPr b="0" lang="en-US" sz="2400" spc="-1" strike="noStrike">
              <a:solidFill>
                <a:srgbClr val="000000"/>
              </a:solidFill>
              <a:latin typeface="Arial"/>
            </a:endParaRPr>
          </a:p>
        </p:txBody>
      </p:sp>
      <p:sp>
        <p:nvSpPr>
          <p:cNvPr id="3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
        <p:nvSpPr>
          <p:cNvPr id="357" name=""/>
          <p:cNvSpPr/>
          <p:nvPr/>
        </p:nvSpPr>
        <p:spPr>
          <a:xfrm>
            <a:off x="533520" y="1752480"/>
            <a:ext cx="472428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ngle Paging Group</a:t>
            </a:r>
            <a:endParaRPr b="0" lang="en-US" sz="2400" spc="-1" strike="noStrike">
              <a:solidFill>
                <a:srgbClr val="000000"/>
              </a:solidFill>
              <a:latin typeface="Arial"/>
            </a:endParaRPr>
          </a:p>
        </p:txBody>
      </p:sp>
      <p:pic>
        <p:nvPicPr>
          <p:cNvPr id="358" name="" descr=""/>
          <p:cNvPicPr/>
          <p:nvPr/>
        </p:nvPicPr>
        <p:blipFill>
          <a:blip r:embed="rId1"/>
          <a:stretch/>
        </p:blipFill>
        <p:spPr>
          <a:xfrm>
            <a:off x="7315200" y="3502080"/>
            <a:ext cx="838080" cy="461880"/>
          </a:xfrm>
          <a:prstGeom prst="rect">
            <a:avLst/>
          </a:prstGeom>
          <a:ln w="0">
            <a:noFill/>
          </a:ln>
        </p:spPr>
      </p:pic>
      <p:pic>
        <p:nvPicPr>
          <p:cNvPr id="359" name="" descr=""/>
          <p:cNvPicPr/>
          <p:nvPr/>
        </p:nvPicPr>
        <p:blipFill>
          <a:blip r:embed="rId2"/>
          <a:stretch/>
        </p:blipFill>
        <p:spPr>
          <a:xfrm>
            <a:off x="7315200" y="2281320"/>
            <a:ext cx="838080" cy="461880"/>
          </a:xfrm>
          <a:prstGeom prst="rect">
            <a:avLst/>
          </a:prstGeom>
          <a:ln w="0">
            <a:noFill/>
          </a:ln>
        </p:spPr>
      </p:pic>
      <p:pic>
        <p:nvPicPr>
          <p:cNvPr id="360" name="" descr=""/>
          <p:cNvPicPr/>
          <p:nvPr/>
        </p:nvPicPr>
        <p:blipFill>
          <a:blip r:embed="rId3"/>
          <a:stretch/>
        </p:blipFill>
        <p:spPr>
          <a:xfrm>
            <a:off x="5257800" y="3200400"/>
            <a:ext cx="838080" cy="461880"/>
          </a:xfrm>
          <a:prstGeom prst="rect">
            <a:avLst/>
          </a:prstGeom>
          <a:ln w="0">
            <a:noFill/>
          </a:ln>
        </p:spPr>
      </p:pic>
      <p:sp>
        <p:nvSpPr>
          <p:cNvPr id="361" name=""/>
          <p:cNvSpPr/>
          <p:nvPr/>
        </p:nvSpPr>
        <p:spPr>
          <a:xfrm>
            <a:off x="6705720" y="2209680"/>
            <a:ext cx="0" cy="281952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62" name=""/>
          <p:cNvSpPr/>
          <p:nvPr/>
        </p:nvSpPr>
        <p:spPr>
          <a:xfrm flipH="1">
            <a:off x="6705360" y="3886200"/>
            <a:ext cx="60948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63" name=""/>
          <p:cNvSpPr/>
          <p:nvPr/>
        </p:nvSpPr>
        <p:spPr>
          <a:xfrm flipH="1">
            <a:off x="6705360" y="2666880"/>
            <a:ext cx="60948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64" name=""/>
          <p:cNvSpPr/>
          <p:nvPr/>
        </p:nvSpPr>
        <p:spPr>
          <a:xfrm flipH="1">
            <a:off x="6095880" y="3429000"/>
            <a:ext cx="60984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65" name=""/>
          <p:cNvSpPr/>
          <p:nvPr/>
        </p:nvSpPr>
        <p:spPr>
          <a:xfrm>
            <a:off x="6858000" y="2819520"/>
            <a:ext cx="1676520" cy="576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phone 1</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aging Group 4</a:t>
            </a:r>
            <a:endParaRPr b="0" lang="en-US" sz="1400" spc="-1" strike="noStrike">
              <a:solidFill>
                <a:srgbClr val="000000"/>
              </a:solidFill>
              <a:latin typeface="Arial"/>
            </a:endParaRPr>
          </a:p>
        </p:txBody>
      </p:sp>
      <p:sp>
        <p:nvSpPr>
          <p:cNvPr id="366" name=""/>
          <p:cNvSpPr/>
          <p:nvPr/>
        </p:nvSpPr>
        <p:spPr>
          <a:xfrm>
            <a:off x="6858000" y="4191120"/>
            <a:ext cx="1676520" cy="576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phone 2</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aging Group 4</a:t>
            </a:r>
            <a:endParaRPr b="0" lang="en-US" sz="1400" spc="-1" strike="noStrike">
              <a:solidFill>
                <a:srgbClr val="000000"/>
              </a:solidFill>
              <a:latin typeface="Arial"/>
            </a:endParaRPr>
          </a:p>
        </p:txBody>
      </p:sp>
      <p:sp>
        <p:nvSpPr>
          <p:cNvPr id="367" name=""/>
          <p:cNvSpPr/>
          <p:nvPr/>
        </p:nvSpPr>
        <p:spPr>
          <a:xfrm>
            <a:off x="4876920" y="3733920"/>
            <a:ext cx="167616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hone dials 4444</a:t>
            </a:r>
            <a:endParaRPr b="0" lang="en-US" sz="1400" spc="-1" strike="noStrike">
              <a:solidFill>
                <a:srgbClr val="000000"/>
              </a:solidFill>
              <a:latin typeface="Arial"/>
            </a:endParaRPr>
          </a:p>
        </p:txBody>
      </p:sp>
      <p:sp>
        <p:nvSpPr>
          <p:cNvPr id="368" name=""/>
          <p:cNvSpPr/>
          <p:nvPr/>
        </p:nvSpPr>
        <p:spPr>
          <a:xfrm>
            <a:off x="457200" y="2514600"/>
            <a:ext cx="3581280" cy="3483000"/>
          </a:xfrm>
          <a:prstGeom prst="rect">
            <a:avLst/>
          </a:prstGeom>
          <a:noFill/>
          <a:ln w="2844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444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Paging Shipp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ging ip 239.0.1.20 port 2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21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2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222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ac-address 3662.0234.6ae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utton 1: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ging-dn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ac-address 9387.6738.287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utton 1:2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ging-dn 4</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pic>
        <p:nvPicPr>
          <p:cNvPr id="370" name="" descr=""/>
          <p:cNvPicPr/>
          <p:nvPr/>
        </p:nvPicPr>
        <p:blipFill>
          <a:blip r:embed="rId1"/>
          <a:stretch/>
        </p:blipFill>
        <p:spPr>
          <a:xfrm>
            <a:off x="2438280" y="1298520"/>
            <a:ext cx="3944880" cy="3917880"/>
          </a:xfrm>
          <a:prstGeom prst="rect">
            <a:avLst/>
          </a:prstGeom>
          <a:ln w="0">
            <a:noFill/>
          </a:ln>
        </p:spPr>
      </p:pic>
      <p:sp>
        <p:nvSpPr>
          <p:cNvPr id="371" name=""/>
          <p:cNvSpPr/>
          <p:nvPr/>
        </p:nvSpPr>
        <p:spPr>
          <a:xfrm>
            <a:off x="162000" y="1409760"/>
            <a:ext cx="2085840" cy="14540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ging DN set up by adding a new extension through the GUI</a:t>
            </a:r>
            <a:endParaRPr b="0" lang="en-US" sz="2000" spc="-1" strike="noStrike">
              <a:solidFill>
                <a:srgbClr val="000000"/>
              </a:solidFill>
              <a:latin typeface="Arial"/>
            </a:endParaRPr>
          </a:p>
        </p:txBody>
      </p:sp>
      <p:pic>
        <p:nvPicPr>
          <p:cNvPr id="372" name="" descr=""/>
          <p:cNvPicPr/>
          <p:nvPr/>
        </p:nvPicPr>
        <p:blipFill>
          <a:blip r:embed="rId2"/>
          <a:stretch/>
        </p:blipFill>
        <p:spPr>
          <a:xfrm>
            <a:off x="4589640" y="2098800"/>
            <a:ext cx="4421160" cy="4392360"/>
          </a:xfrm>
          <a:prstGeom prst="rect">
            <a:avLst/>
          </a:prstGeom>
          <a:ln w="0">
            <a:noFill/>
          </a:ln>
        </p:spPr>
      </p:pic>
      <p:sp>
        <p:nvSpPr>
          <p:cNvPr id="373" name=""/>
          <p:cNvSpPr/>
          <p:nvPr/>
        </p:nvSpPr>
        <p:spPr>
          <a:xfrm>
            <a:off x="3581280" y="1828800"/>
            <a:ext cx="723960" cy="61920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74" name=""/>
          <p:cNvSpPr/>
          <p:nvPr/>
        </p:nvSpPr>
        <p:spPr>
          <a:xfrm>
            <a:off x="1905120" y="5295960"/>
            <a:ext cx="1752480" cy="1179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ssign the paging extension to the phone</a:t>
            </a:r>
            <a:endParaRPr b="0" lang="en-US" sz="2000" spc="-1" strike="noStrike">
              <a:solidFill>
                <a:srgbClr val="000000"/>
              </a:solidFill>
              <a:latin typeface="Arial"/>
            </a:endParaRPr>
          </a:p>
        </p:txBody>
      </p:sp>
      <p:sp>
        <p:nvSpPr>
          <p:cNvPr id="375" name=""/>
          <p:cNvSpPr/>
          <p:nvPr/>
        </p:nvSpPr>
        <p:spPr>
          <a:xfrm>
            <a:off x="4734000" y="4734000"/>
            <a:ext cx="3066840" cy="33336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376" name=""/>
          <p:cNvSpPr/>
          <p:nvPr/>
        </p:nvSpPr>
        <p:spPr>
          <a:xfrm flipV="1">
            <a:off x="3533760" y="4981320"/>
            <a:ext cx="1152720" cy="115236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77" name=""/>
          <p:cNvSpPr/>
          <p:nvPr/>
        </p:nvSpPr>
        <p:spPr>
          <a:xfrm>
            <a:off x="2143080" y="2028960"/>
            <a:ext cx="1343160" cy="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371"/>
                                        </p:tgtEl>
                                        <p:attrNameLst>
                                          <p:attrName>style.visibility</p:attrName>
                                        </p:attrNameLst>
                                      </p:cBhvr>
                                      <p:to>
                                        <p:strVal val="visible"/>
                                      </p:to>
                                    </p:set>
                                    <p:animEffect filter="wipe(left)" transition="in">
                                      <p:cBhvr additive="repl">
                                        <p:cTn id="119" dur="500"/>
                                        <p:tgtEl>
                                          <p:spTgt spid="371"/>
                                        </p:tgtEl>
                                      </p:cBhvr>
                                    </p:animEffect>
                                  </p:childTnLst>
                                </p:cTn>
                              </p:par>
                              <p:par>
                                <p:cTn id="120" nodeType="withEffect" fill="hold" presetClass="entr" presetID="22" presetSubtype="8">
                                  <p:stCondLst>
                                    <p:cond delay="0"/>
                                  </p:stCondLst>
                                  <p:childTnLst>
                                    <p:set>
                                      <p:cBhvr>
                                        <p:cTn id="121" dur="1" fill="hold">
                                          <p:stCondLst>
                                            <p:cond delay="0"/>
                                          </p:stCondLst>
                                        </p:cTn>
                                        <p:tgtEl>
                                          <p:spTgt spid="373"/>
                                        </p:tgtEl>
                                        <p:attrNameLst>
                                          <p:attrName>style.visibility</p:attrName>
                                        </p:attrNameLst>
                                      </p:cBhvr>
                                      <p:to>
                                        <p:strVal val="visible"/>
                                      </p:to>
                                    </p:set>
                                    <p:animEffect filter="wipe(left)" transition="in">
                                      <p:cBhvr additive="repl">
                                        <p:cTn id="122" dur="500"/>
                                        <p:tgtEl>
                                          <p:spTgt spid="373"/>
                                        </p:tgtEl>
                                      </p:cBhvr>
                                    </p:animEffect>
                                  </p:childTnLst>
                                </p:cTn>
                              </p:par>
                              <p:par>
                                <p:cTn id="123" nodeType="withEffect" fill="hold" presetClass="entr" presetID="22" presetSubtype="8">
                                  <p:stCondLst>
                                    <p:cond delay="0"/>
                                  </p:stCondLst>
                                  <p:childTnLst>
                                    <p:set>
                                      <p:cBhvr>
                                        <p:cTn id="124" dur="1" fill="hold">
                                          <p:stCondLst>
                                            <p:cond delay="0"/>
                                          </p:stCondLst>
                                        </p:cTn>
                                        <p:tgtEl>
                                          <p:spTgt spid="377"/>
                                        </p:tgtEl>
                                        <p:attrNameLst>
                                          <p:attrName>style.visibility</p:attrName>
                                        </p:attrNameLst>
                                      </p:cBhvr>
                                      <p:to>
                                        <p:strVal val="visible"/>
                                      </p:to>
                                    </p:set>
                                    <p:animEffect filter="wipe(left)" transition="in">
                                      <p:cBhvr additive="repl">
                                        <p:cTn id="125" dur="500"/>
                                        <p:tgtEl>
                                          <p:spTgt spid="37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74"/>
                                        </p:tgtEl>
                                        <p:attrNameLst>
                                          <p:attrName>style.visibility</p:attrName>
                                        </p:attrNameLst>
                                      </p:cBhvr>
                                      <p:to>
                                        <p:strVal val="visible"/>
                                      </p:to>
                                    </p:set>
                                    <p:animEffect filter="wipe(left)" transition="in">
                                      <p:cBhvr additive="repl">
                                        <p:cTn id="130" dur="500"/>
                                        <p:tgtEl>
                                          <p:spTgt spid="374"/>
                                        </p:tgtEl>
                                      </p:cBhvr>
                                    </p:animEffect>
                                  </p:childTnLst>
                                </p:cTn>
                              </p:par>
                              <p:par>
                                <p:cTn id="131" nodeType="withEffect" fill="hold" presetClass="entr" presetID="22" presetSubtype="8">
                                  <p:stCondLst>
                                    <p:cond delay="0"/>
                                  </p:stCondLst>
                                  <p:childTnLst>
                                    <p:set>
                                      <p:cBhvr>
                                        <p:cTn id="132" dur="1" fill="hold">
                                          <p:stCondLst>
                                            <p:cond delay="0"/>
                                          </p:stCondLst>
                                        </p:cTn>
                                        <p:tgtEl>
                                          <p:spTgt spid="375"/>
                                        </p:tgtEl>
                                        <p:attrNameLst>
                                          <p:attrName>style.visibility</p:attrName>
                                        </p:attrNameLst>
                                      </p:cBhvr>
                                      <p:to>
                                        <p:strVal val="visible"/>
                                      </p:to>
                                    </p:set>
                                    <p:animEffect filter="wipe(left)" transition="in">
                                      <p:cBhvr additive="repl">
                                        <p:cTn id="133" dur="500"/>
                                        <p:tgtEl>
                                          <p:spTgt spid="375"/>
                                        </p:tgtEl>
                                      </p:cBhvr>
                                    </p:animEffect>
                                  </p:childTnLst>
                                </p:cTn>
                              </p:par>
                              <p:par>
                                <p:cTn id="134" nodeType="withEffect" fill="hold" presetClass="entr" presetID="22" presetSubtype="8">
                                  <p:stCondLst>
                                    <p:cond delay="0"/>
                                  </p:stCondLst>
                                  <p:childTnLst>
                                    <p:set>
                                      <p:cBhvr>
                                        <p:cTn id="135" dur="1" fill="hold">
                                          <p:stCondLst>
                                            <p:cond delay="0"/>
                                          </p:stCondLst>
                                        </p:cTn>
                                        <p:tgtEl>
                                          <p:spTgt spid="376"/>
                                        </p:tgtEl>
                                        <p:attrNameLst>
                                          <p:attrName>style.visibility</p:attrName>
                                        </p:attrNameLst>
                                      </p:cBhvr>
                                      <p:to>
                                        <p:strVal val="visible"/>
                                      </p:to>
                                    </p:set>
                                    <p:animEffect filter="wipe(left)" transition="in">
                                      <p:cBhvr additive="repl">
                                        <p:cTn id="136"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52280" y="2514600"/>
            <a:ext cx="2544840" cy="175248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Phone User GUI Web interface</a:t>
            </a:r>
            <a:endParaRPr b="0" lang="en-US" sz="2800" spc="-1" strike="noStrike">
              <a:solidFill>
                <a:srgbClr val="000000"/>
              </a:solidFill>
              <a:latin typeface="Arial"/>
            </a:endParaRPr>
          </a:p>
        </p:txBody>
      </p:sp>
      <p:sp>
        <p:nvSpPr>
          <p:cNvPr id="1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User Classes (Cont.)</a:t>
            </a:r>
            <a:endParaRPr b="1" lang="en-US" sz="3000" spc="-1" strike="noStrike">
              <a:solidFill>
                <a:srgbClr val="ffffff"/>
              </a:solidFill>
              <a:latin typeface="Arial"/>
            </a:endParaRPr>
          </a:p>
        </p:txBody>
      </p:sp>
      <p:pic>
        <p:nvPicPr>
          <p:cNvPr id="115" name="" descr=""/>
          <p:cNvPicPr/>
          <p:nvPr/>
        </p:nvPicPr>
        <p:blipFill>
          <a:blip r:embed="rId1"/>
          <a:stretch/>
        </p:blipFill>
        <p:spPr>
          <a:xfrm>
            <a:off x="2397240" y="1295280"/>
            <a:ext cx="6553080" cy="5189760"/>
          </a:xfrm>
          <a:prstGeom prst="rect">
            <a:avLst/>
          </a:prstGeom>
          <a:ln w="0">
            <a:noFill/>
          </a:ln>
        </p:spPr>
      </p:pic>
      <p:sp>
        <p:nvSpPr>
          <p:cNvPr id="116" name=""/>
          <p:cNvSpPr/>
          <p:nvPr/>
        </p:nvSpPr>
        <p:spPr>
          <a:xfrm>
            <a:off x="2438280" y="2971800"/>
            <a:ext cx="2362320" cy="38088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paging [ip </a:t>
            </a:r>
            <a:r>
              <a:rPr b="1" i="1" lang="en-US" sz="1800" spc="-1" strike="noStrike">
                <a:solidFill>
                  <a:srgbClr val="000000"/>
                </a:solidFill>
                <a:latin typeface="Courier New"/>
              </a:rPr>
              <a:t>multicast-address </a:t>
            </a:r>
            <a:r>
              <a:rPr b="1" lang="en-US" sz="1800" spc="-1" strike="noStrike">
                <a:solidFill>
                  <a:srgbClr val="000000"/>
                </a:solidFill>
                <a:latin typeface="Courier New"/>
              </a:rPr>
              <a:t>port </a:t>
            </a:r>
            <a:r>
              <a:rPr b="1" i="1" lang="en-US" sz="1800" spc="-1" strike="noStrike">
                <a:solidFill>
                  <a:srgbClr val="000000"/>
                </a:solidFill>
                <a:latin typeface="Courier New"/>
              </a:rPr>
              <a:t>udp-port</a:t>
            </a:r>
            <a:r>
              <a:rPr b="1" lang="en-US" sz="1800" spc="-1" strike="noStrike">
                <a:solidFill>
                  <a:srgbClr val="000000"/>
                </a:solidFill>
                <a:latin typeface="Courier New"/>
              </a:rPr>
              <a:t>]</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379" name=""/>
          <p:cNvSpPr/>
          <p:nvPr/>
        </p:nvSpPr>
        <p:spPr>
          <a:xfrm>
            <a:off x="39672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dn)#</a:t>
            </a:r>
            <a:endParaRPr b="0" lang="en-US" sz="1600" spc="-1" strike="noStrike">
              <a:solidFill>
                <a:srgbClr val="000000"/>
              </a:solidFill>
              <a:latin typeface="Arial"/>
            </a:endParaRPr>
          </a:p>
        </p:txBody>
      </p:sp>
      <p:sp>
        <p:nvSpPr>
          <p:cNvPr id="380" name=""/>
          <p:cNvSpPr/>
          <p:nvPr/>
        </p:nvSpPr>
        <p:spPr>
          <a:xfrm>
            <a:off x="380880" y="29718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s the ephone-dn as paging extension using either unicast or multicast</a:t>
            </a:r>
            <a:endParaRPr b="0" lang="en-US" sz="2400" spc="-1" strike="noStrike">
              <a:solidFill>
                <a:srgbClr val="000000"/>
              </a:solidFill>
              <a:latin typeface="Arial"/>
            </a:endParaRPr>
          </a:p>
        </p:txBody>
      </p:sp>
      <p:sp>
        <p:nvSpPr>
          <p:cNvPr id="381" name=""/>
          <p:cNvSpPr/>
          <p:nvPr/>
        </p:nvSpPr>
        <p:spPr>
          <a:xfrm>
            <a:off x="450720" y="41544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paging-dn </a:t>
            </a:r>
            <a:r>
              <a:rPr b="1" i="1" lang="en-US" sz="1800" spc="-1" strike="noStrike">
                <a:solidFill>
                  <a:srgbClr val="000000"/>
                </a:solidFill>
                <a:latin typeface="Courier New"/>
              </a:rPr>
              <a:t>paging-dn-tag </a:t>
            </a:r>
            <a:r>
              <a:rPr b="1" lang="en-US" sz="1800" spc="-1" strike="noStrike">
                <a:solidFill>
                  <a:srgbClr val="000000"/>
                </a:solidFill>
                <a:latin typeface="Courier New"/>
              </a:rPr>
              <a:t>[unicast]</a:t>
            </a:r>
            <a:endParaRPr b="0" lang="en-US" sz="1800" spc="-1" strike="noStrike">
              <a:solidFill>
                <a:srgbClr val="000000"/>
              </a:solidFill>
              <a:latin typeface="Arial"/>
            </a:endParaRPr>
          </a:p>
        </p:txBody>
      </p:sp>
      <p:sp>
        <p:nvSpPr>
          <p:cNvPr id="382" name=""/>
          <p:cNvSpPr/>
          <p:nvPr/>
        </p:nvSpPr>
        <p:spPr>
          <a:xfrm>
            <a:off x="396720" y="38098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a:t>
            </a:r>
            <a:endParaRPr b="0" lang="en-US" sz="1600" spc="-1" strike="noStrike">
              <a:solidFill>
                <a:srgbClr val="000000"/>
              </a:solidFill>
              <a:latin typeface="Arial"/>
            </a:endParaRPr>
          </a:p>
        </p:txBody>
      </p:sp>
      <p:sp>
        <p:nvSpPr>
          <p:cNvPr id="383" name=""/>
          <p:cNvSpPr/>
          <p:nvPr/>
        </p:nvSpPr>
        <p:spPr>
          <a:xfrm>
            <a:off x="380880" y="46134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s a paging extension to receive audio pages on the ephone</a:t>
            </a:r>
            <a:endParaRPr b="0" lang="en-US" sz="2400" spc="-1" strike="noStrike">
              <a:solidFill>
                <a:srgbClr val="000000"/>
              </a:solidFill>
              <a:latin typeface="Arial"/>
            </a:endParaRPr>
          </a:p>
        </p:txBody>
      </p:sp>
      <p:sp>
        <p:nvSpPr>
          <p:cNvPr id="38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
        <p:nvSpPr>
          <p:cNvPr id="385" name=""/>
          <p:cNvSpPr/>
          <p:nvPr/>
        </p:nvSpPr>
        <p:spPr>
          <a:xfrm>
            <a:off x="419040" y="1473120"/>
            <a:ext cx="447048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Paging Commands</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
        <p:nvSpPr>
          <p:cNvPr id="387" name=""/>
          <p:cNvSpPr/>
          <p:nvPr/>
        </p:nvSpPr>
        <p:spPr>
          <a:xfrm>
            <a:off x="438120" y="2666880"/>
            <a:ext cx="3581280" cy="3723480"/>
          </a:xfrm>
          <a:prstGeom prst="rect">
            <a:avLst/>
          </a:prstGeom>
          <a:noFill/>
          <a:ln w="2844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dn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umber 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ame Tech Suppo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 ip 239.0.1.20 port 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dn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umber 200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ame Sales Dep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 ip 239.0.1.21 port 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dn 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umber 200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 ip 239.0.2.22 port 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 group 10,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group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group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group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phone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ging-group 20</a:t>
            </a:r>
            <a:endParaRPr b="0" lang="en-US" sz="1200" spc="-1" strike="noStrike">
              <a:solidFill>
                <a:srgbClr val="000000"/>
              </a:solidFill>
              <a:latin typeface="Arial"/>
            </a:endParaRPr>
          </a:p>
        </p:txBody>
      </p:sp>
      <p:pic>
        <p:nvPicPr>
          <p:cNvPr id="388" name="" descr=""/>
          <p:cNvPicPr/>
          <p:nvPr/>
        </p:nvPicPr>
        <p:blipFill>
          <a:blip r:embed="rId1"/>
          <a:stretch/>
        </p:blipFill>
        <p:spPr>
          <a:xfrm>
            <a:off x="7620120" y="5334120"/>
            <a:ext cx="838080" cy="461880"/>
          </a:xfrm>
          <a:prstGeom prst="rect">
            <a:avLst/>
          </a:prstGeom>
          <a:ln w="0">
            <a:noFill/>
          </a:ln>
        </p:spPr>
      </p:pic>
      <p:pic>
        <p:nvPicPr>
          <p:cNvPr id="389" name="" descr=""/>
          <p:cNvPicPr/>
          <p:nvPr/>
        </p:nvPicPr>
        <p:blipFill>
          <a:blip r:embed="rId2"/>
          <a:stretch/>
        </p:blipFill>
        <p:spPr>
          <a:xfrm>
            <a:off x="7620120" y="4113360"/>
            <a:ext cx="838080" cy="461880"/>
          </a:xfrm>
          <a:prstGeom prst="rect">
            <a:avLst/>
          </a:prstGeom>
          <a:ln w="0">
            <a:noFill/>
          </a:ln>
        </p:spPr>
      </p:pic>
      <p:pic>
        <p:nvPicPr>
          <p:cNvPr id="390" name="" descr=""/>
          <p:cNvPicPr/>
          <p:nvPr/>
        </p:nvPicPr>
        <p:blipFill>
          <a:blip r:embed="rId3"/>
          <a:stretch/>
        </p:blipFill>
        <p:spPr>
          <a:xfrm>
            <a:off x="7620120" y="2892600"/>
            <a:ext cx="838080" cy="461880"/>
          </a:xfrm>
          <a:prstGeom prst="rect">
            <a:avLst/>
          </a:prstGeom>
          <a:ln w="0">
            <a:noFill/>
          </a:ln>
        </p:spPr>
      </p:pic>
      <p:pic>
        <p:nvPicPr>
          <p:cNvPr id="391" name="" descr=""/>
          <p:cNvPicPr/>
          <p:nvPr/>
        </p:nvPicPr>
        <p:blipFill>
          <a:blip r:embed="rId4"/>
          <a:stretch/>
        </p:blipFill>
        <p:spPr>
          <a:xfrm>
            <a:off x="7620120" y="1671480"/>
            <a:ext cx="838080" cy="462240"/>
          </a:xfrm>
          <a:prstGeom prst="rect">
            <a:avLst/>
          </a:prstGeom>
          <a:ln w="0">
            <a:noFill/>
          </a:ln>
        </p:spPr>
      </p:pic>
      <p:pic>
        <p:nvPicPr>
          <p:cNvPr id="392" name="" descr=""/>
          <p:cNvPicPr/>
          <p:nvPr/>
        </p:nvPicPr>
        <p:blipFill>
          <a:blip r:embed="rId5"/>
          <a:stretch/>
        </p:blipFill>
        <p:spPr>
          <a:xfrm>
            <a:off x="5562720" y="2590920"/>
            <a:ext cx="838080" cy="461880"/>
          </a:xfrm>
          <a:prstGeom prst="rect">
            <a:avLst/>
          </a:prstGeom>
          <a:ln w="0">
            <a:noFill/>
          </a:ln>
        </p:spPr>
      </p:pic>
      <p:sp>
        <p:nvSpPr>
          <p:cNvPr id="393" name=""/>
          <p:cNvSpPr/>
          <p:nvPr/>
        </p:nvSpPr>
        <p:spPr>
          <a:xfrm>
            <a:off x="7010280" y="1600200"/>
            <a:ext cx="0" cy="434340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94" name=""/>
          <p:cNvSpPr/>
          <p:nvPr/>
        </p:nvSpPr>
        <p:spPr>
          <a:xfrm flipH="1">
            <a:off x="7010280" y="3276720"/>
            <a:ext cx="60984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95" name=""/>
          <p:cNvSpPr/>
          <p:nvPr/>
        </p:nvSpPr>
        <p:spPr>
          <a:xfrm flipH="1">
            <a:off x="7010280" y="4495680"/>
            <a:ext cx="60984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96" name=""/>
          <p:cNvSpPr/>
          <p:nvPr/>
        </p:nvSpPr>
        <p:spPr>
          <a:xfrm flipH="1">
            <a:off x="7010280" y="2057400"/>
            <a:ext cx="60984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97" name=""/>
          <p:cNvSpPr/>
          <p:nvPr/>
        </p:nvSpPr>
        <p:spPr>
          <a:xfrm flipH="1">
            <a:off x="7010280" y="5715000"/>
            <a:ext cx="60984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98" name=""/>
          <p:cNvSpPr/>
          <p:nvPr/>
        </p:nvSpPr>
        <p:spPr>
          <a:xfrm flipH="1">
            <a:off x="6400440" y="2819520"/>
            <a:ext cx="60948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399" name=""/>
          <p:cNvSpPr/>
          <p:nvPr/>
        </p:nvSpPr>
        <p:spPr>
          <a:xfrm>
            <a:off x="7162920" y="2120760"/>
            <a:ext cx="1676160" cy="576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phone 1</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aging Group 10</a:t>
            </a:r>
            <a:endParaRPr b="0" lang="en-US" sz="1400" spc="-1" strike="noStrike">
              <a:solidFill>
                <a:srgbClr val="000000"/>
              </a:solidFill>
              <a:latin typeface="Arial"/>
            </a:endParaRPr>
          </a:p>
        </p:txBody>
      </p:sp>
      <p:sp>
        <p:nvSpPr>
          <p:cNvPr id="400" name=""/>
          <p:cNvSpPr/>
          <p:nvPr/>
        </p:nvSpPr>
        <p:spPr>
          <a:xfrm>
            <a:off x="7226280" y="3327480"/>
            <a:ext cx="1676520" cy="576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phone 2</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aging Group 10</a:t>
            </a:r>
            <a:endParaRPr b="0" lang="en-US" sz="1400" spc="-1" strike="noStrike">
              <a:solidFill>
                <a:srgbClr val="000000"/>
              </a:solidFill>
              <a:latin typeface="Arial"/>
            </a:endParaRPr>
          </a:p>
        </p:txBody>
      </p:sp>
      <p:sp>
        <p:nvSpPr>
          <p:cNvPr id="401" name=""/>
          <p:cNvSpPr/>
          <p:nvPr/>
        </p:nvSpPr>
        <p:spPr>
          <a:xfrm>
            <a:off x="7162920" y="4559400"/>
            <a:ext cx="1676160" cy="576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phone 3</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aging Group 20</a:t>
            </a:r>
            <a:endParaRPr b="0" lang="en-US" sz="1400" spc="-1" strike="noStrike">
              <a:solidFill>
                <a:srgbClr val="000000"/>
              </a:solidFill>
              <a:latin typeface="Arial"/>
            </a:endParaRPr>
          </a:p>
        </p:txBody>
      </p:sp>
      <p:sp>
        <p:nvSpPr>
          <p:cNvPr id="402" name=""/>
          <p:cNvSpPr/>
          <p:nvPr/>
        </p:nvSpPr>
        <p:spPr>
          <a:xfrm>
            <a:off x="7175520" y="5753160"/>
            <a:ext cx="1676520" cy="5767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phone 4</a:t>
            </a:r>
            <a:endParaRPr b="0" lang="en-US" sz="1400" spc="-1" strike="noStrike">
              <a:solidFill>
                <a:srgbClr val="000000"/>
              </a:solidFill>
              <a:latin typeface="Arial"/>
            </a:endParaRPr>
          </a:p>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aging Group 20</a:t>
            </a:r>
            <a:endParaRPr b="0" lang="en-US" sz="1400" spc="-1" strike="noStrike">
              <a:solidFill>
                <a:srgbClr val="000000"/>
              </a:solidFill>
              <a:latin typeface="Arial"/>
            </a:endParaRPr>
          </a:p>
        </p:txBody>
      </p:sp>
      <p:sp>
        <p:nvSpPr>
          <p:cNvPr id="403" name=""/>
          <p:cNvSpPr/>
          <p:nvPr/>
        </p:nvSpPr>
        <p:spPr>
          <a:xfrm>
            <a:off x="5181480" y="3124080"/>
            <a:ext cx="1676520" cy="465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hone dials 2000, 2001 or 2002</a:t>
            </a:r>
            <a:endParaRPr b="0" lang="en-US" sz="1400" spc="-1" strike="noStrike">
              <a:solidFill>
                <a:srgbClr val="000000"/>
              </a:solidFill>
              <a:latin typeface="Arial"/>
            </a:endParaRPr>
          </a:p>
        </p:txBody>
      </p:sp>
      <p:sp>
        <p:nvSpPr>
          <p:cNvPr id="404" name=""/>
          <p:cNvSpPr/>
          <p:nvPr/>
        </p:nvSpPr>
        <p:spPr>
          <a:xfrm>
            <a:off x="227160" y="1149480"/>
            <a:ext cx="5878440" cy="1724040"/>
          </a:xfrm>
          <a:prstGeom prst="rect">
            <a:avLst/>
          </a:prstGeom>
          <a:noFill/>
          <a:ln w="0">
            <a:noFill/>
          </a:ln>
        </p:spPr>
        <p:style>
          <a:lnRef idx="0"/>
          <a:fillRef idx="0"/>
          <a:effectRef idx="0"/>
          <a:fontRef idx="minor"/>
        </p:style>
        <p:txBody>
          <a:bodyPr lIns="82080" rIns="8208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ombined Paging Group</a:t>
            </a:r>
            <a:r>
              <a:rPr b="1" lang="en-US" sz="3000" spc="-1" strike="noStrike">
                <a:solidFill>
                  <a:srgbClr val="000000"/>
                </a:solidFill>
                <a:latin typeface="Arial"/>
              </a:rPr>
              <a:t> </a:t>
            </a:r>
            <a:endParaRPr b="0" lang="en-US" sz="30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dials 2000 and phone 1 and phone 2 get page</a:t>
            </a:r>
            <a:endParaRPr b="0" lang="en-US" sz="16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dials 2001 and phone 3 and phone 4 get page</a:t>
            </a:r>
            <a:endParaRPr b="0" lang="en-US" sz="16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1" lang="en-US" sz="1600" spc="-1" strike="noStrike">
                <a:solidFill>
                  <a:srgbClr val="000000"/>
                </a:solidFill>
                <a:latin typeface="Arial"/>
              </a:rPr>
              <a:t>Phone dials 2002 and all 4 phones get page</a:t>
            </a:r>
            <a:endParaRPr b="0" lang="en-US" sz="1600" spc="-1" strike="noStrike">
              <a:solidFill>
                <a:srgbClr val="000000"/>
              </a:solidFill>
              <a:latin typeface="Arial"/>
            </a:endParaRPr>
          </a:p>
          <a:p>
            <a:pPr lvl="1" marL="343080" indent="-228600">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343080" indent="-228600">
              <a:lnSpc>
                <a:spcPct val="95000"/>
              </a:lnSpc>
              <a:spcBef>
                <a:spcPts val="700"/>
              </a:spcBef>
              <a:buClr>
                <a:srgbClr val="eeb30e"/>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457200" y="30481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aging-group </a:t>
            </a:r>
            <a:r>
              <a:rPr b="1" i="1" lang="en-GB" sz="2000" spc="-1" strike="noStrike">
                <a:solidFill>
                  <a:srgbClr val="000000"/>
                </a:solidFill>
                <a:latin typeface="Courier New"/>
              </a:rPr>
              <a:t>paging-dn-tag, paging-dn-tag,…</a:t>
            </a:r>
            <a:endParaRPr b="0" lang="en-US" sz="2000" spc="-1" strike="noStrike">
              <a:solidFill>
                <a:srgbClr val="000000"/>
              </a:solidFill>
              <a:latin typeface="Arial"/>
            </a:endParaRPr>
          </a:p>
        </p:txBody>
      </p:sp>
      <p:sp>
        <p:nvSpPr>
          <p:cNvPr id="406" name=""/>
          <p:cNvSpPr/>
          <p:nvPr/>
        </p:nvSpPr>
        <p:spPr>
          <a:xfrm>
            <a:off x="403200" y="2703600"/>
            <a:ext cx="4778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ephone-dn)#</a:t>
            </a:r>
            <a:endParaRPr b="0" lang="en-US" sz="1600" spc="-1" strike="noStrike">
              <a:solidFill>
                <a:srgbClr val="000000"/>
              </a:solidFill>
              <a:latin typeface="Arial"/>
            </a:endParaRPr>
          </a:p>
        </p:txBody>
      </p:sp>
      <p:sp>
        <p:nvSpPr>
          <p:cNvPr id="407" name=""/>
          <p:cNvSpPr/>
          <p:nvPr/>
        </p:nvSpPr>
        <p:spPr>
          <a:xfrm>
            <a:off x="387360" y="350676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s a combined paging group from two or more previously defined paging directory numbers</a:t>
            </a:r>
            <a:endParaRPr b="0" lang="en-US" sz="2400" spc="-1" strike="noStrike">
              <a:solidFill>
                <a:srgbClr val="000000"/>
              </a:solidFill>
              <a:latin typeface="Arial"/>
            </a:endParaRPr>
          </a:p>
        </p:txBody>
      </p:sp>
      <p:sp>
        <p:nvSpPr>
          <p:cNvPr id="4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roductivity Tools (Cont.)</a:t>
            </a:r>
            <a:endParaRPr b="1" lang="en-US" sz="3000" spc="-1" strike="noStrike">
              <a:solidFill>
                <a:srgbClr val="ffffff"/>
              </a:solidFill>
              <a:latin typeface="Arial"/>
            </a:endParaRPr>
          </a:p>
        </p:txBody>
      </p:sp>
      <p:sp>
        <p:nvSpPr>
          <p:cNvPr id="409" name=""/>
          <p:cNvSpPr/>
          <p:nvPr/>
        </p:nvSpPr>
        <p:spPr>
          <a:xfrm>
            <a:off x="454680" y="1795320"/>
            <a:ext cx="2354760" cy="4388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Paging Group</a:t>
            </a:r>
            <a:endParaRPr b="0" lang="en-US" sz="2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ustom IP Phone Rings</a:t>
            </a:r>
            <a:endParaRPr b="1" lang="en-US" sz="3000" spc="-1" strike="noStrike">
              <a:solidFill>
                <a:srgbClr val="ffffff"/>
              </a:solidFill>
              <a:latin typeface="Arial"/>
            </a:endParaRPr>
          </a:p>
        </p:txBody>
      </p:sp>
      <p:sp>
        <p:nvSpPr>
          <p:cNvPr id="411" name=""/>
          <p:cNvSpPr/>
          <p:nvPr/>
        </p:nvSpPr>
        <p:spPr>
          <a:xfrm>
            <a:off x="351000" y="1473120"/>
            <a:ext cx="8056440" cy="4876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1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To create custom rings for IP phones follow these steps:</a:t>
            </a:r>
            <a:endParaRPr b="0" lang="en-US" sz="26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1 - Create a ring in the form of a raw PCM file</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2 - Create a RingList.xml file using a text editor to point to the various rings that are desired</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3 - Load the rings and RingList.xml file to flash on the CallManager Express router</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4 - Configure the tftp server to serve up the rings and RingList.xml</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5 - Reboot the phones</a:t>
            </a:r>
            <a:endParaRPr b="0" lang="en-US" sz="2400" spc="-1" strike="noStrike">
              <a:solidFill>
                <a:srgbClr val="000000"/>
              </a:solidFill>
              <a:latin typeface="Arial"/>
            </a:endParaRPr>
          </a:p>
          <a:p>
            <a:pPr lvl="1" marL="343080" indent="-228600">
              <a:lnSpc>
                <a:spcPct val="95000"/>
              </a:lnSpc>
              <a:spcBef>
                <a:spcPts val="1049"/>
              </a:spcBef>
              <a:buClr>
                <a:srgbClr val="eeb30e"/>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55560" y="1676520"/>
            <a:ext cx="7954920" cy="3571920"/>
          </a:xfrm>
          <a:prstGeom prst="rect">
            <a:avLst/>
          </a:prstGeom>
          <a:noFill/>
          <a:ln w="0">
            <a:noFill/>
          </a:ln>
        </p:spPr>
        <p:style>
          <a:lnRef idx="0"/>
          <a:fillRef idx="0"/>
          <a:effectRef idx="0"/>
          <a:fontRef idx="minor"/>
        </p:style>
        <p:txBody>
          <a:bodyPr lIns="82080" rIns="82080" tIns="46800" bIns="46800" anchor="t">
            <a:noAutofit/>
          </a:bodyPr>
          <a:p>
            <a:pPr>
              <a:lnSpc>
                <a:spcPct val="95000"/>
              </a:lnSpc>
              <a:spcBef>
                <a:spcPts val="11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Music on Hold (MoH) can be derived from two sources:</a:t>
            </a:r>
            <a:endParaRPr b="0" lang="en-US" sz="26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udio file in .wav or .au format</a:t>
            </a:r>
            <a:endParaRPr b="0"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ive audio source via a feed</a:t>
            </a:r>
            <a:endParaRPr b="0" lang="en-US" sz="2400" spc="-1" strike="noStrike">
              <a:solidFill>
                <a:srgbClr val="000000"/>
              </a:solidFill>
              <a:latin typeface="Arial"/>
            </a:endParaRPr>
          </a:p>
        </p:txBody>
      </p:sp>
      <p:sp>
        <p:nvSpPr>
          <p:cNvPr id="4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a:t>
            </a:r>
            <a:endParaRPr b="1" lang="en-US" sz="3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pic>
        <p:nvPicPr>
          <p:cNvPr id="415" name="" descr=""/>
          <p:cNvPicPr/>
          <p:nvPr/>
        </p:nvPicPr>
        <p:blipFill>
          <a:blip r:embed="rId1"/>
          <a:stretch/>
        </p:blipFill>
        <p:spPr>
          <a:xfrm>
            <a:off x="7315200" y="4572000"/>
            <a:ext cx="838080" cy="461880"/>
          </a:xfrm>
          <a:prstGeom prst="rect">
            <a:avLst/>
          </a:prstGeom>
          <a:ln w="0">
            <a:noFill/>
          </a:ln>
        </p:spPr>
      </p:pic>
      <p:pic>
        <p:nvPicPr>
          <p:cNvPr id="416" name="" descr=""/>
          <p:cNvPicPr/>
          <p:nvPr/>
        </p:nvPicPr>
        <p:blipFill>
          <a:blip r:embed="rId2"/>
          <a:stretch/>
        </p:blipFill>
        <p:spPr>
          <a:xfrm>
            <a:off x="7315200" y="2895480"/>
            <a:ext cx="838080" cy="462240"/>
          </a:xfrm>
          <a:prstGeom prst="rect">
            <a:avLst/>
          </a:prstGeom>
          <a:ln w="0">
            <a:noFill/>
          </a:ln>
        </p:spPr>
      </p:pic>
      <p:sp>
        <p:nvSpPr>
          <p:cNvPr id="417" name=""/>
          <p:cNvSpPr/>
          <p:nvPr/>
        </p:nvSpPr>
        <p:spPr>
          <a:xfrm>
            <a:off x="7010280" y="2438280"/>
            <a:ext cx="160020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on Hold</a:t>
            </a:r>
            <a:endParaRPr b="0" lang="en-US" sz="1600" spc="-1" strike="noStrike">
              <a:solidFill>
                <a:srgbClr val="000000"/>
              </a:solidFill>
              <a:latin typeface="Arial"/>
            </a:endParaRPr>
          </a:p>
        </p:txBody>
      </p:sp>
      <p:sp>
        <p:nvSpPr>
          <p:cNvPr id="418" name=""/>
          <p:cNvSpPr/>
          <p:nvPr/>
        </p:nvSpPr>
        <p:spPr>
          <a:xfrm>
            <a:off x="7162920" y="5181480"/>
            <a:ext cx="160020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on Hold</a:t>
            </a:r>
            <a:endParaRPr b="0" lang="en-US" sz="1600" spc="-1" strike="noStrike">
              <a:solidFill>
                <a:srgbClr val="000000"/>
              </a:solidFill>
              <a:latin typeface="Arial"/>
            </a:endParaRPr>
          </a:p>
        </p:txBody>
      </p:sp>
      <p:sp>
        <p:nvSpPr>
          <p:cNvPr id="419" name=""/>
          <p:cNvSpPr/>
          <p:nvPr/>
        </p:nvSpPr>
        <p:spPr>
          <a:xfrm flipV="1">
            <a:off x="6553080" y="3352320"/>
            <a:ext cx="685800" cy="68580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420" name=""/>
          <p:cNvSpPr/>
          <p:nvPr/>
        </p:nvSpPr>
        <p:spPr>
          <a:xfrm>
            <a:off x="6553080" y="4038480"/>
            <a:ext cx="685800" cy="68580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421" name=""/>
          <p:cNvSpPr/>
          <p:nvPr/>
        </p:nvSpPr>
        <p:spPr>
          <a:xfrm flipH="1">
            <a:off x="4495320" y="4038480"/>
            <a:ext cx="205740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422" name=""/>
          <p:cNvSpPr/>
          <p:nvPr/>
        </p:nvSpPr>
        <p:spPr>
          <a:xfrm>
            <a:off x="3124080" y="2590920"/>
            <a:ext cx="1600200" cy="914400"/>
          </a:xfrm>
          <a:prstGeom prst="rect">
            <a:avLst/>
          </a:prstGeom>
          <a:solidFill>
            <a:srgbClr val="c0c0c0">
              <a:alpha val="41000"/>
            </a:srgbClr>
          </a:solidFill>
          <a:ln w="25560">
            <a:solidFill>
              <a:srgbClr val="00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23" name=""/>
          <p:cNvSpPr/>
          <p:nvPr/>
        </p:nvSpPr>
        <p:spPr>
          <a:xfrm>
            <a:off x="3048120" y="2666880"/>
            <a:ext cx="1752480" cy="75744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u="sng">
                <a:solidFill>
                  <a:srgbClr val="000000"/>
                </a:solidFill>
                <a:uFillTx/>
                <a:latin typeface="Arial"/>
              </a:rPr>
              <a:t>Flash:</a:t>
            </a:r>
            <a:endParaRPr b="0" lang="en-US" sz="2400" spc="-1" strike="noStrike">
              <a:solidFill>
                <a:srgbClr val="000000"/>
              </a:solidFill>
              <a:latin typeface="Arial"/>
            </a:endParaRPr>
          </a:p>
          <a:p>
            <a:pPr algn="ct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yMohfile.wav</a:t>
            </a:r>
            <a:endParaRPr b="0" lang="en-US" sz="1600" spc="-1" strike="noStrike">
              <a:solidFill>
                <a:srgbClr val="000000"/>
              </a:solidFill>
              <a:latin typeface="Arial"/>
            </a:endParaRPr>
          </a:p>
        </p:txBody>
      </p:sp>
      <p:sp>
        <p:nvSpPr>
          <p:cNvPr id="424" name=""/>
          <p:cNvSpPr/>
          <p:nvPr/>
        </p:nvSpPr>
        <p:spPr>
          <a:xfrm>
            <a:off x="4495680" y="4114800"/>
            <a:ext cx="221004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unicast or multicast</a:t>
            </a:r>
            <a:endParaRPr b="0" lang="en-US" sz="1600" spc="-1" strike="noStrike">
              <a:solidFill>
                <a:srgbClr val="000000"/>
              </a:solidFill>
              <a:latin typeface="Arial"/>
            </a:endParaRPr>
          </a:p>
        </p:txBody>
      </p:sp>
      <p:sp>
        <p:nvSpPr>
          <p:cNvPr id="425" name=""/>
          <p:cNvSpPr/>
          <p:nvPr/>
        </p:nvSpPr>
        <p:spPr>
          <a:xfrm>
            <a:off x="453600" y="1643040"/>
            <a:ext cx="4244760" cy="4388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file</a:t>
            </a:r>
            <a:endParaRPr b="0" lang="en-US" sz="2600" spc="-1" strike="noStrike">
              <a:solidFill>
                <a:srgbClr val="000000"/>
              </a:solidFill>
              <a:latin typeface="Arial"/>
            </a:endParaRPr>
          </a:p>
        </p:txBody>
      </p:sp>
      <p:sp>
        <p:nvSpPr>
          <p:cNvPr id="426" name=""/>
          <p:cNvSpPr/>
          <p:nvPr/>
        </p:nvSpPr>
        <p:spPr>
          <a:xfrm>
            <a:off x="2362320" y="4800600"/>
            <a:ext cx="4343400" cy="712440"/>
          </a:xfrm>
          <a:prstGeom prst="rect">
            <a:avLst/>
          </a:prstGeom>
          <a:noFill/>
          <a:ln w="2844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lephony-ser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oh MyMoHfile.wa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ulticast moh 239.23.4.10 port 2000</a:t>
            </a:r>
            <a:endParaRPr b="0" lang="en-US" sz="1400" spc="-1" strike="noStrike">
              <a:solidFill>
                <a:srgbClr val="000000"/>
              </a:solidFill>
              <a:latin typeface="Arial"/>
            </a:endParaRPr>
          </a:p>
        </p:txBody>
      </p:sp>
      <p:grpSp>
        <p:nvGrpSpPr>
          <p:cNvPr id="427" name=""/>
          <p:cNvGrpSpPr/>
          <p:nvPr/>
        </p:nvGrpSpPr>
        <p:grpSpPr>
          <a:xfrm>
            <a:off x="3429000" y="3581280"/>
            <a:ext cx="1066320" cy="934920"/>
            <a:chOff x="3429000" y="3581280"/>
            <a:chExt cx="1066320" cy="934920"/>
          </a:xfrm>
        </p:grpSpPr>
        <p:sp>
          <p:nvSpPr>
            <p:cNvPr id="428" name=""/>
            <p:cNvSpPr/>
            <p:nvPr/>
          </p:nvSpPr>
          <p:spPr>
            <a:xfrm>
              <a:off x="3435840" y="4147560"/>
              <a:ext cx="1052640" cy="361440"/>
            </a:xfrm>
            <a:custGeom>
              <a:avLst/>
              <a:gdLst/>
              <a:ahLst/>
              <a:rect l="l" t="t" r="r" b="b"/>
              <a:pathLst>
                <a:path w="16146" h="5544">
                  <a:moveTo>
                    <a:pt x="16146" y="2772"/>
                  </a:moveTo>
                  <a:lnTo>
                    <a:pt x="16136" y="2915"/>
                  </a:lnTo>
                  <a:lnTo>
                    <a:pt x="16105" y="3056"/>
                  </a:lnTo>
                  <a:lnTo>
                    <a:pt x="16053" y="3194"/>
                  </a:lnTo>
                  <a:lnTo>
                    <a:pt x="15982" y="3330"/>
                  </a:lnTo>
                  <a:lnTo>
                    <a:pt x="15892" y="3465"/>
                  </a:lnTo>
                  <a:lnTo>
                    <a:pt x="15783" y="3596"/>
                  </a:lnTo>
                  <a:lnTo>
                    <a:pt x="15657" y="3725"/>
                  </a:lnTo>
                  <a:lnTo>
                    <a:pt x="15512" y="3850"/>
                  </a:lnTo>
                  <a:lnTo>
                    <a:pt x="15350" y="3973"/>
                  </a:lnTo>
                  <a:lnTo>
                    <a:pt x="15171" y="4093"/>
                  </a:lnTo>
                  <a:lnTo>
                    <a:pt x="14977" y="4209"/>
                  </a:lnTo>
                  <a:lnTo>
                    <a:pt x="14767" y="4322"/>
                  </a:lnTo>
                  <a:lnTo>
                    <a:pt x="14542" y="4431"/>
                  </a:lnTo>
                  <a:lnTo>
                    <a:pt x="14302" y="4535"/>
                  </a:lnTo>
                  <a:lnTo>
                    <a:pt x="14048" y="4636"/>
                  </a:lnTo>
                  <a:lnTo>
                    <a:pt x="13781" y="4732"/>
                  </a:lnTo>
                  <a:lnTo>
                    <a:pt x="13500" y="4824"/>
                  </a:lnTo>
                  <a:lnTo>
                    <a:pt x="13207" y="4911"/>
                  </a:lnTo>
                  <a:lnTo>
                    <a:pt x="12903" y="4993"/>
                  </a:lnTo>
                  <a:lnTo>
                    <a:pt x="12586" y="5071"/>
                  </a:lnTo>
                  <a:lnTo>
                    <a:pt x="12258" y="5143"/>
                  </a:lnTo>
                  <a:lnTo>
                    <a:pt x="11920" y="5209"/>
                  </a:lnTo>
                  <a:lnTo>
                    <a:pt x="11572" y="5271"/>
                  </a:lnTo>
                  <a:lnTo>
                    <a:pt x="11214" y="5326"/>
                  </a:lnTo>
                  <a:lnTo>
                    <a:pt x="10848" y="5375"/>
                  </a:lnTo>
                  <a:lnTo>
                    <a:pt x="10473" y="5419"/>
                  </a:lnTo>
                  <a:lnTo>
                    <a:pt x="10089" y="5456"/>
                  </a:lnTo>
                  <a:lnTo>
                    <a:pt x="9699" y="5488"/>
                  </a:lnTo>
                  <a:lnTo>
                    <a:pt x="9302" y="5512"/>
                  </a:lnTo>
                  <a:lnTo>
                    <a:pt x="8898" y="5530"/>
                  </a:lnTo>
                  <a:lnTo>
                    <a:pt x="8489" y="5540"/>
                  </a:lnTo>
                  <a:lnTo>
                    <a:pt x="8073" y="5544"/>
                  </a:lnTo>
                  <a:lnTo>
                    <a:pt x="7658" y="5540"/>
                  </a:lnTo>
                  <a:lnTo>
                    <a:pt x="7248" y="5530"/>
                  </a:lnTo>
                  <a:lnTo>
                    <a:pt x="6844" y="5512"/>
                  </a:lnTo>
                  <a:lnTo>
                    <a:pt x="6447" y="5488"/>
                  </a:lnTo>
                  <a:lnTo>
                    <a:pt x="6057" y="5456"/>
                  </a:lnTo>
                  <a:lnTo>
                    <a:pt x="5673" y="5419"/>
                  </a:lnTo>
                  <a:lnTo>
                    <a:pt x="5298" y="5375"/>
                  </a:lnTo>
                  <a:lnTo>
                    <a:pt x="4932" y="5326"/>
                  </a:lnTo>
                  <a:lnTo>
                    <a:pt x="4573" y="5271"/>
                  </a:lnTo>
                  <a:lnTo>
                    <a:pt x="4226" y="5209"/>
                  </a:lnTo>
                  <a:lnTo>
                    <a:pt x="3888" y="5143"/>
                  </a:lnTo>
                  <a:lnTo>
                    <a:pt x="3560" y="5071"/>
                  </a:lnTo>
                  <a:lnTo>
                    <a:pt x="3243" y="4993"/>
                  </a:lnTo>
                  <a:lnTo>
                    <a:pt x="2939" y="4911"/>
                  </a:lnTo>
                  <a:lnTo>
                    <a:pt x="2646" y="4824"/>
                  </a:lnTo>
                  <a:lnTo>
                    <a:pt x="2365" y="4732"/>
                  </a:lnTo>
                  <a:lnTo>
                    <a:pt x="2097" y="4636"/>
                  </a:lnTo>
                  <a:lnTo>
                    <a:pt x="1844" y="4535"/>
                  </a:lnTo>
                  <a:lnTo>
                    <a:pt x="1604" y="4431"/>
                  </a:lnTo>
                  <a:lnTo>
                    <a:pt x="1379" y="4322"/>
                  </a:lnTo>
                  <a:lnTo>
                    <a:pt x="1169" y="4209"/>
                  </a:lnTo>
                  <a:lnTo>
                    <a:pt x="975" y="4093"/>
                  </a:lnTo>
                  <a:lnTo>
                    <a:pt x="796" y="3973"/>
                  </a:lnTo>
                  <a:lnTo>
                    <a:pt x="634" y="3850"/>
                  </a:lnTo>
                  <a:lnTo>
                    <a:pt x="489" y="3725"/>
                  </a:lnTo>
                  <a:lnTo>
                    <a:pt x="363" y="3596"/>
                  </a:lnTo>
                  <a:lnTo>
                    <a:pt x="253" y="3465"/>
                  </a:lnTo>
                  <a:lnTo>
                    <a:pt x="164" y="3330"/>
                  </a:lnTo>
                  <a:lnTo>
                    <a:pt x="93" y="3194"/>
                  </a:lnTo>
                  <a:lnTo>
                    <a:pt x="41" y="3056"/>
                  </a:lnTo>
                  <a:lnTo>
                    <a:pt x="10" y="2915"/>
                  </a:lnTo>
                  <a:lnTo>
                    <a:pt x="0" y="2772"/>
                  </a:lnTo>
                  <a:lnTo>
                    <a:pt x="10" y="2630"/>
                  </a:lnTo>
                  <a:lnTo>
                    <a:pt x="41" y="2488"/>
                  </a:lnTo>
                  <a:lnTo>
                    <a:pt x="93" y="2350"/>
                  </a:lnTo>
                  <a:lnTo>
                    <a:pt x="164" y="2214"/>
                  </a:lnTo>
                  <a:lnTo>
                    <a:pt x="253" y="2079"/>
                  </a:lnTo>
                  <a:lnTo>
                    <a:pt x="363" y="1948"/>
                  </a:lnTo>
                  <a:lnTo>
                    <a:pt x="489" y="1820"/>
                  </a:lnTo>
                  <a:lnTo>
                    <a:pt x="634" y="1694"/>
                  </a:lnTo>
                  <a:lnTo>
                    <a:pt x="796" y="1571"/>
                  </a:lnTo>
                  <a:lnTo>
                    <a:pt x="975" y="1452"/>
                  </a:lnTo>
                  <a:lnTo>
                    <a:pt x="1169" y="1335"/>
                  </a:lnTo>
                  <a:lnTo>
                    <a:pt x="1379" y="1223"/>
                  </a:lnTo>
                  <a:lnTo>
                    <a:pt x="1604" y="1114"/>
                  </a:lnTo>
                  <a:lnTo>
                    <a:pt x="1844" y="1010"/>
                  </a:lnTo>
                  <a:lnTo>
                    <a:pt x="2097" y="909"/>
                  </a:lnTo>
                  <a:lnTo>
                    <a:pt x="2365" y="813"/>
                  </a:lnTo>
                  <a:lnTo>
                    <a:pt x="2646" y="720"/>
                  </a:lnTo>
                  <a:lnTo>
                    <a:pt x="2939" y="633"/>
                  </a:lnTo>
                  <a:lnTo>
                    <a:pt x="3243" y="551"/>
                  </a:lnTo>
                  <a:lnTo>
                    <a:pt x="3560" y="474"/>
                  </a:lnTo>
                  <a:lnTo>
                    <a:pt x="3888" y="401"/>
                  </a:lnTo>
                  <a:lnTo>
                    <a:pt x="4226" y="335"/>
                  </a:lnTo>
                  <a:lnTo>
                    <a:pt x="4573" y="273"/>
                  </a:lnTo>
                  <a:lnTo>
                    <a:pt x="4932" y="218"/>
                  </a:lnTo>
                  <a:lnTo>
                    <a:pt x="5298" y="169"/>
                  </a:lnTo>
                  <a:lnTo>
                    <a:pt x="5673" y="124"/>
                  </a:lnTo>
                  <a:lnTo>
                    <a:pt x="6057" y="88"/>
                  </a:lnTo>
                  <a:lnTo>
                    <a:pt x="6447" y="57"/>
                  </a:lnTo>
                  <a:lnTo>
                    <a:pt x="6844" y="32"/>
                  </a:lnTo>
                  <a:lnTo>
                    <a:pt x="7248" y="15"/>
                  </a:lnTo>
                  <a:lnTo>
                    <a:pt x="7658" y="3"/>
                  </a:lnTo>
                  <a:lnTo>
                    <a:pt x="8073" y="0"/>
                  </a:lnTo>
                  <a:lnTo>
                    <a:pt x="8489" y="3"/>
                  </a:lnTo>
                  <a:lnTo>
                    <a:pt x="8898" y="15"/>
                  </a:lnTo>
                  <a:lnTo>
                    <a:pt x="9302" y="32"/>
                  </a:lnTo>
                  <a:lnTo>
                    <a:pt x="9699" y="57"/>
                  </a:lnTo>
                  <a:lnTo>
                    <a:pt x="10089" y="88"/>
                  </a:lnTo>
                  <a:lnTo>
                    <a:pt x="10473" y="124"/>
                  </a:lnTo>
                  <a:lnTo>
                    <a:pt x="10848" y="169"/>
                  </a:lnTo>
                  <a:lnTo>
                    <a:pt x="11214" y="218"/>
                  </a:lnTo>
                  <a:lnTo>
                    <a:pt x="11572" y="273"/>
                  </a:lnTo>
                  <a:lnTo>
                    <a:pt x="11920" y="335"/>
                  </a:lnTo>
                  <a:lnTo>
                    <a:pt x="12258" y="401"/>
                  </a:lnTo>
                  <a:lnTo>
                    <a:pt x="12586" y="474"/>
                  </a:lnTo>
                  <a:lnTo>
                    <a:pt x="12903" y="551"/>
                  </a:lnTo>
                  <a:lnTo>
                    <a:pt x="13207" y="633"/>
                  </a:lnTo>
                  <a:lnTo>
                    <a:pt x="13500" y="720"/>
                  </a:lnTo>
                  <a:lnTo>
                    <a:pt x="13781" y="813"/>
                  </a:lnTo>
                  <a:lnTo>
                    <a:pt x="14048" y="909"/>
                  </a:lnTo>
                  <a:lnTo>
                    <a:pt x="14302" y="1010"/>
                  </a:lnTo>
                  <a:lnTo>
                    <a:pt x="14542" y="1114"/>
                  </a:lnTo>
                  <a:lnTo>
                    <a:pt x="14767" y="1223"/>
                  </a:lnTo>
                  <a:lnTo>
                    <a:pt x="14977" y="1335"/>
                  </a:lnTo>
                  <a:lnTo>
                    <a:pt x="15171" y="1452"/>
                  </a:lnTo>
                  <a:lnTo>
                    <a:pt x="15350" y="1571"/>
                  </a:lnTo>
                  <a:lnTo>
                    <a:pt x="15512" y="1694"/>
                  </a:lnTo>
                  <a:lnTo>
                    <a:pt x="15657" y="1820"/>
                  </a:lnTo>
                  <a:lnTo>
                    <a:pt x="15783" y="1948"/>
                  </a:lnTo>
                  <a:lnTo>
                    <a:pt x="15892" y="2079"/>
                  </a:lnTo>
                  <a:lnTo>
                    <a:pt x="15982" y="2214"/>
                  </a:lnTo>
                  <a:lnTo>
                    <a:pt x="16053" y="2350"/>
                  </a:lnTo>
                  <a:lnTo>
                    <a:pt x="16105" y="2488"/>
                  </a:lnTo>
                  <a:lnTo>
                    <a:pt x="16136" y="2630"/>
                  </a:lnTo>
                  <a:lnTo>
                    <a:pt x="16146" y="2772"/>
                  </a:lnTo>
                  <a:close/>
                </a:path>
              </a:pathLst>
            </a:custGeom>
            <a:solidFill>
              <a:srgbClr val="007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3962160" y="4328280"/>
              <a:ext cx="533160" cy="187920"/>
            </a:xfrm>
            <a:custGeom>
              <a:avLst/>
              <a:gdLst/>
              <a:ahLst/>
              <a:rect l="l" t="t" r="r" b="b"/>
              <a:pathLst>
                <a:path w="8172" h="2871">
                  <a:moveTo>
                    <a:pt x="0" y="2871"/>
                  </a:moveTo>
                  <a:lnTo>
                    <a:pt x="0" y="2871"/>
                  </a:lnTo>
                  <a:lnTo>
                    <a:pt x="209" y="2870"/>
                  </a:lnTo>
                  <a:lnTo>
                    <a:pt x="417" y="2867"/>
                  </a:lnTo>
                  <a:lnTo>
                    <a:pt x="623" y="2863"/>
                  </a:lnTo>
                  <a:lnTo>
                    <a:pt x="828" y="2857"/>
                  </a:lnTo>
                  <a:lnTo>
                    <a:pt x="1032" y="2848"/>
                  </a:lnTo>
                  <a:lnTo>
                    <a:pt x="1234" y="2838"/>
                  </a:lnTo>
                  <a:lnTo>
                    <a:pt x="1434" y="2827"/>
                  </a:lnTo>
                  <a:lnTo>
                    <a:pt x="1633" y="2815"/>
                  </a:lnTo>
                  <a:lnTo>
                    <a:pt x="1831" y="2799"/>
                  </a:lnTo>
                  <a:lnTo>
                    <a:pt x="2026" y="2784"/>
                  </a:lnTo>
                  <a:lnTo>
                    <a:pt x="2219" y="2765"/>
                  </a:lnTo>
                  <a:lnTo>
                    <a:pt x="2411" y="2746"/>
                  </a:lnTo>
                  <a:lnTo>
                    <a:pt x="2600" y="2724"/>
                  </a:lnTo>
                  <a:lnTo>
                    <a:pt x="2787" y="2702"/>
                  </a:lnTo>
                  <a:lnTo>
                    <a:pt x="2973" y="2677"/>
                  </a:lnTo>
                  <a:lnTo>
                    <a:pt x="3155" y="2652"/>
                  </a:lnTo>
                  <a:lnTo>
                    <a:pt x="3336" y="2625"/>
                  </a:lnTo>
                  <a:lnTo>
                    <a:pt x="3515" y="2596"/>
                  </a:lnTo>
                  <a:lnTo>
                    <a:pt x="3692" y="2566"/>
                  </a:lnTo>
                  <a:lnTo>
                    <a:pt x="3865" y="2535"/>
                  </a:lnTo>
                  <a:lnTo>
                    <a:pt x="4036" y="2502"/>
                  </a:lnTo>
                  <a:lnTo>
                    <a:pt x="4206" y="2467"/>
                  </a:lnTo>
                  <a:lnTo>
                    <a:pt x="4371" y="2432"/>
                  </a:lnTo>
                  <a:lnTo>
                    <a:pt x="4534" y="2395"/>
                  </a:lnTo>
                  <a:lnTo>
                    <a:pt x="4696" y="2356"/>
                  </a:lnTo>
                  <a:lnTo>
                    <a:pt x="4854" y="2317"/>
                  </a:lnTo>
                  <a:lnTo>
                    <a:pt x="5008" y="2276"/>
                  </a:lnTo>
                  <a:lnTo>
                    <a:pt x="5161" y="2234"/>
                  </a:lnTo>
                  <a:lnTo>
                    <a:pt x="5310" y="2191"/>
                  </a:lnTo>
                  <a:lnTo>
                    <a:pt x="5456" y="2146"/>
                  </a:lnTo>
                  <a:lnTo>
                    <a:pt x="5528" y="2123"/>
                  </a:lnTo>
                  <a:lnTo>
                    <a:pt x="5600" y="2101"/>
                  </a:lnTo>
                  <a:lnTo>
                    <a:pt x="5670" y="2077"/>
                  </a:lnTo>
                  <a:lnTo>
                    <a:pt x="5740" y="2054"/>
                  </a:lnTo>
                  <a:lnTo>
                    <a:pt x="5808" y="2029"/>
                  </a:lnTo>
                  <a:lnTo>
                    <a:pt x="5877" y="2005"/>
                  </a:lnTo>
                  <a:lnTo>
                    <a:pt x="5943" y="1981"/>
                  </a:lnTo>
                  <a:lnTo>
                    <a:pt x="6009" y="1956"/>
                  </a:lnTo>
                  <a:lnTo>
                    <a:pt x="6076" y="1931"/>
                  </a:lnTo>
                  <a:lnTo>
                    <a:pt x="6140" y="1906"/>
                  </a:lnTo>
                  <a:lnTo>
                    <a:pt x="6204" y="1880"/>
                  </a:lnTo>
                  <a:lnTo>
                    <a:pt x="6267" y="1855"/>
                  </a:lnTo>
                  <a:lnTo>
                    <a:pt x="6329" y="1828"/>
                  </a:lnTo>
                  <a:lnTo>
                    <a:pt x="6389" y="1801"/>
                  </a:lnTo>
                  <a:lnTo>
                    <a:pt x="6450" y="1775"/>
                  </a:lnTo>
                  <a:lnTo>
                    <a:pt x="6510" y="1748"/>
                  </a:lnTo>
                  <a:lnTo>
                    <a:pt x="6568" y="1720"/>
                  </a:lnTo>
                  <a:lnTo>
                    <a:pt x="6625" y="1694"/>
                  </a:lnTo>
                  <a:lnTo>
                    <a:pt x="6683" y="1666"/>
                  </a:lnTo>
                  <a:lnTo>
                    <a:pt x="6738" y="1638"/>
                  </a:lnTo>
                  <a:lnTo>
                    <a:pt x="6793" y="1610"/>
                  </a:lnTo>
                  <a:lnTo>
                    <a:pt x="6847" y="1581"/>
                  </a:lnTo>
                  <a:lnTo>
                    <a:pt x="6900" y="1552"/>
                  </a:lnTo>
                  <a:lnTo>
                    <a:pt x="6952" y="1523"/>
                  </a:lnTo>
                  <a:lnTo>
                    <a:pt x="7003" y="1494"/>
                  </a:lnTo>
                  <a:lnTo>
                    <a:pt x="7053" y="1465"/>
                  </a:lnTo>
                  <a:lnTo>
                    <a:pt x="7102" y="1435"/>
                  </a:lnTo>
                  <a:lnTo>
                    <a:pt x="7151" y="1404"/>
                  </a:lnTo>
                  <a:lnTo>
                    <a:pt x="7199" y="1375"/>
                  </a:lnTo>
                  <a:lnTo>
                    <a:pt x="7244" y="1344"/>
                  </a:lnTo>
                  <a:lnTo>
                    <a:pt x="7289" y="1313"/>
                  </a:lnTo>
                  <a:lnTo>
                    <a:pt x="7333" y="1282"/>
                  </a:lnTo>
                  <a:lnTo>
                    <a:pt x="7377" y="1251"/>
                  </a:lnTo>
                  <a:lnTo>
                    <a:pt x="7419" y="1220"/>
                  </a:lnTo>
                  <a:lnTo>
                    <a:pt x="7460" y="1187"/>
                  </a:lnTo>
                  <a:lnTo>
                    <a:pt x="7500" y="1155"/>
                  </a:lnTo>
                  <a:lnTo>
                    <a:pt x="7540" y="1123"/>
                  </a:lnTo>
                  <a:lnTo>
                    <a:pt x="7577" y="1091"/>
                  </a:lnTo>
                  <a:lnTo>
                    <a:pt x="7614" y="1058"/>
                  </a:lnTo>
                  <a:lnTo>
                    <a:pt x="7650" y="1025"/>
                  </a:lnTo>
                  <a:lnTo>
                    <a:pt x="7685" y="992"/>
                  </a:lnTo>
                  <a:lnTo>
                    <a:pt x="7718" y="958"/>
                  </a:lnTo>
                  <a:lnTo>
                    <a:pt x="7751" y="925"/>
                  </a:lnTo>
                  <a:lnTo>
                    <a:pt x="7783" y="891"/>
                  </a:lnTo>
                  <a:lnTo>
                    <a:pt x="7813" y="857"/>
                  </a:lnTo>
                  <a:lnTo>
                    <a:pt x="7842" y="822"/>
                  </a:lnTo>
                  <a:lnTo>
                    <a:pt x="7871" y="787"/>
                  </a:lnTo>
                  <a:lnTo>
                    <a:pt x="7897" y="752"/>
                  </a:lnTo>
                  <a:lnTo>
                    <a:pt x="7924" y="716"/>
                  </a:lnTo>
                  <a:lnTo>
                    <a:pt x="7948" y="681"/>
                  </a:lnTo>
                  <a:lnTo>
                    <a:pt x="7972" y="646"/>
                  </a:lnTo>
                  <a:lnTo>
                    <a:pt x="7993" y="610"/>
                  </a:lnTo>
                  <a:lnTo>
                    <a:pt x="8015" y="573"/>
                  </a:lnTo>
                  <a:lnTo>
                    <a:pt x="8034" y="536"/>
                  </a:lnTo>
                  <a:lnTo>
                    <a:pt x="8052" y="499"/>
                  </a:lnTo>
                  <a:lnTo>
                    <a:pt x="8070" y="462"/>
                  </a:lnTo>
                  <a:lnTo>
                    <a:pt x="8086" y="425"/>
                  </a:lnTo>
                  <a:lnTo>
                    <a:pt x="8100" y="387"/>
                  </a:lnTo>
                  <a:lnTo>
                    <a:pt x="8114" y="349"/>
                  </a:lnTo>
                  <a:lnTo>
                    <a:pt x="8126" y="311"/>
                  </a:lnTo>
                  <a:lnTo>
                    <a:pt x="8136" y="273"/>
                  </a:lnTo>
                  <a:lnTo>
                    <a:pt x="8145" y="234"/>
                  </a:lnTo>
                  <a:lnTo>
                    <a:pt x="8154" y="196"/>
                  </a:lnTo>
                  <a:lnTo>
                    <a:pt x="8161" y="157"/>
                  </a:lnTo>
                  <a:lnTo>
                    <a:pt x="8165" y="118"/>
                  </a:lnTo>
                  <a:lnTo>
                    <a:pt x="8169" y="78"/>
                  </a:lnTo>
                  <a:lnTo>
                    <a:pt x="8171" y="39"/>
                  </a:lnTo>
                  <a:lnTo>
                    <a:pt x="8172" y="0"/>
                  </a:lnTo>
                  <a:lnTo>
                    <a:pt x="7975" y="0"/>
                  </a:lnTo>
                  <a:lnTo>
                    <a:pt x="7975" y="32"/>
                  </a:lnTo>
                  <a:lnTo>
                    <a:pt x="7973" y="65"/>
                  </a:lnTo>
                  <a:lnTo>
                    <a:pt x="7970" y="97"/>
                  </a:lnTo>
                  <a:lnTo>
                    <a:pt x="7966" y="129"/>
                  </a:lnTo>
                  <a:lnTo>
                    <a:pt x="7961" y="160"/>
                  </a:lnTo>
                  <a:lnTo>
                    <a:pt x="7953" y="192"/>
                  </a:lnTo>
                  <a:lnTo>
                    <a:pt x="7946" y="224"/>
                  </a:lnTo>
                  <a:lnTo>
                    <a:pt x="7937" y="256"/>
                  </a:lnTo>
                  <a:lnTo>
                    <a:pt x="7928" y="287"/>
                  </a:lnTo>
                  <a:lnTo>
                    <a:pt x="7917" y="318"/>
                  </a:lnTo>
                  <a:lnTo>
                    <a:pt x="7903" y="350"/>
                  </a:lnTo>
                  <a:lnTo>
                    <a:pt x="7890" y="382"/>
                  </a:lnTo>
                  <a:lnTo>
                    <a:pt x="7876" y="414"/>
                  </a:lnTo>
                  <a:lnTo>
                    <a:pt x="7860" y="445"/>
                  </a:lnTo>
                  <a:lnTo>
                    <a:pt x="7843" y="476"/>
                  </a:lnTo>
                  <a:lnTo>
                    <a:pt x="7825" y="508"/>
                  </a:lnTo>
                  <a:lnTo>
                    <a:pt x="7805" y="539"/>
                  </a:lnTo>
                  <a:lnTo>
                    <a:pt x="7785" y="571"/>
                  </a:lnTo>
                  <a:lnTo>
                    <a:pt x="7763" y="602"/>
                  </a:lnTo>
                  <a:lnTo>
                    <a:pt x="7741" y="633"/>
                  </a:lnTo>
                  <a:lnTo>
                    <a:pt x="7716" y="665"/>
                  </a:lnTo>
                  <a:lnTo>
                    <a:pt x="7691" y="696"/>
                  </a:lnTo>
                  <a:lnTo>
                    <a:pt x="7664" y="727"/>
                  </a:lnTo>
                  <a:lnTo>
                    <a:pt x="7638" y="757"/>
                  </a:lnTo>
                  <a:lnTo>
                    <a:pt x="7609" y="788"/>
                  </a:lnTo>
                  <a:lnTo>
                    <a:pt x="7580" y="819"/>
                  </a:lnTo>
                  <a:lnTo>
                    <a:pt x="7548" y="851"/>
                  </a:lnTo>
                  <a:lnTo>
                    <a:pt x="7516" y="880"/>
                  </a:lnTo>
                  <a:lnTo>
                    <a:pt x="7482" y="911"/>
                  </a:lnTo>
                  <a:lnTo>
                    <a:pt x="7449" y="942"/>
                  </a:lnTo>
                  <a:lnTo>
                    <a:pt x="7413" y="972"/>
                  </a:lnTo>
                  <a:lnTo>
                    <a:pt x="7377" y="1001"/>
                  </a:lnTo>
                  <a:lnTo>
                    <a:pt x="7339" y="1032"/>
                  </a:lnTo>
                  <a:lnTo>
                    <a:pt x="7301" y="1062"/>
                  </a:lnTo>
                  <a:lnTo>
                    <a:pt x="7261" y="1092"/>
                  </a:lnTo>
                  <a:lnTo>
                    <a:pt x="7220" y="1121"/>
                  </a:lnTo>
                  <a:lnTo>
                    <a:pt x="7178" y="1150"/>
                  </a:lnTo>
                  <a:lnTo>
                    <a:pt x="7135" y="1180"/>
                  </a:lnTo>
                  <a:lnTo>
                    <a:pt x="7091" y="1209"/>
                  </a:lnTo>
                  <a:lnTo>
                    <a:pt x="7046" y="1237"/>
                  </a:lnTo>
                  <a:lnTo>
                    <a:pt x="7000" y="1266"/>
                  </a:lnTo>
                  <a:lnTo>
                    <a:pt x="6953" y="1295"/>
                  </a:lnTo>
                  <a:lnTo>
                    <a:pt x="6904" y="1323"/>
                  </a:lnTo>
                  <a:lnTo>
                    <a:pt x="6856" y="1351"/>
                  </a:lnTo>
                  <a:lnTo>
                    <a:pt x="6806" y="1379"/>
                  </a:lnTo>
                  <a:lnTo>
                    <a:pt x="6754" y="1407"/>
                  </a:lnTo>
                  <a:lnTo>
                    <a:pt x="6702" y="1434"/>
                  </a:lnTo>
                  <a:lnTo>
                    <a:pt x="6650" y="1462"/>
                  </a:lnTo>
                  <a:lnTo>
                    <a:pt x="6596" y="1489"/>
                  </a:lnTo>
                  <a:lnTo>
                    <a:pt x="6541" y="1515"/>
                  </a:lnTo>
                  <a:lnTo>
                    <a:pt x="6484" y="1542"/>
                  </a:lnTo>
                  <a:lnTo>
                    <a:pt x="6428" y="1569"/>
                  </a:lnTo>
                  <a:lnTo>
                    <a:pt x="6370" y="1595"/>
                  </a:lnTo>
                  <a:lnTo>
                    <a:pt x="6312" y="1621"/>
                  </a:lnTo>
                  <a:lnTo>
                    <a:pt x="6252" y="1646"/>
                  </a:lnTo>
                  <a:lnTo>
                    <a:pt x="6191" y="1672"/>
                  </a:lnTo>
                  <a:lnTo>
                    <a:pt x="6130" y="1697"/>
                  </a:lnTo>
                  <a:lnTo>
                    <a:pt x="6068" y="1721"/>
                  </a:lnTo>
                  <a:lnTo>
                    <a:pt x="6004" y="1747"/>
                  </a:lnTo>
                  <a:lnTo>
                    <a:pt x="5941" y="1772"/>
                  </a:lnTo>
                  <a:lnTo>
                    <a:pt x="5876" y="1795"/>
                  </a:lnTo>
                  <a:lnTo>
                    <a:pt x="5810" y="1820"/>
                  </a:lnTo>
                  <a:lnTo>
                    <a:pt x="5744" y="1843"/>
                  </a:lnTo>
                  <a:lnTo>
                    <a:pt x="5676" y="1866"/>
                  </a:lnTo>
                  <a:lnTo>
                    <a:pt x="5608" y="1890"/>
                  </a:lnTo>
                  <a:lnTo>
                    <a:pt x="5539" y="1912"/>
                  </a:lnTo>
                  <a:lnTo>
                    <a:pt x="5469" y="1936"/>
                  </a:lnTo>
                  <a:lnTo>
                    <a:pt x="5399" y="1957"/>
                  </a:lnTo>
                  <a:lnTo>
                    <a:pt x="5255" y="2001"/>
                  </a:lnTo>
                  <a:lnTo>
                    <a:pt x="5108" y="2043"/>
                  </a:lnTo>
                  <a:lnTo>
                    <a:pt x="4958" y="2085"/>
                  </a:lnTo>
                  <a:lnTo>
                    <a:pt x="4805" y="2125"/>
                  </a:lnTo>
                  <a:lnTo>
                    <a:pt x="4650" y="2164"/>
                  </a:lnTo>
                  <a:lnTo>
                    <a:pt x="4491" y="2202"/>
                  </a:lnTo>
                  <a:lnTo>
                    <a:pt x="4329" y="2238"/>
                  </a:lnTo>
                  <a:lnTo>
                    <a:pt x="4166" y="2274"/>
                  </a:lnTo>
                  <a:lnTo>
                    <a:pt x="3998" y="2308"/>
                  </a:lnTo>
                  <a:lnTo>
                    <a:pt x="3830" y="2341"/>
                  </a:lnTo>
                  <a:lnTo>
                    <a:pt x="3657" y="2372"/>
                  </a:lnTo>
                  <a:lnTo>
                    <a:pt x="3483" y="2401"/>
                  </a:lnTo>
                  <a:lnTo>
                    <a:pt x="3307" y="2429"/>
                  </a:lnTo>
                  <a:lnTo>
                    <a:pt x="3128" y="2457"/>
                  </a:lnTo>
                  <a:lnTo>
                    <a:pt x="2946" y="2482"/>
                  </a:lnTo>
                  <a:lnTo>
                    <a:pt x="2763" y="2506"/>
                  </a:lnTo>
                  <a:lnTo>
                    <a:pt x="2577" y="2528"/>
                  </a:lnTo>
                  <a:lnTo>
                    <a:pt x="2389" y="2549"/>
                  </a:lnTo>
                  <a:lnTo>
                    <a:pt x="2200" y="2568"/>
                  </a:lnTo>
                  <a:lnTo>
                    <a:pt x="2008" y="2586"/>
                  </a:lnTo>
                  <a:lnTo>
                    <a:pt x="1815" y="2602"/>
                  </a:lnTo>
                  <a:lnTo>
                    <a:pt x="1620" y="2617"/>
                  </a:lnTo>
                  <a:lnTo>
                    <a:pt x="1423" y="2630"/>
                  </a:lnTo>
                  <a:lnTo>
                    <a:pt x="1224" y="2641"/>
                  </a:lnTo>
                  <a:lnTo>
                    <a:pt x="1024" y="2652"/>
                  </a:lnTo>
                  <a:lnTo>
                    <a:pt x="822" y="2659"/>
                  </a:lnTo>
                  <a:lnTo>
                    <a:pt x="619" y="2665"/>
                  </a:lnTo>
                  <a:lnTo>
                    <a:pt x="414" y="2670"/>
                  </a:lnTo>
                  <a:lnTo>
                    <a:pt x="207" y="2672"/>
                  </a:lnTo>
                  <a:lnTo>
                    <a:pt x="0" y="2673"/>
                  </a:lnTo>
                  <a:lnTo>
                    <a:pt x="0" y="2673"/>
                  </a:lnTo>
                  <a:lnTo>
                    <a:pt x="0" y="2871"/>
                  </a:lnTo>
                  <a:lnTo>
                    <a:pt x="0" y="2871"/>
                  </a:lnTo>
                  <a:lnTo>
                    <a:pt x="0"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3429000" y="4328280"/>
              <a:ext cx="533160" cy="187920"/>
            </a:xfrm>
            <a:custGeom>
              <a:avLst/>
              <a:gdLst/>
              <a:ahLst/>
              <a:rect l="l" t="t" r="r" b="b"/>
              <a:pathLst>
                <a:path w="8172" h="2871">
                  <a:moveTo>
                    <a:pt x="0" y="0"/>
                  </a:moveTo>
                  <a:lnTo>
                    <a:pt x="0" y="0"/>
                  </a:lnTo>
                  <a:lnTo>
                    <a:pt x="1" y="39"/>
                  </a:lnTo>
                  <a:lnTo>
                    <a:pt x="3" y="78"/>
                  </a:lnTo>
                  <a:lnTo>
                    <a:pt x="7" y="118"/>
                  </a:lnTo>
                  <a:lnTo>
                    <a:pt x="11" y="157"/>
                  </a:lnTo>
                  <a:lnTo>
                    <a:pt x="18" y="196"/>
                  </a:lnTo>
                  <a:lnTo>
                    <a:pt x="27" y="234"/>
                  </a:lnTo>
                  <a:lnTo>
                    <a:pt x="36" y="273"/>
                  </a:lnTo>
                  <a:lnTo>
                    <a:pt x="46" y="311"/>
                  </a:lnTo>
                  <a:lnTo>
                    <a:pt x="58" y="349"/>
                  </a:lnTo>
                  <a:lnTo>
                    <a:pt x="72" y="387"/>
                  </a:lnTo>
                  <a:lnTo>
                    <a:pt x="86" y="425"/>
                  </a:lnTo>
                  <a:lnTo>
                    <a:pt x="102" y="462"/>
                  </a:lnTo>
                  <a:lnTo>
                    <a:pt x="118" y="499"/>
                  </a:lnTo>
                  <a:lnTo>
                    <a:pt x="138" y="536"/>
                  </a:lnTo>
                  <a:lnTo>
                    <a:pt x="157" y="573"/>
                  </a:lnTo>
                  <a:lnTo>
                    <a:pt x="179" y="610"/>
                  </a:lnTo>
                  <a:lnTo>
                    <a:pt x="200" y="646"/>
                  </a:lnTo>
                  <a:lnTo>
                    <a:pt x="224" y="681"/>
                  </a:lnTo>
                  <a:lnTo>
                    <a:pt x="248" y="716"/>
                  </a:lnTo>
                  <a:lnTo>
                    <a:pt x="275" y="752"/>
                  </a:lnTo>
                  <a:lnTo>
                    <a:pt x="301" y="787"/>
                  </a:lnTo>
                  <a:lnTo>
                    <a:pt x="330" y="822"/>
                  </a:lnTo>
                  <a:lnTo>
                    <a:pt x="359" y="857"/>
                  </a:lnTo>
                  <a:lnTo>
                    <a:pt x="389" y="891"/>
                  </a:lnTo>
                  <a:lnTo>
                    <a:pt x="421" y="925"/>
                  </a:lnTo>
                  <a:lnTo>
                    <a:pt x="454" y="958"/>
                  </a:lnTo>
                  <a:lnTo>
                    <a:pt x="486" y="992"/>
                  </a:lnTo>
                  <a:lnTo>
                    <a:pt x="522" y="1025"/>
                  </a:lnTo>
                  <a:lnTo>
                    <a:pt x="558" y="1058"/>
                  </a:lnTo>
                  <a:lnTo>
                    <a:pt x="595" y="1091"/>
                  </a:lnTo>
                  <a:lnTo>
                    <a:pt x="632" y="1123"/>
                  </a:lnTo>
                  <a:lnTo>
                    <a:pt x="672" y="1155"/>
                  </a:lnTo>
                  <a:lnTo>
                    <a:pt x="712" y="1187"/>
                  </a:lnTo>
                  <a:lnTo>
                    <a:pt x="753" y="1220"/>
                  </a:lnTo>
                  <a:lnTo>
                    <a:pt x="795" y="1251"/>
                  </a:lnTo>
                  <a:lnTo>
                    <a:pt x="838" y="1282"/>
                  </a:lnTo>
                  <a:lnTo>
                    <a:pt x="883" y="1313"/>
                  </a:lnTo>
                  <a:lnTo>
                    <a:pt x="928" y="1344"/>
                  </a:lnTo>
                  <a:lnTo>
                    <a:pt x="973" y="1375"/>
                  </a:lnTo>
                  <a:lnTo>
                    <a:pt x="1022" y="1404"/>
                  </a:lnTo>
                  <a:lnTo>
                    <a:pt x="1070" y="1435"/>
                  </a:lnTo>
                  <a:lnTo>
                    <a:pt x="1119" y="1465"/>
                  </a:lnTo>
                  <a:lnTo>
                    <a:pt x="1169" y="1494"/>
                  </a:lnTo>
                  <a:lnTo>
                    <a:pt x="1220" y="1523"/>
                  </a:lnTo>
                  <a:lnTo>
                    <a:pt x="1272" y="1552"/>
                  </a:lnTo>
                  <a:lnTo>
                    <a:pt x="1325" y="1581"/>
                  </a:lnTo>
                  <a:lnTo>
                    <a:pt x="1379" y="1610"/>
                  </a:lnTo>
                  <a:lnTo>
                    <a:pt x="1433" y="1638"/>
                  </a:lnTo>
                  <a:lnTo>
                    <a:pt x="1489" y="1666"/>
                  </a:lnTo>
                  <a:lnTo>
                    <a:pt x="1547" y="1694"/>
                  </a:lnTo>
                  <a:lnTo>
                    <a:pt x="1604" y="1720"/>
                  </a:lnTo>
                  <a:lnTo>
                    <a:pt x="1662" y="1748"/>
                  </a:lnTo>
                  <a:lnTo>
                    <a:pt x="1721" y="1775"/>
                  </a:lnTo>
                  <a:lnTo>
                    <a:pt x="1781" y="1801"/>
                  </a:lnTo>
                  <a:lnTo>
                    <a:pt x="1843" y="1828"/>
                  </a:lnTo>
                  <a:lnTo>
                    <a:pt x="1905" y="1855"/>
                  </a:lnTo>
                  <a:lnTo>
                    <a:pt x="1968" y="1880"/>
                  </a:lnTo>
                  <a:lnTo>
                    <a:pt x="2032" y="1906"/>
                  </a:lnTo>
                  <a:lnTo>
                    <a:pt x="2096" y="1931"/>
                  </a:lnTo>
                  <a:lnTo>
                    <a:pt x="2163" y="1956"/>
                  </a:lnTo>
                  <a:lnTo>
                    <a:pt x="2228" y="1981"/>
                  </a:lnTo>
                  <a:lnTo>
                    <a:pt x="2295" y="2005"/>
                  </a:lnTo>
                  <a:lnTo>
                    <a:pt x="2364" y="2029"/>
                  </a:lnTo>
                  <a:lnTo>
                    <a:pt x="2432" y="2054"/>
                  </a:lnTo>
                  <a:lnTo>
                    <a:pt x="2502" y="2077"/>
                  </a:lnTo>
                  <a:lnTo>
                    <a:pt x="2572" y="2101"/>
                  </a:lnTo>
                  <a:lnTo>
                    <a:pt x="2644" y="2123"/>
                  </a:lnTo>
                  <a:lnTo>
                    <a:pt x="2715" y="2146"/>
                  </a:lnTo>
                  <a:lnTo>
                    <a:pt x="2788" y="2168"/>
                  </a:lnTo>
                  <a:lnTo>
                    <a:pt x="2861" y="2191"/>
                  </a:lnTo>
                  <a:lnTo>
                    <a:pt x="2936" y="2213"/>
                  </a:lnTo>
                  <a:lnTo>
                    <a:pt x="3011" y="2234"/>
                  </a:lnTo>
                  <a:lnTo>
                    <a:pt x="3163" y="2276"/>
                  </a:lnTo>
                  <a:lnTo>
                    <a:pt x="3318" y="2317"/>
                  </a:lnTo>
                  <a:lnTo>
                    <a:pt x="3476" y="2356"/>
                  </a:lnTo>
                  <a:lnTo>
                    <a:pt x="3638" y="2395"/>
                  </a:lnTo>
                  <a:lnTo>
                    <a:pt x="3801" y="2432"/>
                  </a:lnTo>
                  <a:lnTo>
                    <a:pt x="3966" y="2467"/>
                  </a:lnTo>
                  <a:lnTo>
                    <a:pt x="4135" y="2502"/>
                  </a:lnTo>
                  <a:lnTo>
                    <a:pt x="4307" y="2535"/>
                  </a:lnTo>
                  <a:lnTo>
                    <a:pt x="4480" y="2566"/>
                  </a:lnTo>
                  <a:lnTo>
                    <a:pt x="4657" y="2596"/>
                  </a:lnTo>
                  <a:lnTo>
                    <a:pt x="4836" y="2625"/>
                  </a:lnTo>
                  <a:lnTo>
                    <a:pt x="5017" y="2652"/>
                  </a:lnTo>
                  <a:lnTo>
                    <a:pt x="5199" y="2677"/>
                  </a:lnTo>
                  <a:lnTo>
                    <a:pt x="5385" y="2702"/>
                  </a:lnTo>
                  <a:lnTo>
                    <a:pt x="5572" y="2724"/>
                  </a:lnTo>
                  <a:lnTo>
                    <a:pt x="5761" y="2746"/>
                  </a:lnTo>
                  <a:lnTo>
                    <a:pt x="5953" y="2765"/>
                  </a:lnTo>
                  <a:lnTo>
                    <a:pt x="6146" y="2784"/>
                  </a:lnTo>
                  <a:lnTo>
                    <a:pt x="6341" y="2799"/>
                  </a:lnTo>
                  <a:lnTo>
                    <a:pt x="6539" y="2815"/>
                  </a:lnTo>
                  <a:lnTo>
                    <a:pt x="6738" y="2827"/>
                  </a:lnTo>
                  <a:lnTo>
                    <a:pt x="6938" y="2838"/>
                  </a:lnTo>
                  <a:lnTo>
                    <a:pt x="7140" y="2848"/>
                  </a:lnTo>
                  <a:lnTo>
                    <a:pt x="7344" y="2857"/>
                  </a:lnTo>
                  <a:lnTo>
                    <a:pt x="7549" y="2863"/>
                  </a:lnTo>
                  <a:lnTo>
                    <a:pt x="7755" y="2867"/>
                  </a:lnTo>
                  <a:lnTo>
                    <a:pt x="7963" y="2870"/>
                  </a:lnTo>
                  <a:lnTo>
                    <a:pt x="8172" y="2871"/>
                  </a:lnTo>
                  <a:lnTo>
                    <a:pt x="8172" y="2673"/>
                  </a:lnTo>
                  <a:lnTo>
                    <a:pt x="7965" y="2672"/>
                  </a:lnTo>
                  <a:lnTo>
                    <a:pt x="7758" y="2670"/>
                  </a:lnTo>
                  <a:lnTo>
                    <a:pt x="7553" y="2665"/>
                  </a:lnTo>
                  <a:lnTo>
                    <a:pt x="7350" y="2659"/>
                  </a:lnTo>
                  <a:lnTo>
                    <a:pt x="7148" y="2652"/>
                  </a:lnTo>
                  <a:lnTo>
                    <a:pt x="6948" y="2641"/>
                  </a:lnTo>
                  <a:lnTo>
                    <a:pt x="6749" y="2630"/>
                  </a:lnTo>
                  <a:lnTo>
                    <a:pt x="6552" y="2617"/>
                  </a:lnTo>
                  <a:lnTo>
                    <a:pt x="6357" y="2602"/>
                  </a:lnTo>
                  <a:lnTo>
                    <a:pt x="6164" y="2586"/>
                  </a:lnTo>
                  <a:lnTo>
                    <a:pt x="5972" y="2568"/>
                  </a:lnTo>
                  <a:lnTo>
                    <a:pt x="5783" y="2549"/>
                  </a:lnTo>
                  <a:lnTo>
                    <a:pt x="5595" y="2528"/>
                  </a:lnTo>
                  <a:lnTo>
                    <a:pt x="5409" y="2506"/>
                  </a:lnTo>
                  <a:lnTo>
                    <a:pt x="5226" y="2482"/>
                  </a:lnTo>
                  <a:lnTo>
                    <a:pt x="5044" y="2457"/>
                  </a:lnTo>
                  <a:lnTo>
                    <a:pt x="4865" y="2429"/>
                  </a:lnTo>
                  <a:lnTo>
                    <a:pt x="4689" y="2401"/>
                  </a:lnTo>
                  <a:lnTo>
                    <a:pt x="4514" y="2372"/>
                  </a:lnTo>
                  <a:lnTo>
                    <a:pt x="4342" y="2341"/>
                  </a:lnTo>
                  <a:lnTo>
                    <a:pt x="4173" y="2308"/>
                  </a:lnTo>
                  <a:lnTo>
                    <a:pt x="4006" y="2274"/>
                  </a:lnTo>
                  <a:lnTo>
                    <a:pt x="3842" y="2238"/>
                  </a:lnTo>
                  <a:lnTo>
                    <a:pt x="3681" y="2202"/>
                  </a:lnTo>
                  <a:lnTo>
                    <a:pt x="3522" y="2164"/>
                  </a:lnTo>
                  <a:lnTo>
                    <a:pt x="3367" y="2125"/>
                  </a:lnTo>
                  <a:lnTo>
                    <a:pt x="3214" y="2085"/>
                  </a:lnTo>
                  <a:lnTo>
                    <a:pt x="3063" y="2043"/>
                  </a:lnTo>
                  <a:lnTo>
                    <a:pt x="2990" y="2023"/>
                  </a:lnTo>
                  <a:lnTo>
                    <a:pt x="2917" y="2001"/>
                  </a:lnTo>
                  <a:lnTo>
                    <a:pt x="2845" y="1980"/>
                  </a:lnTo>
                  <a:lnTo>
                    <a:pt x="2773" y="1957"/>
                  </a:lnTo>
                  <a:lnTo>
                    <a:pt x="2703" y="1936"/>
                  </a:lnTo>
                  <a:lnTo>
                    <a:pt x="2633" y="1912"/>
                  </a:lnTo>
                  <a:lnTo>
                    <a:pt x="2564" y="1890"/>
                  </a:lnTo>
                  <a:lnTo>
                    <a:pt x="2496" y="1866"/>
                  </a:lnTo>
                  <a:lnTo>
                    <a:pt x="2428" y="1843"/>
                  </a:lnTo>
                  <a:lnTo>
                    <a:pt x="2362" y="1820"/>
                  </a:lnTo>
                  <a:lnTo>
                    <a:pt x="2296" y="1795"/>
                  </a:lnTo>
                  <a:lnTo>
                    <a:pt x="2231" y="1772"/>
                  </a:lnTo>
                  <a:lnTo>
                    <a:pt x="2168" y="1747"/>
                  </a:lnTo>
                  <a:lnTo>
                    <a:pt x="2104" y="1721"/>
                  </a:lnTo>
                  <a:lnTo>
                    <a:pt x="2042" y="1697"/>
                  </a:lnTo>
                  <a:lnTo>
                    <a:pt x="1981" y="1672"/>
                  </a:lnTo>
                  <a:lnTo>
                    <a:pt x="1920" y="1646"/>
                  </a:lnTo>
                  <a:lnTo>
                    <a:pt x="1860" y="1621"/>
                  </a:lnTo>
                  <a:lnTo>
                    <a:pt x="1802" y="1595"/>
                  </a:lnTo>
                  <a:lnTo>
                    <a:pt x="1744" y="1569"/>
                  </a:lnTo>
                  <a:lnTo>
                    <a:pt x="1686" y="1542"/>
                  </a:lnTo>
                  <a:lnTo>
                    <a:pt x="1631" y="1515"/>
                  </a:lnTo>
                  <a:lnTo>
                    <a:pt x="1576" y="1489"/>
                  </a:lnTo>
                  <a:lnTo>
                    <a:pt x="1522" y="1462"/>
                  </a:lnTo>
                  <a:lnTo>
                    <a:pt x="1469" y="1434"/>
                  </a:lnTo>
                  <a:lnTo>
                    <a:pt x="1417" y="1407"/>
                  </a:lnTo>
                  <a:lnTo>
                    <a:pt x="1367" y="1379"/>
                  </a:lnTo>
                  <a:lnTo>
                    <a:pt x="1316" y="1351"/>
                  </a:lnTo>
                  <a:lnTo>
                    <a:pt x="1267" y="1323"/>
                  </a:lnTo>
                  <a:lnTo>
                    <a:pt x="1219" y="1295"/>
                  </a:lnTo>
                  <a:lnTo>
                    <a:pt x="1172" y="1266"/>
                  </a:lnTo>
                  <a:lnTo>
                    <a:pt x="1126" y="1237"/>
                  </a:lnTo>
                  <a:lnTo>
                    <a:pt x="1081" y="1209"/>
                  </a:lnTo>
                  <a:lnTo>
                    <a:pt x="1037" y="1180"/>
                  </a:lnTo>
                  <a:lnTo>
                    <a:pt x="994" y="1150"/>
                  </a:lnTo>
                  <a:lnTo>
                    <a:pt x="952" y="1121"/>
                  </a:lnTo>
                  <a:lnTo>
                    <a:pt x="911" y="1092"/>
                  </a:lnTo>
                  <a:lnTo>
                    <a:pt x="871" y="1062"/>
                  </a:lnTo>
                  <a:lnTo>
                    <a:pt x="833" y="1032"/>
                  </a:lnTo>
                  <a:lnTo>
                    <a:pt x="795" y="1001"/>
                  </a:lnTo>
                  <a:lnTo>
                    <a:pt x="759" y="972"/>
                  </a:lnTo>
                  <a:lnTo>
                    <a:pt x="723" y="942"/>
                  </a:lnTo>
                  <a:lnTo>
                    <a:pt x="690" y="911"/>
                  </a:lnTo>
                  <a:lnTo>
                    <a:pt x="656" y="880"/>
                  </a:lnTo>
                  <a:lnTo>
                    <a:pt x="624" y="851"/>
                  </a:lnTo>
                  <a:lnTo>
                    <a:pt x="592" y="819"/>
                  </a:lnTo>
                  <a:lnTo>
                    <a:pt x="563" y="788"/>
                  </a:lnTo>
                  <a:lnTo>
                    <a:pt x="534" y="757"/>
                  </a:lnTo>
                  <a:lnTo>
                    <a:pt x="507" y="727"/>
                  </a:lnTo>
                  <a:lnTo>
                    <a:pt x="480" y="696"/>
                  </a:lnTo>
                  <a:lnTo>
                    <a:pt x="456" y="665"/>
                  </a:lnTo>
                  <a:lnTo>
                    <a:pt x="431" y="633"/>
                  </a:lnTo>
                  <a:lnTo>
                    <a:pt x="409" y="602"/>
                  </a:lnTo>
                  <a:lnTo>
                    <a:pt x="387" y="571"/>
                  </a:lnTo>
                  <a:lnTo>
                    <a:pt x="367" y="539"/>
                  </a:lnTo>
                  <a:lnTo>
                    <a:pt x="347" y="508"/>
                  </a:lnTo>
                  <a:lnTo>
                    <a:pt x="329" y="476"/>
                  </a:lnTo>
                  <a:lnTo>
                    <a:pt x="312" y="445"/>
                  </a:lnTo>
                  <a:lnTo>
                    <a:pt x="296" y="414"/>
                  </a:lnTo>
                  <a:lnTo>
                    <a:pt x="281" y="382"/>
                  </a:lnTo>
                  <a:lnTo>
                    <a:pt x="268" y="350"/>
                  </a:lnTo>
                  <a:lnTo>
                    <a:pt x="255" y="318"/>
                  </a:lnTo>
                  <a:lnTo>
                    <a:pt x="244" y="287"/>
                  </a:lnTo>
                  <a:lnTo>
                    <a:pt x="235" y="256"/>
                  </a:lnTo>
                  <a:lnTo>
                    <a:pt x="226" y="224"/>
                  </a:lnTo>
                  <a:lnTo>
                    <a:pt x="218" y="192"/>
                  </a:lnTo>
                  <a:lnTo>
                    <a:pt x="211" y="160"/>
                  </a:lnTo>
                  <a:lnTo>
                    <a:pt x="206" y="129"/>
                  </a:lnTo>
                  <a:lnTo>
                    <a:pt x="202" y="97"/>
                  </a:lnTo>
                  <a:lnTo>
                    <a:pt x="199" y="65"/>
                  </a:lnTo>
                  <a:lnTo>
                    <a:pt x="197" y="32"/>
                  </a:lnTo>
                  <a:lnTo>
                    <a:pt x="197" y="0"/>
                  </a:lnTo>
                  <a:lnTo>
                    <a:pt x="197" y="0"/>
                  </a:lnTo>
                  <a:lnTo>
                    <a:pt x="0" y="0"/>
                  </a:lnTo>
                  <a:lnTo>
                    <a:pt x="0" y="0"/>
                  </a:lnTo>
                  <a:lnTo>
                    <a:pt x="0"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3429000" y="4140000"/>
              <a:ext cx="533160" cy="187920"/>
            </a:xfrm>
            <a:custGeom>
              <a:avLst/>
              <a:gdLst/>
              <a:ahLst/>
              <a:rect l="l" t="t" r="r" b="b"/>
              <a:pathLst>
                <a:path w="8172" h="2871">
                  <a:moveTo>
                    <a:pt x="8172" y="0"/>
                  </a:moveTo>
                  <a:lnTo>
                    <a:pt x="8172" y="0"/>
                  </a:lnTo>
                  <a:lnTo>
                    <a:pt x="7963" y="1"/>
                  </a:lnTo>
                  <a:lnTo>
                    <a:pt x="7755" y="4"/>
                  </a:lnTo>
                  <a:lnTo>
                    <a:pt x="7549" y="9"/>
                  </a:lnTo>
                  <a:lnTo>
                    <a:pt x="7344" y="15"/>
                  </a:lnTo>
                  <a:lnTo>
                    <a:pt x="7140" y="22"/>
                  </a:lnTo>
                  <a:lnTo>
                    <a:pt x="6938" y="33"/>
                  </a:lnTo>
                  <a:lnTo>
                    <a:pt x="6738" y="44"/>
                  </a:lnTo>
                  <a:lnTo>
                    <a:pt x="6539" y="57"/>
                  </a:lnTo>
                  <a:lnTo>
                    <a:pt x="6341" y="72"/>
                  </a:lnTo>
                  <a:lnTo>
                    <a:pt x="6146" y="88"/>
                  </a:lnTo>
                  <a:lnTo>
                    <a:pt x="5953" y="107"/>
                  </a:lnTo>
                  <a:lnTo>
                    <a:pt x="5761" y="126"/>
                  </a:lnTo>
                  <a:lnTo>
                    <a:pt x="5572" y="147"/>
                  </a:lnTo>
                  <a:lnTo>
                    <a:pt x="5385" y="169"/>
                  </a:lnTo>
                  <a:lnTo>
                    <a:pt x="5199" y="194"/>
                  </a:lnTo>
                  <a:lnTo>
                    <a:pt x="5017" y="219"/>
                  </a:lnTo>
                  <a:lnTo>
                    <a:pt x="4836" y="247"/>
                  </a:lnTo>
                  <a:lnTo>
                    <a:pt x="4657" y="275"/>
                  </a:lnTo>
                  <a:lnTo>
                    <a:pt x="4480" y="306"/>
                  </a:lnTo>
                  <a:lnTo>
                    <a:pt x="4307" y="337"/>
                  </a:lnTo>
                  <a:lnTo>
                    <a:pt x="4135" y="369"/>
                  </a:lnTo>
                  <a:lnTo>
                    <a:pt x="3966" y="404"/>
                  </a:lnTo>
                  <a:lnTo>
                    <a:pt x="3801" y="440"/>
                  </a:lnTo>
                  <a:lnTo>
                    <a:pt x="3638" y="477"/>
                  </a:lnTo>
                  <a:lnTo>
                    <a:pt x="3476" y="515"/>
                  </a:lnTo>
                  <a:lnTo>
                    <a:pt x="3318" y="555"/>
                  </a:lnTo>
                  <a:lnTo>
                    <a:pt x="3163" y="595"/>
                  </a:lnTo>
                  <a:lnTo>
                    <a:pt x="3011" y="637"/>
                  </a:lnTo>
                  <a:lnTo>
                    <a:pt x="2861" y="681"/>
                  </a:lnTo>
                  <a:lnTo>
                    <a:pt x="2715" y="725"/>
                  </a:lnTo>
                  <a:lnTo>
                    <a:pt x="2572" y="771"/>
                  </a:lnTo>
                  <a:lnTo>
                    <a:pt x="2433" y="817"/>
                  </a:lnTo>
                  <a:lnTo>
                    <a:pt x="2364" y="842"/>
                  </a:lnTo>
                  <a:lnTo>
                    <a:pt x="2295" y="867"/>
                  </a:lnTo>
                  <a:lnTo>
                    <a:pt x="2228" y="890"/>
                  </a:lnTo>
                  <a:lnTo>
                    <a:pt x="2163" y="915"/>
                  </a:lnTo>
                  <a:lnTo>
                    <a:pt x="2096" y="940"/>
                  </a:lnTo>
                  <a:lnTo>
                    <a:pt x="2032" y="965"/>
                  </a:lnTo>
                  <a:lnTo>
                    <a:pt x="1968" y="991"/>
                  </a:lnTo>
                  <a:lnTo>
                    <a:pt x="1905" y="1017"/>
                  </a:lnTo>
                  <a:lnTo>
                    <a:pt x="1843" y="1043"/>
                  </a:lnTo>
                  <a:lnTo>
                    <a:pt x="1781" y="1070"/>
                  </a:lnTo>
                  <a:lnTo>
                    <a:pt x="1721" y="1096"/>
                  </a:lnTo>
                  <a:lnTo>
                    <a:pt x="1662" y="1123"/>
                  </a:lnTo>
                  <a:lnTo>
                    <a:pt x="1604" y="1151"/>
                  </a:lnTo>
                  <a:lnTo>
                    <a:pt x="1547" y="1178"/>
                  </a:lnTo>
                  <a:lnTo>
                    <a:pt x="1489" y="1206"/>
                  </a:lnTo>
                  <a:lnTo>
                    <a:pt x="1433" y="1234"/>
                  </a:lnTo>
                  <a:lnTo>
                    <a:pt x="1379" y="1261"/>
                  </a:lnTo>
                  <a:lnTo>
                    <a:pt x="1325" y="1290"/>
                  </a:lnTo>
                  <a:lnTo>
                    <a:pt x="1272" y="1319"/>
                  </a:lnTo>
                  <a:lnTo>
                    <a:pt x="1220" y="1348"/>
                  </a:lnTo>
                  <a:lnTo>
                    <a:pt x="1169" y="1377"/>
                  </a:lnTo>
                  <a:lnTo>
                    <a:pt x="1119" y="1407"/>
                  </a:lnTo>
                  <a:lnTo>
                    <a:pt x="1070" y="1437"/>
                  </a:lnTo>
                  <a:lnTo>
                    <a:pt x="1022" y="1466"/>
                  </a:lnTo>
                  <a:lnTo>
                    <a:pt x="973" y="1497"/>
                  </a:lnTo>
                  <a:lnTo>
                    <a:pt x="928" y="1528"/>
                  </a:lnTo>
                  <a:lnTo>
                    <a:pt x="883" y="1559"/>
                  </a:lnTo>
                  <a:lnTo>
                    <a:pt x="838" y="1590"/>
                  </a:lnTo>
                  <a:lnTo>
                    <a:pt x="795" y="1620"/>
                  </a:lnTo>
                  <a:lnTo>
                    <a:pt x="753" y="1652"/>
                  </a:lnTo>
                  <a:lnTo>
                    <a:pt x="712" y="1684"/>
                  </a:lnTo>
                  <a:lnTo>
                    <a:pt x="672" y="1716"/>
                  </a:lnTo>
                  <a:lnTo>
                    <a:pt x="632" y="1747"/>
                  </a:lnTo>
                  <a:lnTo>
                    <a:pt x="595" y="1780"/>
                  </a:lnTo>
                  <a:lnTo>
                    <a:pt x="558" y="1813"/>
                  </a:lnTo>
                  <a:lnTo>
                    <a:pt x="522" y="1846"/>
                  </a:lnTo>
                  <a:lnTo>
                    <a:pt x="486" y="1880"/>
                  </a:lnTo>
                  <a:lnTo>
                    <a:pt x="454" y="1913"/>
                  </a:lnTo>
                  <a:lnTo>
                    <a:pt x="421" y="1946"/>
                  </a:lnTo>
                  <a:lnTo>
                    <a:pt x="389" y="1980"/>
                  </a:lnTo>
                  <a:lnTo>
                    <a:pt x="359" y="2015"/>
                  </a:lnTo>
                  <a:lnTo>
                    <a:pt x="330" y="2050"/>
                  </a:lnTo>
                  <a:lnTo>
                    <a:pt x="301" y="2085"/>
                  </a:lnTo>
                  <a:lnTo>
                    <a:pt x="275" y="2119"/>
                  </a:lnTo>
                  <a:lnTo>
                    <a:pt x="248" y="2155"/>
                  </a:lnTo>
                  <a:lnTo>
                    <a:pt x="224" y="2191"/>
                  </a:lnTo>
                  <a:lnTo>
                    <a:pt x="200" y="2226"/>
                  </a:lnTo>
                  <a:lnTo>
                    <a:pt x="179" y="2262"/>
                  </a:lnTo>
                  <a:lnTo>
                    <a:pt x="157" y="2298"/>
                  </a:lnTo>
                  <a:lnTo>
                    <a:pt x="138" y="2335"/>
                  </a:lnTo>
                  <a:lnTo>
                    <a:pt x="118" y="2372"/>
                  </a:lnTo>
                  <a:lnTo>
                    <a:pt x="102" y="2409"/>
                  </a:lnTo>
                  <a:lnTo>
                    <a:pt x="86" y="2446"/>
                  </a:lnTo>
                  <a:lnTo>
                    <a:pt x="72" y="2484"/>
                  </a:lnTo>
                  <a:lnTo>
                    <a:pt x="58" y="2522"/>
                  </a:lnTo>
                  <a:lnTo>
                    <a:pt x="46" y="2560"/>
                  </a:lnTo>
                  <a:lnTo>
                    <a:pt x="36" y="2598"/>
                  </a:lnTo>
                  <a:lnTo>
                    <a:pt x="27" y="2637"/>
                  </a:lnTo>
                  <a:lnTo>
                    <a:pt x="18" y="2676"/>
                  </a:lnTo>
                  <a:lnTo>
                    <a:pt x="11" y="2715"/>
                  </a:lnTo>
                  <a:lnTo>
                    <a:pt x="7" y="2754"/>
                  </a:lnTo>
                  <a:lnTo>
                    <a:pt x="3" y="2793"/>
                  </a:lnTo>
                  <a:lnTo>
                    <a:pt x="1" y="2831"/>
                  </a:lnTo>
                  <a:lnTo>
                    <a:pt x="0" y="2871"/>
                  </a:lnTo>
                  <a:lnTo>
                    <a:pt x="197" y="2871"/>
                  </a:lnTo>
                  <a:lnTo>
                    <a:pt x="197" y="2839"/>
                  </a:lnTo>
                  <a:lnTo>
                    <a:pt x="199" y="2807"/>
                  </a:lnTo>
                  <a:lnTo>
                    <a:pt x="202" y="2775"/>
                  </a:lnTo>
                  <a:lnTo>
                    <a:pt x="206" y="2743"/>
                  </a:lnTo>
                  <a:lnTo>
                    <a:pt x="211" y="2711"/>
                  </a:lnTo>
                  <a:lnTo>
                    <a:pt x="218" y="2680"/>
                  </a:lnTo>
                  <a:lnTo>
                    <a:pt x="226" y="2648"/>
                  </a:lnTo>
                  <a:lnTo>
                    <a:pt x="235" y="2616"/>
                  </a:lnTo>
                  <a:lnTo>
                    <a:pt x="244" y="2584"/>
                  </a:lnTo>
                  <a:lnTo>
                    <a:pt x="255" y="2553"/>
                  </a:lnTo>
                  <a:lnTo>
                    <a:pt x="268" y="2521"/>
                  </a:lnTo>
                  <a:lnTo>
                    <a:pt x="281" y="2489"/>
                  </a:lnTo>
                  <a:lnTo>
                    <a:pt x="296" y="2458"/>
                  </a:lnTo>
                  <a:lnTo>
                    <a:pt x="312" y="2426"/>
                  </a:lnTo>
                  <a:lnTo>
                    <a:pt x="329" y="2395"/>
                  </a:lnTo>
                  <a:lnTo>
                    <a:pt x="347" y="2364"/>
                  </a:lnTo>
                  <a:lnTo>
                    <a:pt x="367" y="2332"/>
                  </a:lnTo>
                  <a:lnTo>
                    <a:pt x="387" y="2300"/>
                  </a:lnTo>
                  <a:lnTo>
                    <a:pt x="409" y="2269"/>
                  </a:lnTo>
                  <a:lnTo>
                    <a:pt x="431" y="2239"/>
                  </a:lnTo>
                  <a:lnTo>
                    <a:pt x="456" y="2207"/>
                  </a:lnTo>
                  <a:lnTo>
                    <a:pt x="480" y="2175"/>
                  </a:lnTo>
                  <a:lnTo>
                    <a:pt x="507" y="2144"/>
                  </a:lnTo>
                  <a:lnTo>
                    <a:pt x="534" y="2114"/>
                  </a:lnTo>
                  <a:lnTo>
                    <a:pt x="563" y="2083"/>
                  </a:lnTo>
                  <a:lnTo>
                    <a:pt x="592" y="2052"/>
                  </a:lnTo>
                  <a:lnTo>
                    <a:pt x="624" y="2021"/>
                  </a:lnTo>
                  <a:lnTo>
                    <a:pt x="656" y="1991"/>
                  </a:lnTo>
                  <a:lnTo>
                    <a:pt x="690" y="1960"/>
                  </a:lnTo>
                  <a:lnTo>
                    <a:pt x="723" y="1930"/>
                  </a:lnTo>
                  <a:lnTo>
                    <a:pt x="759" y="1899"/>
                  </a:lnTo>
                  <a:lnTo>
                    <a:pt x="795" y="1870"/>
                  </a:lnTo>
                  <a:lnTo>
                    <a:pt x="833" y="1839"/>
                  </a:lnTo>
                  <a:lnTo>
                    <a:pt x="871" y="1810"/>
                  </a:lnTo>
                  <a:lnTo>
                    <a:pt x="911" y="1780"/>
                  </a:lnTo>
                  <a:lnTo>
                    <a:pt x="952" y="1751"/>
                  </a:lnTo>
                  <a:lnTo>
                    <a:pt x="994" y="1721"/>
                  </a:lnTo>
                  <a:lnTo>
                    <a:pt x="1037" y="1691"/>
                  </a:lnTo>
                  <a:lnTo>
                    <a:pt x="1081" y="1662"/>
                  </a:lnTo>
                  <a:lnTo>
                    <a:pt x="1126" y="1634"/>
                  </a:lnTo>
                  <a:lnTo>
                    <a:pt x="1172" y="1605"/>
                  </a:lnTo>
                  <a:lnTo>
                    <a:pt x="1219" y="1577"/>
                  </a:lnTo>
                  <a:lnTo>
                    <a:pt x="1267" y="1549"/>
                  </a:lnTo>
                  <a:lnTo>
                    <a:pt x="1316" y="1521"/>
                  </a:lnTo>
                  <a:lnTo>
                    <a:pt x="1367" y="1492"/>
                  </a:lnTo>
                  <a:lnTo>
                    <a:pt x="1417" y="1464"/>
                  </a:lnTo>
                  <a:lnTo>
                    <a:pt x="1470" y="1438"/>
                  </a:lnTo>
                  <a:lnTo>
                    <a:pt x="1522" y="1410"/>
                  </a:lnTo>
                  <a:lnTo>
                    <a:pt x="1576" y="1382"/>
                  </a:lnTo>
                  <a:lnTo>
                    <a:pt x="1631" y="1356"/>
                  </a:lnTo>
                  <a:lnTo>
                    <a:pt x="1686" y="1329"/>
                  </a:lnTo>
                  <a:lnTo>
                    <a:pt x="1744" y="1302"/>
                  </a:lnTo>
                  <a:lnTo>
                    <a:pt x="1802" y="1277"/>
                  </a:lnTo>
                  <a:lnTo>
                    <a:pt x="1860" y="1251"/>
                  </a:lnTo>
                  <a:lnTo>
                    <a:pt x="1920" y="1225"/>
                  </a:lnTo>
                  <a:lnTo>
                    <a:pt x="1981" y="1200"/>
                  </a:lnTo>
                  <a:lnTo>
                    <a:pt x="2042" y="1174"/>
                  </a:lnTo>
                  <a:lnTo>
                    <a:pt x="2104" y="1150"/>
                  </a:lnTo>
                  <a:lnTo>
                    <a:pt x="2168" y="1125"/>
                  </a:lnTo>
                  <a:lnTo>
                    <a:pt x="2231" y="1100"/>
                  </a:lnTo>
                  <a:lnTo>
                    <a:pt x="2296" y="1076"/>
                  </a:lnTo>
                  <a:lnTo>
                    <a:pt x="2362" y="1052"/>
                  </a:lnTo>
                  <a:lnTo>
                    <a:pt x="2428" y="1029"/>
                  </a:lnTo>
                  <a:lnTo>
                    <a:pt x="2496" y="1005"/>
                  </a:lnTo>
                  <a:lnTo>
                    <a:pt x="2633" y="959"/>
                  </a:lnTo>
                  <a:lnTo>
                    <a:pt x="2773" y="914"/>
                  </a:lnTo>
                  <a:lnTo>
                    <a:pt x="2917" y="871"/>
                  </a:lnTo>
                  <a:lnTo>
                    <a:pt x="3065" y="828"/>
                  </a:lnTo>
                  <a:lnTo>
                    <a:pt x="3214" y="787"/>
                  </a:lnTo>
                  <a:lnTo>
                    <a:pt x="3367" y="747"/>
                  </a:lnTo>
                  <a:lnTo>
                    <a:pt x="3522" y="707"/>
                  </a:lnTo>
                  <a:lnTo>
                    <a:pt x="3681" y="670"/>
                  </a:lnTo>
                  <a:lnTo>
                    <a:pt x="3842" y="633"/>
                  </a:lnTo>
                  <a:lnTo>
                    <a:pt x="4006" y="598"/>
                  </a:lnTo>
                  <a:lnTo>
                    <a:pt x="4173" y="564"/>
                  </a:lnTo>
                  <a:lnTo>
                    <a:pt x="4342" y="531"/>
                  </a:lnTo>
                  <a:lnTo>
                    <a:pt x="4514" y="500"/>
                  </a:lnTo>
                  <a:lnTo>
                    <a:pt x="4689" y="470"/>
                  </a:lnTo>
                  <a:lnTo>
                    <a:pt x="4865" y="442"/>
                  </a:lnTo>
                  <a:lnTo>
                    <a:pt x="5044" y="415"/>
                  </a:lnTo>
                  <a:lnTo>
                    <a:pt x="5226" y="390"/>
                  </a:lnTo>
                  <a:lnTo>
                    <a:pt x="5409" y="366"/>
                  </a:lnTo>
                  <a:lnTo>
                    <a:pt x="5595" y="343"/>
                  </a:lnTo>
                  <a:lnTo>
                    <a:pt x="5783" y="322"/>
                  </a:lnTo>
                  <a:lnTo>
                    <a:pt x="5972" y="302"/>
                  </a:lnTo>
                  <a:lnTo>
                    <a:pt x="6164" y="285"/>
                  </a:lnTo>
                  <a:lnTo>
                    <a:pt x="6357" y="269"/>
                  </a:lnTo>
                  <a:lnTo>
                    <a:pt x="6552" y="254"/>
                  </a:lnTo>
                  <a:lnTo>
                    <a:pt x="6749" y="241"/>
                  </a:lnTo>
                  <a:lnTo>
                    <a:pt x="6948" y="230"/>
                  </a:lnTo>
                  <a:lnTo>
                    <a:pt x="7148" y="220"/>
                  </a:lnTo>
                  <a:lnTo>
                    <a:pt x="7350" y="212"/>
                  </a:lnTo>
                  <a:lnTo>
                    <a:pt x="7553" y="206"/>
                  </a:lnTo>
                  <a:lnTo>
                    <a:pt x="7758" y="201"/>
                  </a:lnTo>
                  <a:lnTo>
                    <a:pt x="7965" y="199"/>
                  </a:lnTo>
                  <a:lnTo>
                    <a:pt x="8172" y="198"/>
                  </a:lnTo>
                  <a:lnTo>
                    <a:pt x="8172" y="198"/>
                  </a:lnTo>
                  <a:lnTo>
                    <a:pt x="8172" y="0"/>
                  </a:lnTo>
                  <a:lnTo>
                    <a:pt x="8172" y="0"/>
                  </a:lnTo>
                  <a:lnTo>
                    <a:pt x="8172"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3962160" y="4140000"/>
              <a:ext cx="533160" cy="187920"/>
            </a:xfrm>
            <a:custGeom>
              <a:avLst/>
              <a:gdLst/>
              <a:ahLst/>
              <a:rect l="l" t="t" r="r" b="b"/>
              <a:pathLst>
                <a:path w="8172" h="2871">
                  <a:moveTo>
                    <a:pt x="8172" y="2871"/>
                  </a:moveTo>
                  <a:lnTo>
                    <a:pt x="8172" y="2871"/>
                  </a:lnTo>
                  <a:lnTo>
                    <a:pt x="8171" y="2831"/>
                  </a:lnTo>
                  <a:lnTo>
                    <a:pt x="8169" y="2793"/>
                  </a:lnTo>
                  <a:lnTo>
                    <a:pt x="8165" y="2754"/>
                  </a:lnTo>
                  <a:lnTo>
                    <a:pt x="8161" y="2715"/>
                  </a:lnTo>
                  <a:lnTo>
                    <a:pt x="8154" y="2676"/>
                  </a:lnTo>
                  <a:lnTo>
                    <a:pt x="8145" y="2637"/>
                  </a:lnTo>
                  <a:lnTo>
                    <a:pt x="8136" y="2598"/>
                  </a:lnTo>
                  <a:lnTo>
                    <a:pt x="8126" y="2560"/>
                  </a:lnTo>
                  <a:lnTo>
                    <a:pt x="8114" y="2522"/>
                  </a:lnTo>
                  <a:lnTo>
                    <a:pt x="8100" y="2484"/>
                  </a:lnTo>
                  <a:lnTo>
                    <a:pt x="8086" y="2447"/>
                  </a:lnTo>
                  <a:lnTo>
                    <a:pt x="8070" y="2409"/>
                  </a:lnTo>
                  <a:lnTo>
                    <a:pt x="8052" y="2372"/>
                  </a:lnTo>
                  <a:lnTo>
                    <a:pt x="8034" y="2335"/>
                  </a:lnTo>
                  <a:lnTo>
                    <a:pt x="8015" y="2298"/>
                  </a:lnTo>
                  <a:lnTo>
                    <a:pt x="7993" y="2262"/>
                  </a:lnTo>
                  <a:lnTo>
                    <a:pt x="7972" y="2226"/>
                  </a:lnTo>
                  <a:lnTo>
                    <a:pt x="7948" y="2191"/>
                  </a:lnTo>
                  <a:lnTo>
                    <a:pt x="7924" y="2155"/>
                  </a:lnTo>
                  <a:lnTo>
                    <a:pt x="7897" y="2119"/>
                  </a:lnTo>
                  <a:lnTo>
                    <a:pt x="7871" y="2084"/>
                  </a:lnTo>
                  <a:lnTo>
                    <a:pt x="7842" y="2050"/>
                  </a:lnTo>
                  <a:lnTo>
                    <a:pt x="7813" y="2015"/>
                  </a:lnTo>
                  <a:lnTo>
                    <a:pt x="7783" y="1980"/>
                  </a:lnTo>
                  <a:lnTo>
                    <a:pt x="7751" y="1946"/>
                  </a:lnTo>
                  <a:lnTo>
                    <a:pt x="7718" y="1913"/>
                  </a:lnTo>
                  <a:lnTo>
                    <a:pt x="7685" y="1880"/>
                  </a:lnTo>
                  <a:lnTo>
                    <a:pt x="7650" y="1846"/>
                  </a:lnTo>
                  <a:lnTo>
                    <a:pt x="7614" y="1813"/>
                  </a:lnTo>
                  <a:lnTo>
                    <a:pt x="7577" y="1780"/>
                  </a:lnTo>
                  <a:lnTo>
                    <a:pt x="7540" y="1747"/>
                  </a:lnTo>
                  <a:lnTo>
                    <a:pt x="7500" y="1716"/>
                  </a:lnTo>
                  <a:lnTo>
                    <a:pt x="7460" y="1684"/>
                  </a:lnTo>
                  <a:lnTo>
                    <a:pt x="7419" y="1652"/>
                  </a:lnTo>
                  <a:lnTo>
                    <a:pt x="7377" y="1620"/>
                  </a:lnTo>
                  <a:lnTo>
                    <a:pt x="7333" y="1590"/>
                  </a:lnTo>
                  <a:lnTo>
                    <a:pt x="7289" y="1559"/>
                  </a:lnTo>
                  <a:lnTo>
                    <a:pt x="7244" y="1528"/>
                  </a:lnTo>
                  <a:lnTo>
                    <a:pt x="7199" y="1497"/>
                  </a:lnTo>
                  <a:lnTo>
                    <a:pt x="7151" y="1466"/>
                  </a:lnTo>
                  <a:lnTo>
                    <a:pt x="7102" y="1437"/>
                  </a:lnTo>
                  <a:lnTo>
                    <a:pt x="7053" y="1407"/>
                  </a:lnTo>
                  <a:lnTo>
                    <a:pt x="7003" y="1377"/>
                  </a:lnTo>
                  <a:lnTo>
                    <a:pt x="6952" y="1348"/>
                  </a:lnTo>
                  <a:lnTo>
                    <a:pt x="6900" y="1319"/>
                  </a:lnTo>
                  <a:lnTo>
                    <a:pt x="6847" y="1290"/>
                  </a:lnTo>
                  <a:lnTo>
                    <a:pt x="6793" y="1261"/>
                  </a:lnTo>
                  <a:lnTo>
                    <a:pt x="6738" y="1234"/>
                  </a:lnTo>
                  <a:lnTo>
                    <a:pt x="6683" y="1206"/>
                  </a:lnTo>
                  <a:lnTo>
                    <a:pt x="6625" y="1178"/>
                  </a:lnTo>
                  <a:lnTo>
                    <a:pt x="6568" y="1151"/>
                  </a:lnTo>
                  <a:lnTo>
                    <a:pt x="6510" y="1123"/>
                  </a:lnTo>
                  <a:lnTo>
                    <a:pt x="6450" y="1096"/>
                  </a:lnTo>
                  <a:lnTo>
                    <a:pt x="6389" y="1070"/>
                  </a:lnTo>
                  <a:lnTo>
                    <a:pt x="6329" y="1043"/>
                  </a:lnTo>
                  <a:lnTo>
                    <a:pt x="6267" y="1017"/>
                  </a:lnTo>
                  <a:lnTo>
                    <a:pt x="6204" y="991"/>
                  </a:lnTo>
                  <a:lnTo>
                    <a:pt x="6140" y="965"/>
                  </a:lnTo>
                  <a:lnTo>
                    <a:pt x="6076" y="940"/>
                  </a:lnTo>
                  <a:lnTo>
                    <a:pt x="6009" y="915"/>
                  </a:lnTo>
                  <a:lnTo>
                    <a:pt x="5943" y="890"/>
                  </a:lnTo>
                  <a:lnTo>
                    <a:pt x="5877" y="867"/>
                  </a:lnTo>
                  <a:lnTo>
                    <a:pt x="5808" y="842"/>
                  </a:lnTo>
                  <a:lnTo>
                    <a:pt x="5739" y="817"/>
                  </a:lnTo>
                  <a:lnTo>
                    <a:pt x="5600" y="771"/>
                  </a:lnTo>
                  <a:lnTo>
                    <a:pt x="5456" y="725"/>
                  </a:lnTo>
                  <a:lnTo>
                    <a:pt x="5310" y="681"/>
                  </a:lnTo>
                  <a:lnTo>
                    <a:pt x="5161" y="637"/>
                  </a:lnTo>
                  <a:lnTo>
                    <a:pt x="5008" y="595"/>
                  </a:lnTo>
                  <a:lnTo>
                    <a:pt x="4854" y="555"/>
                  </a:lnTo>
                  <a:lnTo>
                    <a:pt x="4696" y="515"/>
                  </a:lnTo>
                  <a:lnTo>
                    <a:pt x="4534" y="477"/>
                  </a:lnTo>
                  <a:lnTo>
                    <a:pt x="4371" y="440"/>
                  </a:lnTo>
                  <a:lnTo>
                    <a:pt x="4206" y="404"/>
                  </a:lnTo>
                  <a:lnTo>
                    <a:pt x="4036" y="369"/>
                  </a:lnTo>
                  <a:lnTo>
                    <a:pt x="3865" y="337"/>
                  </a:lnTo>
                  <a:lnTo>
                    <a:pt x="3692" y="306"/>
                  </a:lnTo>
                  <a:lnTo>
                    <a:pt x="3515" y="275"/>
                  </a:lnTo>
                  <a:lnTo>
                    <a:pt x="3336" y="247"/>
                  </a:lnTo>
                  <a:lnTo>
                    <a:pt x="3155" y="219"/>
                  </a:lnTo>
                  <a:lnTo>
                    <a:pt x="2973" y="194"/>
                  </a:lnTo>
                  <a:lnTo>
                    <a:pt x="2787" y="169"/>
                  </a:lnTo>
                  <a:lnTo>
                    <a:pt x="2600" y="147"/>
                  </a:lnTo>
                  <a:lnTo>
                    <a:pt x="2411" y="126"/>
                  </a:lnTo>
                  <a:lnTo>
                    <a:pt x="2219" y="107"/>
                  </a:lnTo>
                  <a:lnTo>
                    <a:pt x="2026" y="88"/>
                  </a:lnTo>
                  <a:lnTo>
                    <a:pt x="1831" y="72"/>
                  </a:lnTo>
                  <a:lnTo>
                    <a:pt x="1633" y="57"/>
                  </a:lnTo>
                  <a:lnTo>
                    <a:pt x="1434" y="44"/>
                  </a:lnTo>
                  <a:lnTo>
                    <a:pt x="1234" y="33"/>
                  </a:lnTo>
                  <a:lnTo>
                    <a:pt x="1032" y="22"/>
                  </a:lnTo>
                  <a:lnTo>
                    <a:pt x="828" y="15"/>
                  </a:lnTo>
                  <a:lnTo>
                    <a:pt x="623" y="9"/>
                  </a:lnTo>
                  <a:lnTo>
                    <a:pt x="417" y="4"/>
                  </a:lnTo>
                  <a:lnTo>
                    <a:pt x="209" y="1"/>
                  </a:lnTo>
                  <a:lnTo>
                    <a:pt x="0" y="0"/>
                  </a:lnTo>
                  <a:lnTo>
                    <a:pt x="0" y="198"/>
                  </a:lnTo>
                  <a:lnTo>
                    <a:pt x="207" y="199"/>
                  </a:lnTo>
                  <a:lnTo>
                    <a:pt x="414" y="201"/>
                  </a:lnTo>
                  <a:lnTo>
                    <a:pt x="619" y="206"/>
                  </a:lnTo>
                  <a:lnTo>
                    <a:pt x="822" y="212"/>
                  </a:lnTo>
                  <a:lnTo>
                    <a:pt x="1024" y="220"/>
                  </a:lnTo>
                  <a:lnTo>
                    <a:pt x="1224" y="230"/>
                  </a:lnTo>
                  <a:lnTo>
                    <a:pt x="1423" y="241"/>
                  </a:lnTo>
                  <a:lnTo>
                    <a:pt x="1620" y="254"/>
                  </a:lnTo>
                  <a:lnTo>
                    <a:pt x="1815" y="269"/>
                  </a:lnTo>
                  <a:lnTo>
                    <a:pt x="2008" y="285"/>
                  </a:lnTo>
                  <a:lnTo>
                    <a:pt x="2200" y="302"/>
                  </a:lnTo>
                  <a:lnTo>
                    <a:pt x="2389" y="322"/>
                  </a:lnTo>
                  <a:lnTo>
                    <a:pt x="2577" y="343"/>
                  </a:lnTo>
                  <a:lnTo>
                    <a:pt x="2763" y="366"/>
                  </a:lnTo>
                  <a:lnTo>
                    <a:pt x="2946" y="390"/>
                  </a:lnTo>
                  <a:lnTo>
                    <a:pt x="3128" y="415"/>
                  </a:lnTo>
                  <a:lnTo>
                    <a:pt x="3307" y="442"/>
                  </a:lnTo>
                  <a:lnTo>
                    <a:pt x="3483" y="470"/>
                  </a:lnTo>
                  <a:lnTo>
                    <a:pt x="3657" y="500"/>
                  </a:lnTo>
                  <a:lnTo>
                    <a:pt x="3830" y="531"/>
                  </a:lnTo>
                  <a:lnTo>
                    <a:pt x="3998" y="564"/>
                  </a:lnTo>
                  <a:lnTo>
                    <a:pt x="4166" y="598"/>
                  </a:lnTo>
                  <a:lnTo>
                    <a:pt x="4329" y="633"/>
                  </a:lnTo>
                  <a:lnTo>
                    <a:pt x="4491" y="670"/>
                  </a:lnTo>
                  <a:lnTo>
                    <a:pt x="4650" y="707"/>
                  </a:lnTo>
                  <a:lnTo>
                    <a:pt x="4805" y="747"/>
                  </a:lnTo>
                  <a:lnTo>
                    <a:pt x="4958" y="787"/>
                  </a:lnTo>
                  <a:lnTo>
                    <a:pt x="5108" y="828"/>
                  </a:lnTo>
                  <a:lnTo>
                    <a:pt x="5255" y="871"/>
                  </a:lnTo>
                  <a:lnTo>
                    <a:pt x="5399" y="914"/>
                  </a:lnTo>
                  <a:lnTo>
                    <a:pt x="5539" y="959"/>
                  </a:lnTo>
                  <a:lnTo>
                    <a:pt x="5676" y="1005"/>
                  </a:lnTo>
                  <a:lnTo>
                    <a:pt x="5744" y="1029"/>
                  </a:lnTo>
                  <a:lnTo>
                    <a:pt x="5810" y="1052"/>
                  </a:lnTo>
                  <a:lnTo>
                    <a:pt x="5876" y="1076"/>
                  </a:lnTo>
                  <a:lnTo>
                    <a:pt x="5941" y="1100"/>
                  </a:lnTo>
                  <a:lnTo>
                    <a:pt x="6004" y="1125"/>
                  </a:lnTo>
                  <a:lnTo>
                    <a:pt x="6068" y="1150"/>
                  </a:lnTo>
                  <a:lnTo>
                    <a:pt x="6130" y="1174"/>
                  </a:lnTo>
                  <a:lnTo>
                    <a:pt x="6191" y="1200"/>
                  </a:lnTo>
                  <a:lnTo>
                    <a:pt x="6252" y="1225"/>
                  </a:lnTo>
                  <a:lnTo>
                    <a:pt x="6312" y="1251"/>
                  </a:lnTo>
                  <a:lnTo>
                    <a:pt x="6370" y="1277"/>
                  </a:lnTo>
                  <a:lnTo>
                    <a:pt x="6428" y="1302"/>
                  </a:lnTo>
                  <a:lnTo>
                    <a:pt x="6484" y="1329"/>
                  </a:lnTo>
                  <a:lnTo>
                    <a:pt x="6541" y="1356"/>
                  </a:lnTo>
                  <a:lnTo>
                    <a:pt x="6596" y="1382"/>
                  </a:lnTo>
                  <a:lnTo>
                    <a:pt x="6650" y="1410"/>
                  </a:lnTo>
                  <a:lnTo>
                    <a:pt x="6702" y="1438"/>
                  </a:lnTo>
                  <a:lnTo>
                    <a:pt x="6754" y="1464"/>
                  </a:lnTo>
                  <a:lnTo>
                    <a:pt x="6806" y="1492"/>
                  </a:lnTo>
                  <a:lnTo>
                    <a:pt x="6856" y="1521"/>
                  </a:lnTo>
                  <a:lnTo>
                    <a:pt x="6904" y="1549"/>
                  </a:lnTo>
                  <a:lnTo>
                    <a:pt x="6953" y="1577"/>
                  </a:lnTo>
                  <a:lnTo>
                    <a:pt x="7000" y="1605"/>
                  </a:lnTo>
                  <a:lnTo>
                    <a:pt x="7046" y="1634"/>
                  </a:lnTo>
                  <a:lnTo>
                    <a:pt x="7091" y="1662"/>
                  </a:lnTo>
                  <a:lnTo>
                    <a:pt x="7135" y="1691"/>
                  </a:lnTo>
                  <a:lnTo>
                    <a:pt x="7178" y="1721"/>
                  </a:lnTo>
                  <a:lnTo>
                    <a:pt x="7220" y="1751"/>
                  </a:lnTo>
                  <a:lnTo>
                    <a:pt x="7261" y="1780"/>
                  </a:lnTo>
                  <a:lnTo>
                    <a:pt x="7301" y="1810"/>
                  </a:lnTo>
                  <a:lnTo>
                    <a:pt x="7339" y="1839"/>
                  </a:lnTo>
                  <a:lnTo>
                    <a:pt x="7377" y="1870"/>
                  </a:lnTo>
                  <a:lnTo>
                    <a:pt x="7413" y="1899"/>
                  </a:lnTo>
                  <a:lnTo>
                    <a:pt x="7449" y="1930"/>
                  </a:lnTo>
                  <a:lnTo>
                    <a:pt x="7482" y="1960"/>
                  </a:lnTo>
                  <a:lnTo>
                    <a:pt x="7516" y="1991"/>
                  </a:lnTo>
                  <a:lnTo>
                    <a:pt x="7548" y="2021"/>
                  </a:lnTo>
                  <a:lnTo>
                    <a:pt x="7580" y="2052"/>
                  </a:lnTo>
                  <a:lnTo>
                    <a:pt x="7609" y="2083"/>
                  </a:lnTo>
                  <a:lnTo>
                    <a:pt x="7638" y="2114"/>
                  </a:lnTo>
                  <a:lnTo>
                    <a:pt x="7664" y="2144"/>
                  </a:lnTo>
                  <a:lnTo>
                    <a:pt x="7691" y="2175"/>
                  </a:lnTo>
                  <a:lnTo>
                    <a:pt x="7716" y="2207"/>
                  </a:lnTo>
                  <a:lnTo>
                    <a:pt x="7741" y="2239"/>
                  </a:lnTo>
                  <a:lnTo>
                    <a:pt x="7763" y="2269"/>
                  </a:lnTo>
                  <a:lnTo>
                    <a:pt x="7785" y="2300"/>
                  </a:lnTo>
                  <a:lnTo>
                    <a:pt x="7805" y="2332"/>
                  </a:lnTo>
                  <a:lnTo>
                    <a:pt x="7825" y="2364"/>
                  </a:lnTo>
                  <a:lnTo>
                    <a:pt x="7843" y="2395"/>
                  </a:lnTo>
                  <a:lnTo>
                    <a:pt x="7860" y="2426"/>
                  </a:lnTo>
                  <a:lnTo>
                    <a:pt x="7876" y="2458"/>
                  </a:lnTo>
                  <a:lnTo>
                    <a:pt x="7890" y="2489"/>
                  </a:lnTo>
                  <a:lnTo>
                    <a:pt x="7903" y="2521"/>
                  </a:lnTo>
                  <a:lnTo>
                    <a:pt x="7917" y="2553"/>
                  </a:lnTo>
                  <a:lnTo>
                    <a:pt x="7928" y="2584"/>
                  </a:lnTo>
                  <a:lnTo>
                    <a:pt x="7937" y="2616"/>
                  </a:lnTo>
                  <a:lnTo>
                    <a:pt x="7946" y="2648"/>
                  </a:lnTo>
                  <a:lnTo>
                    <a:pt x="7953" y="2680"/>
                  </a:lnTo>
                  <a:lnTo>
                    <a:pt x="7961" y="2711"/>
                  </a:lnTo>
                  <a:lnTo>
                    <a:pt x="7966" y="2743"/>
                  </a:lnTo>
                  <a:lnTo>
                    <a:pt x="7970" y="2775"/>
                  </a:lnTo>
                  <a:lnTo>
                    <a:pt x="7973" y="2807"/>
                  </a:lnTo>
                  <a:lnTo>
                    <a:pt x="7975" y="2839"/>
                  </a:lnTo>
                  <a:lnTo>
                    <a:pt x="7975" y="2871"/>
                  </a:lnTo>
                  <a:lnTo>
                    <a:pt x="7975" y="2871"/>
                  </a:lnTo>
                  <a:lnTo>
                    <a:pt x="8172" y="2871"/>
                  </a:lnTo>
                  <a:lnTo>
                    <a:pt x="8172" y="2871"/>
                  </a:lnTo>
                  <a:lnTo>
                    <a:pt x="8172"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3433680" y="3766680"/>
              <a:ext cx="1054440" cy="549720"/>
            </a:xfrm>
            <a:custGeom>
              <a:avLst/>
              <a:gdLst/>
              <a:ahLst/>
              <a:rect l="l" t="t" r="r" b="b"/>
              <a:pathLst>
                <a:path w="16174" h="8440">
                  <a:moveTo>
                    <a:pt x="0" y="0"/>
                  </a:moveTo>
                  <a:lnTo>
                    <a:pt x="0" y="8440"/>
                  </a:lnTo>
                  <a:lnTo>
                    <a:pt x="16171" y="8440"/>
                  </a:lnTo>
                  <a:lnTo>
                    <a:pt x="16174" y="4"/>
                  </a:lnTo>
                  <a:lnTo>
                    <a:pt x="0" y="0"/>
                  </a:lnTo>
                  <a:close/>
                </a:path>
              </a:pathLst>
            </a:custGeom>
            <a:solidFill>
              <a:srgbClr val="007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3429000" y="3773880"/>
              <a:ext cx="13680" cy="568440"/>
            </a:xfrm>
            <a:custGeom>
              <a:avLst/>
              <a:gdLst/>
              <a:ahLst/>
              <a:rect l="l" t="t" r="r" b="b"/>
              <a:pathLst>
                <a:path w="211" h="8730">
                  <a:moveTo>
                    <a:pt x="197" y="8730"/>
                  </a:moveTo>
                  <a:lnTo>
                    <a:pt x="211" y="0"/>
                  </a:lnTo>
                  <a:lnTo>
                    <a:pt x="13" y="0"/>
                  </a:lnTo>
                  <a:lnTo>
                    <a:pt x="0" y="8730"/>
                  </a:lnTo>
                  <a:lnTo>
                    <a:pt x="197" y="873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a:off x="3429000" y="4342680"/>
              <a:ext cx="13680" cy="6840"/>
            </a:xfrm>
            <a:prstGeom prst="rect">
              <a:avLst/>
            </a:prstGeom>
            <a:solidFill>
              <a:srgbClr val="add7e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436" name=""/>
            <p:cNvSpPr/>
            <p:nvPr/>
          </p:nvSpPr>
          <p:spPr>
            <a:xfrm>
              <a:off x="4480920" y="3773880"/>
              <a:ext cx="14040" cy="570600"/>
            </a:xfrm>
            <a:prstGeom prst="rect">
              <a:avLst/>
            </a:pr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4480920" y="4344480"/>
              <a:ext cx="14040" cy="6840"/>
            </a:xfrm>
            <a:prstGeom prst="rect">
              <a:avLst/>
            </a:prstGeom>
            <a:solidFill>
              <a:srgbClr val="add7e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438" name=""/>
            <p:cNvSpPr/>
            <p:nvPr/>
          </p:nvSpPr>
          <p:spPr>
            <a:xfrm>
              <a:off x="3755520" y="3996720"/>
              <a:ext cx="436680" cy="122400"/>
            </a:xfrm>
            <a:custGeom>
              <a:avLst/>
              <a:gdLst/>
              <a:ahLst/>
              <a:rect l="l" t="t" r="r" b="b"/>
              <a:pathLst>
                <a:path w="6695" h="1868">
                  <a:moveTo>
                    <a:pt x="456" y="442"/>
                  </a:moveTo>
                  <a:lnTo>
                    <a:pt x="0" y="1524"/>
                  </a:lnTo>
                  <a:lnTo>
                    <a:pt x="220" y="1868"/>
                  </a:lnTo>
                  <a:lnTo>
                    <a:pt x="1928" y="1559"/>
                  </a:lnTo>
                  <a:lnTo>
                    <a:pt x="1952" y="818"/>
                  </a:lnTo>
                  <a:lnTo>
                    <a:pt x="1968" y="747"/>
                  </a:lnTo>
                  <a:lnTo>
                    <a:pt x="1988" y="676"/>
                  </a:lnTo>
                  <a:lnTo>
                    <a:pt x="2034" y="606"/>
                  </a:lnTo>
                  <a:lnTo>
                    <a:pt x="2109" y="550"/>
                  </a:lnTo>
                  <a:lnTo>
                    <a:pt x="2188" y="507"/>
                  </a:lnTo>
                  <a:lnTo>
                    <a:pt x="2275" y="489"/>
                  </a:lnTo>
                  <a:lnTo>
                    <a:pt x="2263" y="496"/>
                  </a:lnTo>
                  <a:lnTo>
                    <a:pt x="4387" y="496"/>
                  </a:lnTo>
                  <a:lnTo>
                    <a:pt x="4475" y="500"/>
                  </a:lnTo>
                  <a:lnTo>
                    <a:pt x="4526" y="515"/>
                  </a:lnTo>
                  <a:lnTo>
                    <a:pt x="4585" y="538"/>
                  </a:lnTo>
                  <a:lnTo>
                    <a:pt x="4664" y="590"/>
                  </a:lnTo>
                  <a:lnTo>
                    <a:pt x="4706" y="650"/>
                  </a:lnTo>
                  <a:lnTo>
                    <a:pt x="4741" y="727"/>
                  </a:lnTo>
                  <a:lnTo>
                    <a:pt x="4754" y="786"/>
                  </a:lnTo>
                  <a:lnTo>
                    <a:pt x="4804" y="1577"/>
                  </a:lnTo>
                  <a:lnTo>
                    <a:pt x="6510" y="1859"/>
                  </a:lnTo>
                  <a:lnTo>
                    <a:pt x="6695" y="1455"/>
                  </a:lnTo>
                  <a:lnTo>
                    <a:pt x="6291" y="442"/>
                  </a:lnTo>
                  <a:lnTo>
                    <a:pt x="6142" y="370"/>
                  </a:lnTo>
                  <a:lnTo>
                    <a:pt x="5850" y="294"/>
                  </a:lnTo>
                  <a:lnTo>
                    <a:pt x="5540" y="217"/>
                  </a:lnTo>
                  <a:lnTo>
                    <a:pt x="5228" y="159"/>
                  </a:lnTo>
                  <a:lnTo>
                    <a:pt x="4873" y="102"/>
                  </a:lnTo>
                  <a:lnTo>
                    <a:pt x="4520" y="55"/>
                  </a:lnTo>
                  <a:lnTo>
                    <a:pt x="4150" y="20"/>
                  </a:lnTo>
                  <a:lnTo>
                    <a:pt x="3795" y="4"/>
                  </a:lnTo>
                  <a:lnTo>
                    <a:pt x="3483" y="0"/>
                  </a:lnTo>
                  <a:lnTo>
                    <a:pt x="3200" y="8"/>
                  </a:lnTo>
                  <a:lnTo>
                    <a:pt x="2913" y="6"/>
                  </a:lnTo>
                  <a:lnTo>
                    <a:pt x="2635" y="18"/>
                  </a:lnTo>
                  <a:lnTo>
                    <a:pt x="2193" y="47"/>
                  </a:lnTo>
                  <a:lnTo>
                    <a:pt x="1814" y="109"/>
                  </a:lnTo>
                  <a:lnTo>
                    <a:pt x="1493" y="167"/>
                  </a:lnTo>
                  <a:lnTo>
                    <a:pt x="1219" y="226"/>
                  </a:lnTo>
                  <a:lnTo>
                    <a:pt x="945" y="288"/>
                  </a:lnTo>
                  <a:lnTo>
                    <a:pt x="655" y="371"/>
                  </a:lnTo>
                  <a:lnTo>
                    <a:pt x="456" y="4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3600360" y="4064760"/>
              <a:ext cx="136080" cy="162360"/>
            </a:xfrm>
            <a:custGeom>
              <a:avLst/>
              <a:gdLst/>
              <a:ahLst/>
              <a:rect l="l" t="t" r="r" b="b"/>
              <a:pathLst>
                <a:path w="2075" h="2486">
                  <a:moveTo>
                    <a:pt x="1443" y="0"/>
                  </a:moveTo>
                  <a:lnTo>
                    <a:pt x="1443" y="1121"/>
                  </a:lnTo>
                  <a:lnTo>
                    <a:pt x="2075" y="1121"/>
                  </a:lnTo>
                  <a:lnTo>
                    <a:pt x="2075" y="1456"/>
                  </a:lnTo>
                  <a:lnTo>
                    <a:pt x="1455" y="1456"/>
                  </a:lnTo>
                  <a:lnTo>
                    <a:pt x="1455" y="2486"/>
                  </a:lnTo>
                  <a:lnTo>
                    <a:pt x="0" y="1289"/>
                  </a:lnTo>
                  <a:lnTo>
                    <a:pt x="14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3590640" y="4222800"/>
              <a:ext cx="133560" cy="161640"/>
            </a:xfrm>
            <a:custGeom>
              <a:avLst/>
              <a:gdLst/>
              <a:ahLst/>
              <a:rect l="l" t="t" r="r" b="b"/>
              <a:pathLst>
                <a:path w="2075" h="2486">
                  <a:moveTo>
                    <a:pt x="632" y="2486"/>
                  </a:moveTo>
                  <a:lnTo>
                    <a:pt x="632" y="1365"/>
                  </a:lnTo>
                  <a:lnTo>
                    <a:pt x="0" y="1365"/>
                  </a:lnTo>
                  <a:lnTo>
                    <a:pt x="0" y="1030"/>
                  </a:lnTo>
                  <a:lnTo>
                    <a:pt x="620" y="1030"/>
                  </a:lnTo>
                  <a:lnTo>
                    <a:pt x="620" y="0"/>
                  </a:lnTo>
                  <a:lnTo>
                    <a:pt x="2075" y="1198"/>
                  </a:lnTo>
                  <a:lnTo>
                    <a:pt x="632" y="24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
            <p:cNvSpPr/>
            <p:nvPr/>
          </p:nvSpPr>
          <p:spPr>
            <a:xfrm>
              <a:off x="4204080" y="4064760"/>
              <a:ext cx="133560" cy="162360"/>
            </a:xfrm>
            <a:custGeom>
              <a:avLst/>
              <a:gdLst/>
              <a:ahLst/>
              <a:rect l="l" t="t" r="r" b="b"/>
              <a:pathLst>
                <a:path w="2073" h="2486">
                  <a:moveTo>
                    <a:pt x="632" y="0"/>
                  </a:moveTo>
                  <a:lnTo>
                    <a:pt x="632" y="1121"/>
                  </a:lnTo>
                  <a:lnTo>
                    <a:pt x="0" y="1121"/>
                  </a:lnTo>
                  <a:lnTo>
                    <a:pt x="0" y="1456"/>
                  </a:lnTo>
                  <a:lnTo>
                    <a:pt x="619" y="1456"/>
                  </a:lnTo>
                  <a:lnTo>
                    <a:pt x="619" y="2486"/>
                  </a:lnTo>
                  <a:lnTo>
                    <a:pt x="2073" y="1289"/>
                  </a:lnTo>
                  <a:lnTo>
                    <a:pt x="63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
            <p:cNvSpPr/>
            <p:nvPr/>
          </p:nvSpPr>
          <p:spPr>
            <a:xfrm>
              <a:off x="4213440" y="4222800"/>
              <a:ext cx="135720" cy="161640"/>
            </a:xfrm>
            <a:custGeom>
              <a:avLst/>
              <a:gdLst/>
              <a:ahLst/>
              <a:rect l="l" t="t" r="r" b="b"/>
              <a:pathLst>
                <a:path w="2074" h="2486">
                  <a:moveTo>
                    <a:pt x="1442" y="2486"/>
                  </a:moveTo>
                  <a:lnTo>
                    <a:pt x="1442" y="1365"/>
                  </a:lnTo>
                  <a:lnTo>
                    <a:pt x="2074" y="1365"/>
                  </a:lnTo>
                  <a:lnTo>
                    <a:pt x="2074" y="1030"/>
                  </a:lnTo>
                  <a:lnTo>
                    <a:pt x="1454" y="1030"/>
                  </a:lnTo>
                  <a:lnTo>
                    <a:pt x="1454" y="0"/>
                  </a:lnTo>
                  <a:lnTo>
                    <a:pt x="0" y="1198"/>
                  </a:lnTo>
                  <a:lnTo>
                    <a:pt x="1442" y="24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
            <p:cNvSpPr/>
            <p:nvPr/>
          </p:nvSpPr>
          <p:spPr>
            <a:xfrm>
              <a:off x="3807000" y="4133160"/>
              <a:ext cx="335520" cy="29808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
            <p:cNvSpPr/>
            <p:nvPr/>
          </p:nvSpPr>
          <p:spPr>
            <a:xfrm>
              <a:off x="3748320" y="3992400"/>
              <a:ext cx="436680" cy="119880"/>
            </a:xfrm>
            <a:custGeom>
              <a:avLst/>
              <a:gdLst/>
              <a:ahLst/>
              <a:rect l="l" t="t" r="r" b="b"/>
              <a:pathLst>
                <a:path w="6695" h="1867">
                  <a:moveTo>
                    <a:pt x="456" y="442"/>
                  </a:moveTo>
                  <a:lnTo>
                    <a:pt x="0" y="1524"/>
                  </a:lnTo>
                  <a:lnTo>
                    <a:pt x="220" y="1867"/>
                  </a:lnTo>
                  <a:lnTo>
                    <a:pt x="1927" y="1557"/>
                  </a:lnTo>
                  <a:lnTo>
                    <a:pt x="1952" y="817"/>
                  </a:lnTo>
                  <a:lnTo>
                    <a:pt x="1966" y="746"/>
                  </a:lnTo>
                  <a:lnTo>
                    <a:pt x="1988" y="675"/>
                  </a:lnTo>
                  <a:lnTo>
                    <a:pt x="2033" y="605"/>
                  </a:lnTo>
                  <a:lnTo>
                    <a:pt x="2107" y="548"/>
                  </a:lnTo>
                  <a:lnTo>
                    <a:pt x="2188" y="506"/>
                  </a:lnTo>
                  <a:lnTo>
                    <a:pt x="2274" y="489"/>
                  </a:lnTo>
                  <a:lnTo>
                    <a:pt x="2262" y="495"/>
                  </a:lnTo>
                  <a:lnTo>
                    <a:pt x="4386" y="495"/>
                  </a:lnTo>
                  <a:lnTo>
                    <a:pt x="4474" y="498"/>
                  </a:lnTo>
                  <a:lnTo>
                    <a:pt x="4525" y="514"/>
                  </a:lnTo>
                  <a:lnTo>
                    <a:pt x="4584" y="538"/>
                  </a:lnTo>
                  <a:lnTo>
                    <a:pt x="4664" y="589"/>
                  </a:lnTo>
                  <a:lnTo>
                    <a:pt x="4706" y="649"/>
                  </a:lnTo>
                  <a:lnTo>
                    <a:pt x="4741" y="727"/>
                  </a:lnTo>
                  <a:lnTo>
                    <a:pt x="4753" y="785"/>
                  </a:lnTo>
                  <a:lnTo>
                    <a:pt x="4804" y="1577"/>
                  </a:lnTo>
                  <a:lnTo>
                    <a:pt x="6509" y="1858"/>
                  </a:lnTo>
                  <a:lnTo>
                    <a:pt x="6695" y="1455"/>
                  </a:lnTo>
                  <a:lnTo>
                    <a:pt x="6290" y="442"/>
                  </a:lnTo>
                  <a:lnTo>
                    <a:pt x="6141" y="369"/>
                  </a:lnTo>
                  <a:lnTo>
                    <a:pt x="5850" y="293"/>
                  </a:lnTo>
                  <a:lnTo>
                    <a:pt x="5539" y="217"/>
                  </a:lnTo>
                  <a:lnTo>
                    <a:pt x="5227" y="158"/>
                  </a:lnTo>
                  <a:lnTo>
                    <a:pt x="4873" y="101"/>
                  </a:lnTo>
                  <a:lnTo>
                    <a:pt x="4519" y="55"/>
                  </a:lnTo>
                  <a:lnTo>
                    <a:pt x="4149" y="18"/>
                  </a:lnTo>
                  <a:lnTo>
                    <a:pt x="3794" y="4"/>
                  </a:lnTo>
                  <a:lnTo>
                    <a:pt x="3483" y="0"/>
                  </a:lnTo>
                  <a:lnTo>
                    <a:pt x="3199" y="8"/>
                  </a:lnTo>
                  <a:lnTo>
                    <a:pt x="2913" y="5"/>
                  </a:lnTo>
                  <a:lnTo>
                    <a:pt x="2633" y="16"/>
                  </a:lnTo>
                  <a:lnTo>
                    <a:pt x="2192" y="47"/>
                  </a:lnTo>
                  <a:lnTo>
                    <a:pt x="1813" y="107"/>
                  </a:lnTo>
                  <a:lnTo>
                    <a:pt x="1492" y="167"/>
                  </a:lnTo>
                  <a:lnTo>
                    <a:pt x="1219" y="225"/>
                  </a:lnTo>
                  <a:lnTo>
                    <a:pt x="944" y="287"/>
                  </a:lnTo>
                  <a:lnTo>
                    <a:pt x="654" y="370"/>
                  </a:lnTo>
                  <a:lnTo>
                    <a:pt x="456" y="4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3593520" y="4057920"/>
              <a:ext cx="135720" cy="161640"/>
            </a:xfrm>
            <a:custGeom>
              <a:avLst/>
              <a:gdLst/>
              <a:ahLst/>
              <a:rect l="l" t="t" r="r" b="b"/>
              <a:pathLst>
                <a:path w="2074" h="2485">
                  <a:moveTo>
                    <a:pt x="1442" y="0"/>
                  </a:moveTo>
                  <a:lnTo>
                    <a:pt x="1442" y="1120"/>
                  </a:lnTo>
                  <a:lnTo>
                    <a:pt x="2074" y="1120"/>
                  </a:lnTo>
                  <a:lnTo>
                    <a:pt x="2074" y="1455"/>
                  </a:lnTo>
                  <a:lnTo>
                    <a:pt x="1455" y="1455"/>
                  </a:lnTo>
                  <a:lnTo>
                    <a:pt x="1455" y="2485"/>
                  </a:lnTo>
                  <a:lnTo>
                    <a:pt x="0" y="1287"/>
                  </a:lnTo>
                  <a:lnTo>
                    <a:pt x="14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3583800" y="4215600"/>
              <a:ext cx="133560" cy="163800"/>
            </a:xfrm>
            <a:custGeom>
              <a:avLst/>
              <a:gdLst/>
              <a:ahLst/>
              <a:rect l="l" t="t" r="r" b="b"/>
              <a:pathLst>
                <a:path w="2074" h="2486">
                  <a:moveTo>
                    <a:pt x="632" y="2486"/>
                  </a:moveTo>
                  <a:lnTo>
                    <a:pt x="632" y="1365"/>
                  </a:lnTo>
                  <a:lnTo>
                    <a:pt x="0" y="1365"/>
                  </a:lnTo>
                  <a:lnTo>
                    <a:pt x="0" y="1030"/>
                  </a:lnTo>
                  <a:lnTo>
                    <a:pt x="620" y="1030"/>
                  </a:lnTo>
                  <a:lnTo>
                    <a:pt x="620" y="0"/>
                  </a:lnTo>
                  <a:lnTo>
                    <a:pt x="2074" y="1197"/>
                  </a:lnTo>
                  <a:lnTo>
                    <a:pt x="632" y="24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4196880" y="4057920"/>
              <a:ext cx="136080" cy="161640"/>
            </a:xfrm>
            <a:custGeom>
              <a:avLst/>
              <a:gdLst/>
              <a:ahLst/>
              <a:rect l="l" t="t" r="r" b="b"/>
              <a:pathLst>
                <a:path w="2074" h="2485">
                  <a:moveTo>
                    <a:pt x="632" y="0"/>
                  </a:moveTo>
                  <a:lnTo>
                    <a:pt x="632" y="1120"/>
                  </a:lnTo>
                  <a:lnTo>
                    <a:pt x="0" y="1120"/>
                  </a:lnTo>
                  <a:lnTo>
                    <a:pt x="0" y="1455"/>
                  </a:lnTo>
                  <a:lnTo>
                    <a:pt x="620" y="1455"/>
                  </a:lnTo>
                  <a:lnTo>
                    <a:pt x="620" y="2485"/>
                  </a:lnTo>
                  <a:lnTo>
                    <a:pt x="2074" y="1287"/>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4205880" y="4215600"/>
              <a:ext cx="136080" cy="163800"/>
            </a:xfrm>
            <a:custGeom>
              <a:avLst/>
              <a:gdLst/>
              <a:ahLst/>
              <a:rect l="l" t="t" r="r" b="b"/>
              <a:pathLst>
                <a:path w="2074" h="2486">
                  <a:moveTo>
                    <a:pt x="1443" y="2486"/>
                  </a:moveTo>
                  <a:lnTo>
                    <a:pt x="1443" y="1365"/>
                  </a:lnTo>
                  <a:lnTo>
                    <a:pt x="2074" y="1365"/>
                  </a:lnTo>
                  <a:lnTo>
                    <a:pt x="2074" y="1030"/>
                  </a:lnTo>
                  <a:lnTo>
                    <a:pt x="1455" y="1030"/>
                  </a:lnTo>
                  <a:lnTo>
                    <a:pt x="1455" y="0"/>
                  </a:lnTo>
                  <a:lnTo>
                    <a:pt x="0" y="1197"/>
                  </a:lnTo>
                  <a:lnTo>
                    <a:pt x="1443" y="24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3800160" y="4126320"/>
              <a:ext cx="338040" cy="29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3837240" y="4154400"/>
              <a:ext cx="272520" cy="11520"/>
            </a:xfrm>
            <a:custGeom>
              <a:avLst/>
              <a:gdLst/>
              <a:ahLst/>
              <a:rect l="l" t="t" r="r" b="b"/>
              <a:pathLst>
                <a:path w="4145" h="198">
                  <a:moveTo>
                    <a:pt x="4145" y="99"/>
                  </a:moveTo>
                  <a:lnTo>
                    <a:pt x="4047" y="0"/>
                  </a:lnTo>
                  <a:lnTo>
                    <a:pt x="0" y="0"/>
                  </a:lnTo>
                  <a:lnTo>
                    <a:pt x="0" y="198"/>
                  </a:lnTo>
                  <a:lnTo>
                    <a:pt x="4047" y="198"/>
                  </a:lnTo>
                  <a:lnTo>
                    <a:pt x="4145" y="99"/>
                  </a:lnTo>
                  <a:close/>
                </a:path>
              </a:pathLst>
            </a:custGeom>
            <a:solidFill>
              <a:srgbClr val="07608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451" name=""/>
            <p:cNvSpPr/>
            <p:nvPr/>
          </p:nvSpPr>
          <p:spPr>
            <a:xfrm>
              <a:off x="4095720" y="4161240"/>
              <a:ext cx="14040" cy="58320"/>
            </a:xfrm>
            <a:custGeom>
              <a:avLst/>
              <a:gdLst/>
              <a:ahLst/>
              <a:rect l="l" t="t" r="r" b="b"/>
              <a:pathLst>
                <a:path w="197" h="923">
                  <a:moveTo>
                    <a:pt x="99" y="923"/>
                  </a:moveTo>
                  <a:lnTo>
                    <a:pt x="197" y="825"/>
                  </a:lnTo>
                  <a:lnTo>
                    <a:pt x="197" y="0"/>
                  </a:lnTo>
                  <a:lnTo>
                    <a:pt x="0" y="0"/>
                  </a:lnTo>
                  <a:lnTo>
                    <a:pt x="0" y="825"/>
                  </a:lnTo>
                  <a:lnTo>
                    <a:pt x="99" y="923"/>
                  </a:lnTo>
                  <a:close/>
                </a:path>
              </a:pathLst>
            </a:custGeom>
            <a:solidFill>
              <a:srgbClr val="07608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52" name=""/>
            <p:cNvSpPr/>
            <p:nvPr/>
          </p:nvSpPr>
          <p:spPr>
            <a:xfrm>
              <a:off x="3832560" y="4208400"/>
              <a:ext cx="270000" cy="11520"/>
            </a:xfrm>
            <a:custGeom>
              <a:avLst/>
              <a:gdLst/>
              <a:ahLst/>
              <a:rect l="l" t="t" r="r" b="b"/>
              <a:pathLst>
                <a:path w="4146" h="198">
                  <a:moveTo>
                    <a:pt x="0" y="100"/>
                  </a:moveTo>
                  <a:lnTo>
                    <a:pt x="99" y="198"/>
                  </a:lnTo>
                  <a:lnTo>
                    <a:pt x="4146" y="198"/>
                  </a:lnTo>
                  <a:lnTo>
                    <a:pt x="4146" y="0"/>
                  </a:lnTo>
                  <a:lnTo>
                    <a:pt x="99" y="0"/>
                  </a:lnTo>
                  <a:lnTo>
                    <a:pt x="0" y="100"/>
                  </a:lnTo>
                  <a:close/>
                </a:path>
              </a:pathLst>
            </a:custGeom>
            <a:solidFill>
              <a:srgbClr val="07608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453" name=""/>
            <p:cNvSpPr/>
            <p:nvPr/>
          </p:nvSpPr>
          <p:spPr>
            <a:xfrm>
              <a:off x="3832560" y="4154400"/>
              <a:ext cx="11520" cy="58320"/>
            </a:xfrm>
            <a:custGeom>
              <a:avLst/>
              <a:gdLst/>
              <a:ahLst/>
              <a:rect l="l" t="t" r="r" b="b"/>
              <a:pathLst>
                <a:path w="197" h="924">
                  <a:moveTo>
                    <a:pt x="99" y="0"/>
                  </a:moveTo>
                  <a:lnTo>
                    <a:pt x="0" y="99"/>
                  </a:lnTo>
                  <a:lnTo>
                    <a:pt x="0" y="924"/>
                  </a:lnTo>
                  <a:lnTo>
                    <a:pt x="197" y="924"/>
                  </a:lnTo>
                  <a:lnTo>
                    <a:pt x="197" y="99"/>
                  </a:lnTo>
                  <a:lnTo>
                    <a:pt x="99" y="0"/>
                  </a:lnTo>
                  <a:close/>
                </a:path>
              </a:pathLst>
            </a:custGeom>
            <a:solidFill>
              <a:srgbClr val="07608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54" name=""/>
            <p:cNvSpPr/>
            <p:nvPr/>
          </p:nvSpPr>
          <p:spPr>
            <a:xfrm>
              <a:off x="3837240" y="4255560"/>
              <a:ext cx="272520" cy="11520"/>
            </a:xfrm>
            <a:custGeom>
              <a:avLst/>
              <a:gdLst/>
              <a:ahLst/>
              <a:rect l="l" t="t" r="r" b="b"/>
              <a:pathLst>
                <a:path w="4145" h="198">
                  <a:moveTo>
                    <a:pt x="4145" y="100"/>
                  </a:moveTo>
                  <a:lnTo>
                    <a:pt x="4047" y="0"/>
                  </a:lnTo>
                  <a:lnTo>
                    <a:pt x="0" y="0"/>
                  </a:lnTo>
                  <a:lnTo>
                    <a:pt x="0" y="198"/>
                  </a:lnTo>
                  <a:lnTo>
                    <a:pt x="4047" y="198"/>
                  </a:lnTo>
                  <a:lnTo>
                    <a:pt x="4145" y="100"/>
                  </a:lnTo>
                  <a:close/>
                </a:path>
              </a:pathLst>
            </a:custGeom>
            <a:solidFill>
              <a:srgbClr val="07608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455" name=""/>
            <p:cNvSpPr/>
            <p:nvPr/>
          </p:nvSpPr>
          <p:spPr>
            <a:xfrm>
              <a:off x="4095720" y="4259880"/>
              <a:ext cx="14040" cy="141120"/>
            </a:xfrm>
            <a:custGeom>
              <a:avLst/>
              <a:gdLst/>
              <a:ahLst/>
              <a:rect l="l" t="t" r="r" b="b"/>
              <a:pathLst>
                <a:path w="197" h="2159">
                  <a:moveTo>
                    <a:pt x="99" y="2159"/>
                  </a:moveTo>
                  <a:lnTo>
                    <a:pt x="197" y="2060"/>
                  </a:lnTo>
                  <a:lnTo>
                    <a:pt x="197" y="0"/>
                  </a:lnTo>
                  <a:lnTo>
                    <a:pt x="0" y="0"/>
                  </a:lnTo>
                  <a:lnTo>
                    <a:pt x="0" y="2060"/>
                  </a:lnTo>
                  <a:lnTo>
                    <a:pt x="99" y="2159"/>
                  </a:lnTo>
                  <a:close/>
                </a:path>
              </a:pathLst>
            </a:custGeom>
            <a:solidFill>
              <a:srgbClr val="076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3832560" y="4389480"/>
              <a:ext cx="270000" cy="11520"/>
            </a:xfrm>
            <a:custGeom>
              <a:avLst/>
              <a:gdLst/>
              <a:ahLst/>
              <a:rect l="l" t="t" r="r" b="b"/>
              <a:pathLst>
                <a:path w="4146" h="197">
                  <a:moveTo>
                    <a:pt x="0" y="98"/>
                  </a:moveTo>
                  <a:lnTo>
                    <a:pt x="99" y="197"/>
                  </a:lnTo>
                  <a:lnTo>
                    <a:pt x="4146" y="197"/>
                  </a:lnTo>
                  <a:lnTo>
                    <a:pt x="4146" y="0"/>
                  </a:lnTo>
                  <a:lnTo>
                    <a:pt x="99" y="0"/>
                  </a:lnTo>
                  <a:lnTo>
                    <a:pt x="0" y="98"/>
                  </a:lnTo>
                  <a:close/>
                </a:path>
              </a:pathLst>
            </a:custGeom>
            <a:solidFill>
              <a:srgbClr val="07608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457" name=""/>
            <p:cNvSpPr/>
            <p:nvPr/>
          </p:nvSpPr>
          <p:spPr>
            <a:xfrm>
              <a:off x="3832560" y="4255560"/>
              <a:ext cx="11520" cy="140400"/>
            </a:xfrm>
            <a:custGeom>
              <a:avLst/>
              <a:gdLst/>
              <a:ahLst/>
              <a:rect l="l" t="t" r="r" b="b"/>
              <a:pathLst>
                <a:path w="197" h="2160">
                  <a:moveTo>
                    <a:pt x="99" y="0"/>
                  </a:moveTo>
                  <a:lnTo>
                    <a:pt x="0" y="100"/>
                  </a:lnTo>
                  <a:lnTo>
                    <a:pt x="0" y="2160"/>
                  </a:lnTo>
                  <a:lnTo>
                    <a:pt x="197" y="2160"/>
                  </a:lnTo>
                  <a:lnTo>
                    <a:pt x="197" y="100"/>
                  </a:lnTo>
                  <a:lnTo>
                    <a:pt x="99" y="0"/>
                  </a:lnTo>
                  <a:close/>
                </a:path>
              </a:pathLst>
            </a:custGeom>
            <a:solidFill>
              <a:srgbClr val="076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a:off x="4102560" y="4231800"/>
              <a:ext cx="4680" cy="12240"/>
            </a:xfrm>
            <a:prstGeom prst="rect">
              <a:avLst/>
            </a:prstGeom>
            <a:solidFill>
              <a:srgbClr val="0760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459" name=""/>
            <p:cNvSpPr/>
            <p:nvPr/>
          </p:nvSpPr>
          <p:spPr>
            <a:xfrm>
              <a:off x="3837240" y="4231800"/>
              <a:ext cx="264960" cy="12240"/>
            </a:xfrm>
            <a:prstGeom prst="rect">
              <a:avLst/>
            </a:prstGeom>
            <a:solidFill>
              <a:srgbClr val="0760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460" name=""/>
            <p:cNvSpPr/>
            <p:nvPr/>
          </p:nvSpPr>
          <p:spPr>
            <a:xfrm>
              <a:off x="3435840" y="3588120"/>
              <a:ext cx="1052640" cy="361440"/>
            </a:xfrm>
            <a:custGeom>
              <a:avLst/>
              <a:gdLst/>
              <a:ahLst/>
              <a:rect l="l" t="t" r="r" b="b"/>
              <a:pathLst>
                <a:path w="16146" h="5544">
                  <a:moveTo>
                    <a:pt x="16146" y="2772"/>
                  </a:moveTo>
                  <a:lnTo>
                    <a:pt x="16136" y="2914"/>
                  </a:lnTo>
                  <a:lnTo>
                    <a:pt x="16105" y="3056"/>
                  </a:lnTo>
                  <a:lnTo>
                    <a:pt x="16053" y="3194"/>
                  </a:lnTo>
                  <a:lnTo>
                    <a:pt x="15982" y="3330"/>
                  </a:lnTo>
                  <a:lnTo>
                    <a:pt x="15892" y="3465"/>
                  </a:lnTo>
                  <a:lnTo>
                    <a:pt x="15783" y="3596"/>
                  </a:lnTo>
                  <a:lnTo>
                    <a:pt x="15657" y="3724"/>
                  </a:lnTo>
                  <a:lnTo>
                    <a:pt x="15512" y="3850"/>
                  </a:lnTo>
                  <a:lnTo>
                    <a:pt x="15350" y="3973"/>
                  </a:lnTo>
                  <a:lnTo>
                    <a:pt x="15171" y="4092"/>
                  </a:lnTo>
                  <a:lnTo>
                    <a:pt x="14977" y="4209"/>
                  </a:lnTo>
                  <a:lnTo>
                    <a:pt x="14767" y="4321"/>
                  </a:lnTo>
                  <a:lnTo>
                    <a:pt x="14542" y="4430"/>
                  </a:lnTo>
                  <a:lnTo>
                    <a:pt x="14302" y="4534"/>
                  </a:lnTo>
                  <a:lnTo>
                    <a:pt x="14048" y="4636"/>
                  </a:lnTo>
                  <a:lnTo>
                    <a:pt x="13781" y="4731"/>
                  </a:lnTo>
                  <a:lnTo>
                    <a:pt x="13500" y="4824"/>
                  </a:lnTo>
                  <a:lnTo>
                    <a:pt x="13207" y="4911"/>
                  </a:lnTo>
                  <a:lnTo>
                    <a:pt x="12903" y="4993"/>
                  </a:lnTo>
                  <a:lnTo>
                    <a:pt x="12586" y="5070"/>
                  </a:lnTo>
                  <a:lnTo>
                    <a:pt x="12258" y="5143"/>
                  </a:lnTo>
                  <a:lnTo>
                    <a:pt x="11920" y="5209"/>
                  </a:lnTo>
                  <a:lnTo>
                    <a:pt x="11572" y="5271"/>
                  </a:lnTo>
                  <a:lnTo>
                    <a:pt x="11214" y="5326"/>
                  </a:lnTo>
                  <a:lnTo>
                    <a:pt x="10848" y="5375"/>
                  </a:lnTo>
                  <a:lnTo>
                    <a:pt x="10473" y="5420"/>
                  </a:lnTo>
                  <a:lnTo>
                    <a:pt x="10089" y="5456"/>
                  </a:lnTo>
                  <a:lnTo>
                    <a:pt x="9699" y="5487"/>
                  </a:lnTo>
                  <a:lnTo>
                    <a:pt x="9302" y="5512"/>
                  </a:lnTo>
                  <a:lnTo>
                    <a:pt x="8898" y="5529"/>
                  </a:lnTo>
                  <a:lnTo>
                    <a:pt x="8489" y="5541"/>
                  </a:lnTo>
                  <a:lnTo>
                    <a:pt x="8073" y="5544"/>
                  </a:lnTo>
                  <a:lnTo>
                    <a:pt x="7658" y="5541"/>
                  </a:lnTo>
                  <a:lnTo>
                    <a:pt x="7248" y="5529"/>
                  </a:lnTo>
                  <a:lnTo>
                    <a:pt x="6844" y="5512"/>
                  </a:lnTo>
                  <a:lnTo>
                    <a:pt x="6447" y="5487"/>
                  </a:lnTo>
                  <a:lnTo>
                    <a:pt x="6057" y="5456"/>
                  </a:lnTo>
                  <a:lnTo>
                    <a:pt x="5673" y="5420"/>
                  </a:lnTo>
                  <a:lnTo>
                    <a:pt x="5298" y="5375"/>
                  </a:lnTo>
                  <a:lnTo>
                    <a:pt x="4932" y="5326"/>
                  </a:lnTo>
                  <a:lnTo>
                    <a:pt x="4573" y="5271"/>
                  </a:lnTo>
                  <a:lnTo>
                    <a:pt x="4226" y="5209"/>
                  </a:lnTo>
                  <a:lnTo>
                    <a:pt x="3888" y="5143"/>
                  </a:lnTo>
                  <a:lnTo>
                    <a:pt x="3560" y="5070"/>
                  </a:lnTo>
                  <a:lnTo>
                    <a:pt x="3243" y="4993"/>
                  </a:lnTo>
                  <a:lnTo>
                    <a:pt x="2939" y="4911"/>
                  </a:lnTo>
                  <a:lnTo>
                    <a:pt x="2646" y="4824"/>
                  </a:lnTo>
                  <a:lnTo>
                    <a:pt x="2365" y="4731"/>
                  </a:lnTo>
                  <a:lnTo>
                    <a:pt x="2097" y="4636"/>
                  </a:lnTo>
                  <a:lnTo>
                    <a:pt x="1844" y="4534"/>
                  </a:lnTo>
                  <a:lnTo>
                    <a:pt x="1604" y="4430"/>
                  </a:lnTo>
                  <a:lnTo>
                    <a:pt x="1379" y="4321"/>
                  </a:lnTo>
                  <a:lnTo>
                    <a:pt x="1169" y="4209"/>
                  </a:lnTo>
                  <a:lnTo>
                    <a:pt x="975" y="4092"/>
                  </a:lnTo>
                  <a:lnTo>
                    <a:pt x="796" y="3973"/>
                  </a:lnTo>
                  <a:lnTo>
                    <a:pt x="634" y="3850"/>
                  </a:lnTo>
                  <a:lnTo>
                    <a:pt x="489" y="3724"/>
                  </a:lnTo>
                  <a:lnTo>
                    <a:pt x="363" y="3596"/>
                  </a:lnTo>
                  <a:lnTo>
                    <a:pt x="253" y="3465"/>
                  </a:lnTo>
                  <a:lnTo>
                    <a:pt x="164" y="3330"/>
                  </a:lnTo>
                  <a:lnTo>
                    <a:pt x="93" y="3194"/>
                  </a:lnTo>
                  <a:lnTo>
                    <a:pt x="41" y="3056"/>
                  </a:lnTo>
                  <a:lnTo>
                    <a:pt x="10" y="2914"/>
                  </a:lnTo>
                  <a:lnTo>
                    <a:pt x="0" y="2772"/>
                  </a:lnTo>
                  <a:lnTo>
                    <a:pt x="10" y="2629"/>
                  </a:lnTo>
                  <a:lnTo>
                    <a:pt x="41" y="2488"/>
                  </a:lnTo>
                  <a:lnTo>
                    <a:pt x="93" y="2350"/>
                  </a:lnTo>
                  <a:lnTo>
                    <a:pt x="164" y="2214"/>
                  </a:lnTo>
                  <a:lnTo>
                    <a:pt x="253" y="2079"/>
                  </a:lnTo>
                  <a:lnTo>
                    <a:pt x="363" y="1948"/>
                  </a:lnTo>
                  <a:lnTo>
                    <a:pt x="489" y="1819"/>
                  </a:lnTo>
                  <a:lnTo>
                    <a:pt x="634" y="1694"/>
                  </a:lnTo>
                  <a:lnTo>
                    <a:pt x="796" y="1571"/>
                  </a:lnTo>
                  <a:lnTo>
                    <a:pt x="975" y="1451"/>
                  </a:lnTo>
                  <a:lnTo>
                    <a:pt x="1169" y="1335"/>
                  </a:lnTo>
                  <a:lnTo>
                    <a:pt x="1379" y="1223"/>
                  </a:lnTo>
                  <a:lnTo>
                    <a:pt x="1604" y="1114"/>
                  </a:lnTo>
                  <a:lnTo>
                    <a:pt x="1844" y="1010"/>
                  </a:lnTo>
                  <a:lnTo>
                    <a:pt x="2097" y="908"/>
                  </a:lnTo>
                  <a:lnTo>
                    <a:pt x="2365" y="813"/>
                  </a:lnTo>
                  <a:lnTo>
                    <a:pt x="2646" y="720"/>
                  </a:lnTo>
                  <a:lnTo>
                    <a:pt x="2939" y="633"/>
                  </a:lnTo>
                  <a:lnTo>
                    <a:pt x="3243" y="551"/>
                  </a:lnTo>
                  <a:lnTo>
                    <a:pt x="3560" y="473"/>
                  </a:lnTo>
                  <a:lnTo>
                    <a:pt x="3888" y="401"/>
                  </a:lnTo>
                  <a:lnTo>
                    <a:pt x="4226" y="335"/>
                  </a:lnTo>
                  <a:lnTo>
                    <a:pt x="4573" y="273"/>
                  </a:lnTo>
                  <a:lnTo>
                    <a:pt x="4932" y="218"/>
                  </a:lnTo>
                  <a:lnTo>
                    <a:pt x="5298" y="169"/>
                  </a:lnTo>
                  <a:lnTo>
                    <a:pt x="5673" y="125"/>
                  </a:lnTo>
                  <a:lnTo>
                    <a:pt x="6057" y="88"/>
                  </a:lnTo>
                  <a:lnTo>
                    <a:pt x="6447" y="57"/>
                  </a:lnTo>
                  <a:lnTo>
                    <a:pt x="6844" y="32"/>
                  </a:lnTo>
                  <a:lnTo>
                    <a:pt x="7248" y="15"/>
                  </a:lnTo>
                  <a:lnTo>
                    <a:pt x="7658" y="4"/>
                  </a:lnTo>
                  <a:lnTo>
                    <a:pt x="8073" y="0"/>
                  </a:lnTo>
                  <a:lnTo>
                    <a:pt x="8489" y="4"/>
                  </a:lnTo>
                  <a:lnTo>
                    <a:pt x="8898" y="15"/>
                  </a:lnTo>
                  <a:lnTo>
                    <a:pt x="9302" y="32"/>
                  </a:lnTo>
                  <a:lnTo>
                    <a:pt x="9699" y="57"/>
                  </a:lnTo>
                  <a:lnTo>
                    <a:pt x="10089" y="88"/>
                  </a:lnTo>
                  <a:lnTo>
                    <a:pt x="10473" y="125"/>
                  </a:lnTo>
                  <a:lnTo>
                    <a:pt x="10848" y="169"/>
                  </a:lnTo>
                  <a:lnTo>
                    <a:pt x="11214" y="218"/>
                  </a:lnTo>
                  <a:lnTo>
                    <a:pt x="11572" y="273"/>
                  </a:lnTo>
                  <a:lnTo>
                    <a:pt x="11920" y="335"/>
                  </a:lnTo>
                  <a:lnTo>
                    <a:pt x="12258" y="401"/>
                  </a:lnTo>
                  <a:lnTo>
                    <a:pt x="12586" y="473"/>
                  </a:lnTo>
                  <a:lnTo>
                    <a:pt x="12903" y="551"/>
                  </a:lnTo>
                  <a:lnTo>
                    <a:pt x="13207" y="633"/>
                  </a:lnTo>
                  <a:lnTo>
                    <a:pt x="13500" y="720"/>
                  </a:lnTo>
                  <a:lnTo>
                    <a:pt x="13781" y="813"/>
                  </a:lnTo>
                  <a:lnTo>
                    <a:pt x="14048" y="908"/>
                  </a:lnTo>
                  <a:lnTo>
                    <a:pt x="14302" y="1010"/>
                  </a:lnTo>
                  <a:lnTo>
                    <a:pt x="14542" y="1114"/>
                  </a:lnTo>
                  <a:lnTo>
                    <a:pt x="14767" y="1223"/>
                  </a:lnTo>
                  <a:lnTo>
                    <a:pt x="14977" y="1335"/>
                  </a:lnTo>
                  <a:lnTo>
                    <a:pt x="15171" y="1451"/>
                  </a:lnTo>
                  <a:lnTo>
                    <a:pt x="15350" y="1571"/>
                  </a:lnTo>
                  <a:lnTo>
                    <a:pt x="15512" y="1694"/>
                  </a:lnTo>
                  <a:lnTo>
                    <a:pt x="15657" y="1819"/>
                  </a:lnTo>
                  <a:lnTo>
                    <a:pt x="15783" y="1948"/>
                  </a:lnTo>
                  <a:lnTo>
                    <a:pt x="15892" y="2079"/>
                  </a:lnTo>
                  <a:lnTo>
                    <a:pt x="15982" y="2214"/>
                  </a:lnTo>
                  <a:lnTo>
                    <a:pt x="16053" y="2350"/>
                  </a:lnTo>
                  <a:lnTo>
                    <a:pt x="16105" y="2488"/>
                  </a:lnTo>
                  <a:lnTo>
                    <a:pt x="16136" y="2629"/>
                  </a:lnTo>
                  <a:lnTo>
                    <a:pt x="16146" y="2772"/>
                  </a:lnTo>
                  <a:close/>
                </a:path>
              </a:pathLst>
            </a:custGeom>
            <a:solidFill>
              <a:srgbClr val="009b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3962160" y="3769200"/>
              <a:ext cx="533160" cy="187920"/>
            </a:xfrm>
            <a:custGeom>
              <a:avLst/>
              <a:gdLst/>
              <a:ahLst/>
              <a:rect l="l" t="t" r="r" b="b"/>
              <a:pathLst>
                <a:path w="8172" h="2871">
                  <a:moveTo>
                    <a:pt x="0" y="2871"/>
                  </a:moveTo>
                  <a:lnTo>
                    <a:pt x="0" y="2871"/>
                  </a:lnTo>
                  <a:lnTo>
                    <a:pt x="209" y="2870"/>
                  </a:lnTo>
                  <a:lnTo>
                    <a:pt x="417" y="2867"/>
                  </a:lnTo>
                  <a:lnTo>
                    <a:pt x="623" y="2863"/>
                  </a:lnTo>
                  <a:lnTo>
                    <a:pt x="828" y="2856"/>
                  </a:lnTo>
                  <a:lnTo>
                    <a:pt x="1032" y="2849"/>
                  </a:lnTo>
                  <a:lnTo>
                    <a:pt x="1234" y="2838"/>
                  </a:lnTo>
                  <a:lnTo>
                    <a:pt x="1434" y="2827"/>
                  </a:lnTo>
                  <a:lnTo>
                    <a:pt x="1633" y="2814"/>
                  </a:lnTo>
                  <a:lnTo>
                    <a:pt x="1831" y="2799"/>
                  </a:lnTo>
                  <a:lnTo>
                    <a:pt x="2026" y="2783"/>
                  </a:lnTo>
                  <a:lnTo>
                    <a:pt x="2219" y="2764"/>
                  </a:lnTo>
                  <a:lnTo>
                    <a:pt x="2411" y="2745"/>
                  </a:lnTo>
                  <a:lnTo>
                    <a:pt x="2600" y="2724"/>
                  </a:lnTo>
                  <a:lnTo>
                    <a:pt x="2787" y="2702"/>
                  </a:lnTo>
                  <a:lnTo>
                    <a:pt x="2973" y="2677"/>
                  </a:lnTo>
                  <a:lnTo>
                    <a:pt x="3155" y="2652"/>
                  </a:lnTo>
                  <a:lnTo>
                    <a:pt x="3336" y="2625"/>
                  </a:lnTo>
                  <a:lnTo>
                    <a:pt x="3515" y="2596"/>
                  </a:lnTo>
                  <a:lnTo>
                    <a:pt x="3692" y="2566"/>
                  </a:lnTo>
                  <a:lnTo>
                    <a:pt x="3865" y="2535"/>
                  </a:lnTo>
                  <a:lnTo>
                    <a:pt x="4036" y="2502"/>
                  </a:lnTo>
                  <a:lnTo>
                    <a:pt x="4206" y="2467"/>
                  </a:lnTo>
                  <a:lnTo>
                    <a:pt x="4371" y="2432"/>
                  </a:lnTo>
                  <a:lnTo>
                    <a:pt x="4534" y="2394"/>
                  </a:lnTo>
                  <a:lnTo>
                    <a:pt x="4696" y="2356"/>
                  </a:lnTo>
                  <a:lnTo>
                    <a:pt x="4854" y="2317"/>
                  </a:lnTo>
                  <a:lnTo>
                    <a:pt x="5008" y="2276"/>
                  </a:lnTo>
                  <a:lnTo>
                    <a:pt x="5161" y="2234"/>
                  </a:lnTo>
                  <a:lnTo>
                    <a:pt x="5310" y="2190"/>
                  </a:lnTo>
                  <a:lnTo>
                    <a:pt x="5456" y="2146"/>
                  </a:lnTo>
                  <a:lnTo>
                    <a:pt x="5528" y="2123"/>
                  </a:lnTo>
                  <a:lnTo>
                    <a:pt x="5600" y="2100"/>
                  </a:lnTo>
                  <a:lnTo>
                    <a:pt x="5670" y="2076"/>
                  </a:lnTo>
                  <a:lnTo>
                    <a:pt x="5740" y="2054"/>
                  </a:lnTo>
                  <a:lnTo>
                    <a:pt x="5808" y="2029"/>
                  </a:lnTo>
                  <a:lnTo>
                    <a:pt x="5877" y="2004"/>
                  </a:lnTo>
                  <a:lnTo>
                    <a:pt x="5943" y="1981"/>
                  </a:lnTo>
                  <a:lnTo>
                    <a:pt x="6009" y="1956"/>
                  </a:lnTo>
                  <a:lnTo>
                    <a:pt x="6076" y="1931"/>
                  </a:lnTo>
                  <a:lnTo>
                    <a:pt x="6140" y="1906"/>
                  </a:lnTo>
                  <a:lnTo>
                    <a:pt x="6204" y="1880"/>
                  </a:lnTo>
                  <a:lnTo>
                    <a:pt x="6267" y="1854"/>
                  </a:lnTo>
                  <a:lnTo>
                    <a:pt x="6329" y="1828"/>
                  </a:lnTo>
                  <a:lnTo>
                    <a:pt x="6389" y="1801"/>
                  </a:lnTo>
                  <a:lnTo>
                    <a:pt x="6450" y="1775"/>
                  </a:lnTo>
                  <a:lnTo>
                    <a:pt x="6510" y="1748"/>
                  </a:lnTo>
                  <a:lnTo>
                    <a:pt x="6568" y="1720"/>
                  </a:lnTo>
                  <a:lnTo>
                    <a:pt x="6625" y="1694"/>
                  </a:lnTo>
                  <a:lnTo>
                    <a:pt x="6683" y="1666"/>
                  </a:lnTo>
                  <a:lnTo>
                    <a:pt x="6738" y="1637"/>
                  </a:lnTo>
                  <a:lnTo>
                    <a:pt x="6793" y="1610"/>
                  </a:lnTo>
                  <a:lnTo>
                    <a:pt x="6847" y="1581"/>
                  </a:lnTo>
                  <a:lnTo>
                    <a:pt x="6900" y="1552"/>
                  </a:lnTo>
                  <a:lnTo>
                    <a:pt x="6952" y="1523"/>
                  </a:lnTo>
                  <a:lnTo>
                    <a:pt x="7003" y="1494"/>
                  </a:lnTo>
                  <a:lnTo>
                    <a:pt x="7053" y="1464"/>
                  </a:lnTo>
                  <a:lnTo>
                    <a:pt x="7102" y="1434"/>
                  </a:lnTo>
                  <a:lnTo>
                    <a:pt x="7151" y="1405"/>
                  </a:lnTo>
                  <a:lnTo>
                    <a:pt x="7199" y="1374"/>
                  </a:lnTo>
                  <a:lnTo>
                    <a:pt x="7244" y="1344"/>
                  </a:lnTo>
                  <a:lnTo>
                    <a:pt x="7289" y="1313"/>
                  </a:lnTo>
                  <a:lnTo>
                    <a:pt x="7333" y="1281"/>
                  </a:lnTo>
                  <a:lnTo>
                    <a:pt x="7377" y="1251"/>
                  </a:lnTo>
                  <a:lnTo>
                    <a:pt x="7419" y="1219"/>
                  </a:lnTo>
                  <a:lnTo>
                    <a:pt x="7460" y="1187"/>
                  </a:lnTo>
                  <a:lnTo>
                    <a:pt x="7500" y="1155"/>
                  </a:lnTo>
                  <a:lnTo>
                    <a:pt x="7540" y="1124"/>
                  </a:lnTo>
                  <a:lnTo>
                    <a:pt x="7577" y="1091"/>
                  </a:lnTo>
                  <a:lnTo>
                    <a:pt x="7614" y="1058"/>
                  </a:lnTo>
                  <a:lnTo>
                    <a:pt x="7650" y="1025"/>
                  </a:lnTo>
                  <a:lnTo>
                    <a:pt x="7685" y="991"/>
                  </a:lnTo>
                  <a:lnTo>
                    <a:pt x="7718" y="958"/>
                  </a:lnTo>
                  <a:lnTo>
                    <a:pt x="7751" y="925"/>
                  </a:lnTo>
                  <a:lnTo>
                    <a:pt x="7783" y="891"/>
                  </a:lnTo>
                  <a:lnTo>
                    <a:pt x="7813" y="856"/>
                  </a:lnTo>
                  <a:lnTo>
                    <a:pt x="7842" y="822"/>
                  </a:lnTo>
                  <a:lnTo>
                    <a:pt x="7871" y="787"/>
                  </a:lnTo>
                  <a:lnTo>
                    <a:pt x="7897" y="752"/>
                  </a:lnTo>
                  <a:lnTo>
                    <a:pt x="7924" y="716"/>
                  </a:lnTo>
                  <a:lnTo>
                    <a:pt x="7948" y="682"/>
                  </a:lnTo>
                  <a:lnTo>
                    <a:pt x="7972" y="646"/>
                  </a:lnTo>
                  <a:lnTo>
                    <a:pt x="7993" y="609"/>
                  </a:lnTo>
                  <a:lnTo>
                    <a:pt x="8015" y="573"/>
                  </a:lnTo>
                  <a:lnTo>
                    <a:pt x="8034" y="536"/>
                  </a:lnTo>
                  <a:lnTo>
                    <a:pt x="8052" y="499"/>
                  </a:lnTo>
                  <a:lnTo>
                    <a:pt x="8070" y="462"/>
                  </a:lnTo>
                  <a:lnTo>
                    <a:pt x="8086" y="425"/>
                  </a:lnTo>
                  <a:lnTo>
                    <a:pt x="8100" y="387"/>
                  </a:lnTo>
                  <a:lnTo>
                    <a:pt x="8114" y="349"/>
                  </a:lnTo>
                  <a:lnTo>
                    <a:pt x="8126" y="311"/>
                  </a:lnTo>
                  <a:lnTo>
                    <a:pt x="8136" y="273"/>
                  </a:lnTo>
                  <a:lnTo>
                    <a:pt x="8145" y="234"/>
                  </a:lnTo>
                  <a:lnTo>
                    <a:pt x="8154" y="195"/>
                  </a:lnTo>
                  <a:lnTo>
                    <a:pt x="8161" y="156"/>
                  </a:lnTo>
                  <a:lnTo>
                    <a:pt x="8165" y="117"/>
                  </a:lnTo>
                  <a:lnTo>
                    <a:pt x="8169" y="78"/>
                  </a:lnTo>
                  <a:lnTo>
                    <a:pt x="8171" y="40"/>
                  </a:lnTo>
                  <a:lnTo>
                    <a:pt x="8172" y="0"/>
                  </a:lnTo>
                  <a:lnTo>
                    <a:pt x="7975" y="0"/>
                  </a:lnTo>
                  <a:lnTo>
                    <a:pt x="7975" y="32"/>
                  </a:lnTo>
                  <a:lnTo>
                    <a:pt x="7973" y="64"/>
                  </a:lnTo>
                  <a:lnTo>
                    <a:pt x="7970" y="96"/>
                  </a:lnTo>
                  <a:lnTo>
                    <a:pt x="7966" y="128"/>
                  </a:lnTo>
                  <a:lnTo>
                    <a:pt x="7961" y="161"/>
                  </a:lnTo>
                  <a:lnTo>
                    <a:pt x="7953" y="192"/>
                  </a:lnTo>
                  <a:lnTo>
                    <a:pt x="7946" y="223"/>
                  </a:lnTo>
                  <a:lnTo>
                    <a:pt x="7937" y="255"/>
                  </a:lnTo>
                  <a:lnTo>
                    <a:pt x="7928" y="287"/>
                  </a:lnTo>
                  <a:lnTo>
                    <a:pt x="7917" y="318"/>
                  </a:lnTo>
                  <a:lnTo>
                    <a:pt x="7903" y="350"/>
                  </a:lnTo>
                  <a:lnTo>
                    <a:pt x="7890" y="382"/>
                  </a:lnTo>
                  <a:lnTo>
                    <a:pt x="7876" y="414"/>
                  </a:lnTo>
                  <a:lnTo>
                    <a:pt x="7860" y="445"/>
                  </a:lnTo>
                  <a:lnTo>
                    <a:pt x="7843" y="476"/>
                  </a:lnTo>
                  <a:lnTo>
                    <a:pt x="7825" y="508"/>
                  </a:lnTo>
                  <a:lnTo>
                    <a:pt x="7805" y="539"/>
                  </a:lnTo>
                  <a:lnTo>
                    <a:pt x="7785" y="571"/>
                  </a:lnTo>
                  <a:lnTo>
                    <a:pt x="7763" y="602"/>
                  </a:lnTo>
                  <a:lnTo>
                    <a:pt x="7741" y="633"/>
                  </a:lnTo>
                  <a:lnTo>
                    <a:pt x="7716" y="664"/>
                  </a:lnTo>
                  <a:lnTo>
                    <a:pt x="7691" y="696"/>
                  </a:lnTo>
                  <a:lnTo>
                    <a:pt x="7664" y="727"/>
                  </a:lnTo>
                  <a:lnTo>
                    <a:pt x="7638" y="757"/>
                  </a:lnTo>
                  <a:lnTo>
                    <a:pt x="7609" y="788"/>
                  </a:lnTo>
                  <a:lnTo>
                    <a:pt x="7580" y="819"/>
                  </a:lnTo>
                  <a:lnTo>
                    <a:pt x="7548" y="850"/>
                  </a:lnTo>
                  <a:lnTo>
                    <a:pt x="7516" y="880"/>
                  </a:lnTo>
                  <a:lnTo>
                    <a:pt x="7482" y="911"/>
                  </a:lnTo>
                  <a:lnTo>
                    <a:pt x="7449" y="941"/>
                  </a:lnTo>
                  <a:lnTo>
                    <a:pt x="7413" y="972"/>
                  </a:lnTo>
                  <a:lnTo>
                    <a:pt x="7377" y="1001"/>
                  </a:lnTo>
                  <a:lnTo>
                    <a:pt x="7339" y="1032"/>
                  </a:lnTo>
                  <a:lnTo>
                    <a:pt x="7301" y="1062"/>
                  </a:lnTo>
                  <a:lnTo>
                    <a:pt x="7261" y="1092"/>
                  </a:lnTo>
                  <a:lnTo>
                    <a:pt x="7220" y="1120"/>
                  </a:lnTo>
                  <a:lnTo>
                    <a:pt x="7178" y="1150"/>
                  </a:lnTo>
                  <a:lnTo>
                    <a:pt x="7135" y="1180"/>
                  </a:lnTo>
                  <a:lnTo>
                    <a:pt x="7091" y="1209"/>
                  </a:lnTo>
                  <a:lnTo>
                    <a:pt x="7046" y="1237"/>
                  </a:lnTo>
                  <a:lnTo>
                    <a:pt x="7000" y="1266"/>
                  </a:lnTo>
                  <a:lnTo>
                    <a:pt x="6953" y="1295"/>
                  </a:lnTo>
                  <a:lnTo>
                    <a:pt x="6904" y="1322"/>
                  </a:lnTo>
                  <a:lnTo>
                    <a:pt x="6856" y="1351"/>
                  </a:lnTo>
                  <a:lnTo>
                    <a:pt x="6806" y="1379"/>
                  </a:lnTo>
                  <a:lnTo>
                    <a:pt x="6754" y="1407"/>
                  </a:lnTo>
                  <a:lnTo>
                    <a:pt x="6702" y="1434"/>
                  </a:lnTo>
                  <a:lnTo>
                    <a:pt x="6650" y="1461"/>
                  </a:lnTo>
                  <a:lnTo>
                    <a:pt x="6596" y="1489"/>
                  </a:lnTo>
                  <a:lnTo>
                    <a:pt x="6541" y="1515"/>
                  </a:lnTo>
                  <a:lnTo>
                    <a:pt x="6484" y="1542"/>
                  </a:lnTo>
                  <a:lnTo>
                    <a:pt x="6428" y="1569"/>
                  </a:lnTo>
                  <a:lnTo>
                    <a:pt x="6370" y="1594"/>
                  </a:lnTo>
                  <a:lnTo>
                    <a:pt x="6312" y="1621"/>
                  </a:lnTo>
                  <a:lnTo>
                    <a:pt x="6252" y="1647"/>
                  </a:lnTo>
                  <a:lnTo>
                    <a:pt x="6191" y="1671"/>
                  </a:lnTo>
                  <a:lnTo>
                    <a:pt x="6130" y="1697"/>
                  </a:lnTo>
                  <a:lnTo>
                    <a:pt x="6068" y="1721"/>
                  </a:lnTo>
                  <a:lnTo>
                    <a:pt x="6004" y="1747"/>
                  </a:lnTo>
                  <a:lnTo>
                    <a:pt x="5941" y="1771"/>
                  </a:lnTo>
                  <a:lnTo>
                    <a:pt x="5876" y="1795"/>
                  </a:lnTo>
                  <a:lnTo>
                    <a:pt x="5810" y="1819"/>
                  </a:lnTo>
                  <a:lnTo>
                    <a:pt x="5744" y="1842"/>
                  </a:lnTo>
                  <a:lnTo>
                    <a:pt x="5676" y="1866"/>
                  </a:lnTo>
                  <a:lnTo>
                    <a:pt x="5608" y="1890"/>
                  </a:lnTo>
                  <a:lnTo>
                    <a:pt x="5539" y="1912"/>
                  </a:lnTo>
                  <a:lnTo>
                    <a:pt x="5469" y="1935"/>
                  </a:lnTo>
                  <a:lnTo>
                    <a:pt x="5399" y="1957"/>
                  </a:lnTo>
                  <a:lnTo>
                    <a:pt x="5255" y="2001"/>
                  </a:lnTo>
                  <a:lnTo>
                    <a:pt x="5108" y="2043"/>
                  </a:lnTo>
                  <a:lnTo>
                    <a:pt x="4958" y="2084"/>
                  </a:lnTo>
                  <a:lnTo>
                    <a:pt x="4805" y="2125"/>
                  </a:lnTo>
                  <a:lnTo>
                    <a:pt x="4650" y="2164"/>
                  </a:lnTo>
                  <a:lnTo>
                    <a:pt x="4491" y="2202"/>
                  </a:lnTo>
                  <a:lnTo>
                    <a:pt x="4329" y="2238"/>
                  </a:lnTo>
                  <a:lnTo>
                    <a:pt x="4166" y="2274"/>
                  </a:lnTo>
                  <a:lnTo>
                    <a:pt x="3998" y="2307"/>
                  </a:lnTo>
                  <a:lnTo>
                    <a:pt x="3830" y="2340"/>
                  </a:lnTo>
                  <a:lnTo>
                    <a:pt x="3657" y="2371"/>
                  </a:lnTo>
                  <a:lnTo>
                    <a:pt x="3483" y="2401"/>
                  </a:lnTo>
                  <a:lnTo>
                    <a:pt x="3307" y="2429"/>
                  </a:lnTo>
                  <a:lnTo>
                    <a:pt x="3128" y="2456"/>
                  </a:lnTo>
                  <a:lnTo>
                    <a:pt x="2946" y="2481"/>
                  </a:lnTo>
                  <a:lnTo>
                    <a:pt x="2763" y="2505"/>
                  </a:lnTo>
                  <a:lnTo>
                    <a:pt x="2577" y="2528"/>
                  </a:lnTo>
                  <a:lnTo>
                    <a:pt x="2389" y="2549"/>
                  </a:lnTo>
                  <a:lnTo>
                    <a:pt x="2200" y="2569"/>
                  </a:lnTo>
                  <a:lnTo>
                    <a:pt x="2008" y="2586"/>
                  </a:lnTo>
                  <a:lnTo>
                    <a:pt x="1815" y="2602"/>
                  </a:lnTo>
                  <a:lnTo>
                    <a:pt x="1620" y="2617"/>
                  </a:lnTo>
                  <a:lnTo>
                    <a:pt x="1423" y="2630"/>
                  </a:lnTo>
                  <a:lnTo>
                    <a:pt x="1224" y="2641"/>
                  </a:lnTo>
                  <a:lnTo>
                    <a:pt x="1024" y="2651"/>
                  </a:lnTo>
                  <a:lnTo>
                    <a:pt x="822" y="2659"/>
                  </a:lnTo>
                  <a:lnTo>
                    <a:pt x="619" y="2665"/>
                  </a:lnTo>
                  <a:lnTo>
                    <a:pt x="414" y="2670"/>
                  </a:lnTo>
                  <a:lnTo>
                    <a:pt x="207" y="2672"/>
                  </a:lnTo>
                  <a:lnTo>
                    <a:pt x="0" y="2673"/>
                  </a:lnTo>
                  <a:lnTo>
                    <a:pt x="0" y="2673"/>
                  </a:lnTo>
                  <a:lnTo>
                    <a:pt x="0" y="2871"/>
                  </a:lnTo>
                  <a:lnTo>
                    <a:pt x="0" y="2871"/>
                  </a:lnTo>
                  <a:lnTo>
                    <a:pt x="0"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3429000" y="3769200"/>
              <a:ext cx="533160" cy="187920"/>
            </a:xfrm>
            <a:custGeom>
              <a:avLst/>
              <a:gdLst/>
              <a:ahLst/>
              <a:rect l="l" t="t" r="r" b="b"/>
              <a:pathLst>
                <a:path w="8172" h="2871">
                  <a:moveTo>
                    <a:pt x="0" y="0"/>
                  </a:moveTo>
                  <a:lnTo>
                    <a:pt x="0" y="0"/>
                  </a:lnTo>
                  <a:lnTo>
                    <a:pt x="1" y="40"/>
                  </a:lnTo>
                  <a:lnTo>
                    <a:pt x="3" y="78"/>
                  </a:lnTo>
                  <a:lnTo>
                    <a:pt x="7" y="117"/>
                  </a:lnTo>
                  <a:lnTo>
                    <a:pt x="11" y="156"/>
                  </a:lnTo>
                  <a:lnTo>
                    <a:pt x="18" y="195"/>
                  </a:lnTo>
                  <a:lnTo>
                    <a:pt x="27" y="234"/>
                  </a:lnTo>
                  <a:lnTo>
                    <a:pt x="36" y="273"/>
                  </a:lnTo>
                  <a:lnTo>
                    <a:pt x="46" y="311"/>
                  </a:lnTo>
                  <a:lnTo>
                    <a:pt x="58" y="349"/>
                  </a:lnTo>
                  <a:lnTo>
                    <a:pt x="72" y="387"/>
                  </a:lnTo>
                  <a:lnTo>
                    <a:pt x="86" y="425"/>
                  </a:lnTo>
                  <a:lnTo>
                    <a:pt x="102" y="462"/>
                  </a:lnTo>
                  <a:lnTo>
                    <a:pt x="118" y="499"/>
                  </a:lnTo>
                  <a:lnTo>
                    <a:pt x="138" y="536"/>
                  </a:lnTo>
                  <a:lnTo>
                    <a:pt x="157" y="573"/>
                  </a:lnTo>
                  <a:lnTo>
                    <a:pt x="179" y="609"/>
                  </a:lnTo>
                  <a:lnTo>
                    <a:pt x="200" y="646"/>
                  </a:lnTo>
                  <a:lnTo>
                    <a:pt x="224" y="682"/>
                  </a:lnTo>
                  <a:lnTo>
                    <a:pt x="248" y="716"/>
                  </a:lnTo>
                  <a:lnTo>
                    <a:pt x="275" y="751"/>
                  </a:lnTo>
                  <a:lnTo>
                    <a:pt x="301" y="787"/>
                  </a:lnTo>
                  <a:lnTo>
                    <a:pt x="330" y="822"/>
                  </a:lnTo>
                  <a:lnTo>
                    <a:pt x="359" y="856"/>
                  </a:lnTo>
                  <a:lnTo>
                    <a:pt x="389" y="891"/>
                  </a:lnTo>
                  <a:lnTo>
                    <a:pt x="421" y="925"/>
                  </a:lnTo>
                  <a:lnTo>
                    <a:pt x="454" y="958"/>
                  </a:lnTo>
                  <a:lnTo>
                    <a:pt x="486" y="991"/>
                  </a:lnTo>
                  <a:lnTo>
                    <a:pt x="522" y="1025"/>
                  </a:lnTo>
                  <a:lnTo>
                    <a:pt x="558" y="1058"/>
                  </a:lnTo>
                  <a:lnTo>
                    <a:pt x="595" y="1091"/>
                  </a:lnTo>
                  <a:lnTo>
                    <a:pt x="632" y="1124"/>
                  </a:lnTo>
                  <a:lnTo>
                    <a:pt x="672" y="1155"/>
                  </a:lnTo>
                  <a:lnTo>
                    <a:pt x="712" y="1187"/>
                  </a:lnTo>
                  <a:lnTo>
                    <a:pt x="753" y="1219"/>
                  </a:lnTo>
                  <a:lnTo>
                    <a:pt x="795" y="1251"/>
                  </a:lnTo>
                  <a:lnTo>
                    <a:pt x="838" y="1281"/>
                  </a:lnTo>
                  <a:lnTo>
                    <a:pt x="883" y="1313"/>
                  </a:lnTo>
                  <a:lnTo>
                    <a:pt x="928" y="1344"/>
                  </a:lnTo>
                  <a:lnTo>
                    <a:pt x="973" y="1374"/>
                  </a:lnTo>
                  <a:lnTo>
                    <a:pt x="1022" y="1405"/>
                  </a:lnTo>
                  <a:lnTo>
                    <a:pt x="1070" y="1434"/>
                  </a:lnTo>
                  <a:lnTo>
                    <a:pt x="1119" y="1464"/>
                  </a:lnTo>
                  <a:lnTo>
                    <a:pt x="1169" y="1494"/>
                  </a:lnTo>
                  <a:lnTo>
                    <a:pt x="1220" y="1523"/>
                  </a:lnTo>
                  <a:lnTo>
                    <a:pt x="1272" y="1552"/>
                  </a:lnTo>
                  <a:lnTo>
                    <a:pt x="1325" y="1581"/>
                  </a:lnTo>
                  <a:lnTo>
                    <a:pt x="1379" y="1610"/>
                  </a:lnTo>
                  <a:lnTo>
                    <a:pt x="1433" y="1637"/>
                  </a:lnTo>
                  <a:lnTo>
                    <a:pt x="1489" y="1666"/>
                  </a:lnTo>
                  <a:lnTo>
                    <a:pt x="1547" y="1694"/>
                  </a:lnTo>
                  <a:lnTo>
                    <a:pt x="1604" y="1720"/>
                  </a:lnTo>
                  <a:lnTo>
                    <a:pt x="1662" y="1748"/>
                  </a:lnTo>
                  <a:lnTo>
                    <a:pt x="1721" y="1775"/>
                  </a:lnTo>
                  <a:lnTo>
                    <a:pt x="1781" y="1801"/>
                  </a:lnTo>
                  <a:lnTo>
                    <a:pt x="1843" y="1828"/>
                  </a:lnTo>
                  <a:lnTo>
                    <a:pt x="1905" y="1854"/>
                  </a:lnTo>
                  <a:lnTo>
                    <a:pt x="1968" y="1880"/>
                  </a:lnTo>
                  <a:lnTo>
                    <a:pt x="2032" y="1906"/>
                  </a:lnTo>
                  <a:lnTo>
                    <a:pt x="2096" y="1931"/>
                  </a:lnTo>
                  <a:lnTo>
                    <a:pt x="2163" y="1956"/>
                  </a:lnTo>
                  <a:lnTo>
                    <a:pt x="2228" y="1981"/>
                  </a:lnTo>
                  <a:lnTo>
                    <a:pt x="2295" y="2004"/>
                  </a:lnTo>
                  <a:lnTo>
                    <a:pt x="2364" y="2029"/>
                  </a:lnTo>
                  <a:lnTo>
                    <a:pt x="2432" y="2054"/>
                  </a:lnTo>
                  <a:lnTo>
                    <a:pt x="2502" y="2076"/>
                  </a:lnTo>
                  <a:lnTo>
                    <a:pt x="2572" y="2100"/>
                  </a:lnTo>
                  <a:lnTo>
                    <a:pt x="2644" y="2123"/>
                  </a:lnTo>
                  <a:lnTo>
                    <a:pt x="2715" y="2146"/>
                  </a:lnTo>
                  <a:lnTo>
                    <a:pt x="2788" y="2169"/>
                  </a:lnTo>
                  <a:lnTo>
                    <a:pt x="2861" y="2190"/>
                  </a:lnTo>
                  <a:lnTo>
                    <a:pt x="2936" y="2212"/>
                  </a:lnTo>
                  <a:lnTo>
                    <a:pt x="3011" y="2234"/>
                  </a:lnTo>
                  <a:lnTo>
                    <a:pt x="3163" y="2276"/>
                  </a:lnTo>
                  <a:lnTo>
                    <a:pt x="3318" y="2317"/>
                  </a:lnTo>
                  <a:lnTo>
                    <a:pt x="3476" y="2356"/>
                  </a:lnTo>
                  <a:lnTo>
                    <a:pt x="3638" y="2394"/>
                  </a:lnTo>
                  <a:lnTo>
                    <a:pt x="3801" y="2432"/>
                  </a:lnTo>
                  <a:lnTo>
                    <a:pt x="3966" y="2467"/>
                  </a:lnTo>
                  <a:lnTo>
                    <a:pt x="4135" y="2502"/>
                  </a:lnTo>
                  <a:lnTo>
                    <a:pt x="4307" y="2535"/>
                  </a:lnTo>
                  <a:lnTo>
                    <a:pt x="4480" y="2566"/>
                  </a:lnTo>
                  <a:lnTo>
                    <a:pt x="4657" y="2596"/>
                  </a:lnTo>
                  <a:lnTo>
                    <a:pt x="4836" y="2625"/>
                  </a:lnTo>
                  <a:lnTo>
                    <a:pt x="5017" y="2652"/>
                  </a:lnTo>
                  <a:lnTo>
                    <a:pt x="5199" y="2677"/>
                  </a:lnTo>
                  <a:lnTo>
                    <a:pt x="5385" y="2702"/>
                  </a:lnTo>
                  <a:lnTo>
                    <a:pt x="5572" y="2724"/>
                  </a:lnTo>
                  <a:lnTo>
                    <a:pt x="5761" y="2745"/>
                  </a:lnTo>
                  <a:lnTo>
                    <a:pt x="5953" y="2764"/>
                  </a:lnTo>
                  <a:lnTo>
                    <a:pt x="6146" y="2783"/>
                  </a:lnTo>
                  <a:lnTo>
                    <a:pt x="6341" y="2799"/>
                  </a:lnTo>
                  <a:lnTo>
                    <a:pt x="6539" y="2814"/>
                  </a:lnTo>
                  <a:lnTo>
                    <a:pt x="6738" y="2827"/>
                  </a:lnTo>
                  <a:lnTo>
                    <a:pt x="6938" y="2838"/>
                  </a:lnTo>
                  <a:lnTo>
                    <a:pt x="7140" y="2849"/>
                  </a:lnTo>
                  <a:lnTo>
                    <a:pt x="7344" y="2856"/>
                  </a:lnTo>
                  <a:lnTo>
                    <a:pt x="7549" y="2863"/>
                  </a:lnTo>
                  <a:lnTo>
                    <a:pt x="7755" y="2867"/>
                  </a:lnTo>
                  <a:lnTo>
                    <a:pt x="7963" y="2870"/>
                  </a:lnTo>
                  <a:lnTo>
                    <a:pt x="8172" y="2871"/>
                  </a:lnTo>
                  <a:lnTo>
                    <a:pt x="8172" y="2673"/>
                  </a:lnTo>
                  <a:lnTo>
                    <a:pt x="7965" y="2672"/>
                  </a:lnTo>
                  <a:lnTo>
                    <a:pt x="7758" y="2670"/>
                  </a:lnTo>
                  <a:lnTo>
                    <a:pt x="7553" y="2665"/>
                  </a:lnTo>
                  <a:lnTo>
                    <a:pt x="7350" y="2659"/>
                  </a:lnTo>
                  <a:lnTo>
                    <a:pt x="7148" y="2651"/>
                  </a:lnTo>
                  <a:lnTo>
                    <a:pt x="6948" y="2641"/>
                  </a:lnTo>
                  <a:lnTo>
                    <a:pt x="6749" y="2630"/>
                  </a:lnTo>
                  <a:lnTo>
                    <a:pt x="6552" y="2617"/>
                  </a:lnTo>
                  <a:lnTo>
                    <a:pt x="6357" y="2602"/>
                  </a:lnTo>
                  <a:lnTo>
                    <a:pt x="6164" y="2586"/>
                  </a:lnTo>
                  <a:lnTo>
                    <a:pt x="5972" y="2569"/>
                  </a:lnTo>
                  <a:lnTo>
                    <a:pt x="5783" y="2549"/>
                  </a:lnTo>
                  <a:lnTo>
                    <a:pt x="5595" y="2528"/>
                  </a:lnTo>
                  <a:lnTo>
                    <a:pt x="5409" y="2505"/>
                  </a:lnTo>
                  <a:lnTo>
                    <a:pt x="5226" y="2481"/>
                  </a:lnTo>
                  <a:lnTo>
                    <a:pt x="5044" y="2456"/>
                  </a:lnTo>
                  <a:lnTo>
                    <a:pt x="4865" y="2429"/>
                  </a:lnTo>
                  <a:lnTo>
                    <a:pt x="4689" y="2401"/>
                  </a:lnTo>
                  <a:lnTo>
                    <a:pt x="4514" y="2371"/>
                  </a:lnTo>
                  <a:lnTo>
                    <a:pt x="4342" y="2340"/>
                  </a:lnTo>
                  <a:lnTo>
                    <a:pt x="4173" y="2307"/>
                  </a:lnTo>
                  <a:lnTo>
                    <a:pt x="4006" y="2274"/>
                  </a:lnTo>
                  <a:lnTo>
                    <a:pt x="3842" y="2238"/>
                  </a:lnTo>
                  <a:lnTo>
                    <a:pt x="3681" y="2202"/>
                  </a:lnTo>
                  <a:lnTo>
                    <a:pt x="3522" y="2164"/>
                  </a:lnTo>
                  <a:lnTo>
                    <a:pt x="3367" y="2125"/>
                  </a:lnTo>
                  <a:lnTo>
                    <a:pt x="3214" y="2084"/>
                  </a:lnTo>
                  <a:lnTo>
                    <a:pt x="3063" y="2043"/>
                  </a:lnTo>
                  <a:lnTo>
                    <a:pt x="2990" y="2023"/>
                  </a:lnTo>
                  <a:lnTo>
                    <a:pt x="2917" y="2001"/>
                  </a:lnTo>
                  <a:lnTo>
                    <a:pt x="2845" y="1980"/>
                  </a:lnTo>
                  <a:lnTo>
                    <a:pt x="2773" y="1957"/>
                  </a:lnTo>
                  <a:lnTo>
                    <a:pt x="2703" y="1935"/>
                  </a:lnTo>
                  <a:lnTo>
                    <a:pt x="2633" y="1912"/>
                  </a:lnTo>
                  <a:lnTo>
                    <a:pt x="2564" y="1890"/>
                  </a:lnTo>
                  <a:lnTo>
                    <a:pt x="2496" y="1866"/>
                  </a:lnTo>
                  <a:lnTo>
                    <a:pt x="2428" y="1842"/>
                  </a:lnTo>
                  <a:lnTo>
                    <a:pt x="2362" y="1819"/>
                  </a:lnTo>
                  <a:lnTo>
                    <a:pt x="2296" y="1795"/>
                  </a:lnTo>
                  <a:lnTo>
                    <a:pt x="2231" y="1771"/>
                  </a:lnTo>
                  <a:lnTo>
                    <a:pt x="2168" y="1747"/>
                  </a:lnTo>
                  <a:lnTo>
                    <a:pt x="2104" y="1721"/>
                  </a:lnTo>
                  <a:lnTo>
                    <a:pt x="2042" y="1697"/>
                  </a:lnTo>
                  <a:lnTo>
                    <a:pt x="1981" y="1671"/>
                  </a:lnTo>
                  <a:lnTo>
                    <a:pt x="1920" y="1647"/>
                  </a:lnTo>
                  <a:lnTo>
                    <a:pt x="1860" y="1621"/>
                  </a:lnTo>
                  <a:lnTo>
                    <a:pt x="1802" y="1594"/>
                  </a:lnTo>
                  <a:lnTo>
                    <a:pt x="1744" y="1569"/>
                  </a:lnTo>
                  <a:lnTo>
                    <a:pt x="1686" y="1542"/>
                  </a:lnTo>
                  <a:lnTo>
                    <a:pt x="1631" y="1515"/>
                  </a:lnTo>
                  <a:lnTo>
                    <a:pt x="1576" y="1489"/>
                  </a:lnTo>
                  <a:lnTo>
                    <a:pt x="1522" y="1461"/>
                  </a:lnTo>
                  <a:lnTo>
                    <a:pt x="1469" y="1434"/>
                  </a:lnTo>
                  <a:lnTo>
                    <a:pt x="1417" y="1407"/>
                  </a:lnTo>
                  <a:lnTo>
                    <a:pt x="1367" y="1379"/>
                  </a:lnTo>
                  <a:lnTo>
                    <a:pt x="1316" y="1351"/>
                  </a:lnTo>
                  <a:lnTo>
                    <a:pt x="1267" y="1322"/>
                  </a:lnTo>
                  <a:lnTo>
                    <a:pt x="1219" y="1295"/>
                  </a:lnTo>
                  <a:lnTo>
                    <a:pt x="1172" y="1266"/>
                  </a:lnTo>
                  <a:lnTo>
                    <a:pt x="1126" y="1237"/>
                  </a:lnTo>
                  <a:lnTo>
                    <a:pt x="1081" y="1209"/>
                  </a:lnTo>
                  <a:lnTo>
                    <a:pt x="1037" y="1179"/>
                  </a:lnTo>
                  <a:lnTo>
                    <a:pt x="994" y="1150"/>
                  </a:lnTo>
                  <a:lnTo>
                    <a:pt x="952" y="1120"/>
                  </a:lnTo>
                  <a:lnTo>
                    <a:pt x="911" y="1092"/>
                  </a:lnTo>
                  <a:lnTo>
                    <a:pt x="871" y="1062"/>
                  </a:lnTo>
                  <a:lnTo>
                    <a:pt x="833" y="1032"/>
                  </a:lnTo>
                  <a:lnTo>
                    <a:pt x="795" y="1001"/>
                  </a:lnTo>
                  <a:lnTo>
                    <a:pt x="759" y="972"/>
                  </a:lnTo>
                  <a:lnTo>
                    <a:pt x="723" y="941"/>
                  </a:lnTo>
                  <a:lnTo>
                    <a:pt x="690" y="911"/>
                  </a:lnTo>
                  <a:lnTo>
                    <a:pt x="656" y="880"/>
                  </a:lnTo>
                  <a:lnTo>
                    <a:pt x="624" y="850"/>
                  </a:lnTo>
                  <a:lnTo>
                    <a:pt x="592" y="819"/>
                  </a:lnTo>
                  <a:lnTo>
                    <a:pt x="563" y="788"/>
                  </a:lnTo>
                  <a:lnTo>
                    <a:pt x="534" y="757"/>
                  </a:lnTo>
                  <a:lnTo>
                    <a:pt x="507" y="727"/>
                  </a:lnTo>
                  <a:lnTo>
                    <a:pt x="480" y="696"/>
                  </a:lnTo>
                  <a:lnTo>
                    <a:pt x="456" y="664"/>
                  </a:lnTo>
                  <a:lnTo>
                    <a:pt x="431" y="633"/>
                  </a:lnTo>
                  <a:lnTo>
                    <a:pt x="409" y="602"/>
                  </a:lnTo>
                  <a:lnTo>
                    <a:pt x="387" y="571"/>
                  </a:lnTo>
                  <a:lnTo>
                    <a:pt x="367" y="539"/>
                  </a:lnTo>
                  <a:lnTo>
                    <a:pt x="347" y="508"/>
                  </a:lnTo>
                  <a:lnTo>
                    <a:pt x="329" y="476"/>
                  </a:lnTo>
                  <a:lnTo>
                    <a:pt x="312" y="445"/>
                  </a:lnTo>
                  <a:lnTo>
                    <a:pt x="296" y="414"/>
                  </a:lnTo>
                  <a:lnTo>
                    <a:pt x="281" y="382"/>
                  </a:lnTo>
                  <a:lnTo>
                    <a:pt x="268" y="350"/>
                  </a:lnTo>
                  <a:lnTo>
                    <a:pt x="255" y="318"/>
                  </a:lnTo>
                  <a:lnTo>
                    <a:pt x="244" y="287"/>
                  </a:lnTo>
                  <a:lnTo>
                    <a:pt x="235" y="255"/>
                  </a:lnTo>
                  <a:lnTo>
                    <a:pt x="226" y="223"/>
                  </a:lnTo>
                  <a:lnTo>
                    <a:pt x="218" y="192"/>
                  </a:lnTo>
                  <a:lnTo>
                    <a:pt x="211" y="161"/>
                  </a:lnTo>
                  <a:lnTo>
                    <a:pt x="206" y="128"/>
                  </a:lnTo>
                  <a:lnTo>
                    <a:pt x="202" y="96"/>
                  </a:lnTo>
                  <a:lnTo>
                    <a:pt x="199" y="64"/>
                  </a:lnTo>
                  <a:lnTo>
                    <a:pt x="197" y="32"/>
                  </a:lnTo>
                  <a:lnTo>
                    <a:pt x="197" y="0"/>
                  </a:lnTo>
                  <a:lnTo>
                    <a:pt x="197" y="0"/>
                  </a:lnTo>
                  <a:lnTo>
                    <a:pt x="0" y="0"/>
                  </a:lnTo>
                  <a:lnTo>
                    <a:pt x="0" y="0"/>
                  </a:lnTo>
                  <a:lnTo>
                    <a:pt x="0"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3429000" y="3581280"/>
              <a:ext cx="533160" cy="187920"/>
            </a:xfrm>
            <a:custGeom>
              <a:avLst/>
              <a:gdLst/>
              <a:ahLst/>
              <a:rect l="l" t="t" r="r" b="b"/>
              <a:pathLst>
                <a:path w="8172" h="2871">
                  <a:moveTo>
                    <a:pt x="8172" y="0"/>
                  </a:moveTo>
                  <a:lnTo>
                    <a:pt x="8172" y="0"/>
                  </a:lnTo>
                  <a:lnTo>
                    <a:pt x="7963" y="1"/>
                  </a:lnTo>
                  <a:lnTo>
                    <a:pt x="7755" y="4"/>
                  </a:lnTo>
                  <a:lnTo>
                    <a:pt x="7549" y="8"/>
                  </a:lnTo>
                  <a:lnTo>
                    <a:pt x="7344" y="14"/>
                  </a:lnTo>
                  <a:lnTo>
                    <a:pt x="7140" y="23"/>
                  </a:lnTo>
                  <a:lnTo>
                    <a:pt x="6938" y="33"/>
                  </a:lnTo>
                  <a:lnTo>
                    <a:pt x="6738" y="44"/>
                  </a:lnTo>
                  <a:lnTo>
                    <a:pt x="6539" y="56"/>
                  </a:lnTo>
                  <a:lnTo>
                    <a:pt x="6341" y="72"/>
                  </a:lnTo>
                  <a:lnTo>
                    <a:pt x="6146" y="88"/>
                  </a:lnTo>
                  <a:lnTo>
                    <a:pt x="5953" y="106"/>
                  </a:lnTo>
                  <a:lnTo>
                    <a:pt x="5761" y="125"/>
                  </a:lnTo>
                  <a:lnTo>
                    <a:pt x="5572" y="147"/>
                  </a:lnTo>
                  <a:lnTo>
                    <a:pt x="5385" y="169"/>
                  </a:lnTo>
                  <a:lnTo>
                    <a:pt x="5199" y="194"/>
                  </a:lnTo>
                  <a:lnTo>
                    <a:pt x="5017" y="219"/>
                  </a:lnTo>
                  <a:lnTo>
                    <a:pt x="4836" y="246"/>
                  </a:lnTo>
                  <a:lnTo>
                    <a:pt x="4657" y="275"/>
                  </a:lnTo>
                  <a:lnTo>
                    <a:pt x="4480" y="305"/>
                  </a:lnTo>
                  <a:lnTo>
                    <a:pt x="4307" y="336"/>
                  </a:lnTo>
                  <a:lnTo>
                    <a:pt x="4135" y="369"/>
                  </a:lnTo>
                  <a:lnTo>
                    <a:pt x="3966" y="404"/>
                  </a:lnTo>
                  <a:lnTo>
                    <a:pt x="3801" y="439"/>
                  </a:lnTo>
                  <a:lnTo>
                    <a:pt x="3638" y="476"/>
                  </a:lnTo>
                  <a:lnTo>
                    <a:pt x="3476" y="515"/>
                  </a:lnTo>
                  <a:lnTo>
                    <a:pt x="3318" y="554"/>
                  </a:lnTo>
                  <a:lnTo>
                    <a:pt x="3163" y="595"/>
                  </a:lnTo>
                  <a:lnTo>
                    <a:pt x="3011" y="637"/>
                  </a:lnTo>
                  <a:lnTo>
                    <a:pt x="2861" y="681"/>
                  </a:lnTo>
                  <a:lnTo>
                    <a:pt x="2715" y="725"/>
                  </a:lnTo>
                  <a:lnTo>
                    <a:pt x="2572" y="771"/>
                  </a:lnTo>
                  <a:lnTo>
                    <a:pt x="2433" y="817"/>
                  </a:lnTo>
                  <a:lnTo>
                    <a:pt x="2364" y="842"/>
                  </a:lnTo>
                  <a:lnTo>
                    <a:pt x="2295" y="866"/>
                  </a:lnTo>
                  <a:lnTo>
                    <a:pt x="2228" y="890"/>
                  </a:lnTo>
                  <a:lnTo>
                    <a:pt x="2163" y="915"/>
                  </a:lnTo>
                  <a:lnTo>
                    <a:pt x="2096" y="940"/>
                  </a:lnTo>
                  <a:lnTo>
                    <a:pt x="2032" y="965"/>
                  </a:lnTo>
                  <a:lnTo>
                    <a:pt x="1968" y="991"/>
                  </a:lnTo>
                  <a:lnTo>
                    <a:pt x="1905" y="1017"/>
                  </a:lnTo>
                  <a:lnTo>
                    <a:pt x="1843" y="1043"/>
                  </a:lnTo>
                  <a:lnTo>
                    <a:pt x="1781" y="1070"/>
                  </a:lnTo>
                  <a:lnTo>
                    <a:pt x="1721" y="1096"/>
                  </a:lnTo>
                  <a:lnTo>
                    <a:pt x="1662" y="1123"/>
                  </a:lnTo>
                  <a:lnTo>
                    <a:pt x="1604" y="1151"/>
                  </a:lnTo>
                  <a:lnTo>
                    <a:pt x="1547" y="1177"/>
                  </a:lnTo>
                  <a:lnTo>
                    <a:pt x="1489" y="1205"/>
                  </a:lnTo>
                  <a:lnTo>
                    <a:pt x="1433" y="1234"/>
                  </a:lnTo>
                  <a:lnTo>
                    <a:pt x="1379" y="1261"/>
                  </a:lnTo>
                  <a:lnTo>
                    <a:pt x="1325" y="1290"/>
                  </a:lnTo>
                  <a:lnTo>
                    <a:pt x="1272" y="1319"/>
                  </a:lnTo>
                  <a:lnTo>
                    <a:pt x="1220" y="1348"/>
                  </a:lnTo>
                  <a:lnTo>
                    <a:pt x="1169" y="1377"/>
                  </a:lnTo>
                  <a:lnTo>
                    <a:pt x="1119" y="1406"/>
                  </a:lnTo>
                  <a:lnTo>
                    <a:pt x="1070" y="1437"/>
                  </a:lnTo>
                  <a:lnTo>
                    <a:pt x="1022" y="1467"/>
                  </a:lnTo>
                  <a:lnTo>
                    <a:pt x="973" y="1497"/>
                  </a:lnTo>
                  <a:lnTo>
                    <a:pt x="928" y="1527"/>
                  </a:lnTo>
                  <a:lnTo>
                    <a:pt x="883" y="1558"/>
                  </a:lnTo>
                  <a:lnTo>
                    <a:pt x="838" y="1590"/>
                  </a:lnTo>
                  <a:lnTo>
                    <a:pt x="795" y="1620"/>
                  </a:lnTo>
                  <a:lnTo>
                    <a:pt x="753" y="1652"/>
                  </a:lnTo>
                  <a:lnTo>
                    <a:pt x="712" y="1684"/>
                  </a:lnTo>
                  <a:lnTo>
                    <a:pt x="672" y="1716"/>
                  </a:lnTo>
                  <a:lnTo>
                    <a:pt x="632" y="1748"/>
                  </a:lnTo>
                  <a:lnTo>
                    <a:pt x="595" y="1780"/>
                  </a:lnTo>
                  <a:lnTo>
                    <a:pt x="558" y="1813"/>
                  </a:lnTo>
                  <a:lnTo>
                    <a:pt x="522" y="1846"/>
                  </a:lnTo>
                  <a:lnTo>
                    <a:pt x="486" y="1880"/>
                  </a:lnTo>
                  <a:lnTo>
                    <a:pt x="454" y="1913"/>
                  </a:lnTo>
                  <a:lnTo>
                    <a:pt x="421" y="1946"/>
                  </a:lnTo>
                  <a:lnTo>
                    <a:pt x="389" y="1980"/>
                  </a:lnTo>
                  <a:lnTo>
                    <a:pt x="359" y="2014"/>
                  </a:lnTo>
                  <a:lnTo>
                    <a:pt x="330" y="2049"/>
                  </a:lnTo>
                  <a:lnTo>
                    <a:pt x="301" y="2084"/>
                  </a:lnTo>
                  <a:lnTo>
                    <a:pt x="275" y="2119"/>
                  </a:lnTo>
                  <a:lnTo>
                    <a:pt x="248" y="2155"/>
                  </a:lnTo>
                  <a:lnTo>
                    <a:pt x="224" y="2190"/>
                  </a:lnTo>
                  <a:lnTo>
                    <a:pt x="200" y="2225"/>
                  </a:lnTo>
                  <a:lnTo>
                    <a:pt x="179" y="2262"/>
                  </a:lnTo>
                  <a:lnTo>
                    <a:pt x="157" y="2298"/>
                  </a:lnTo>
                  <a:lnTo>
                    <a:pt x="138" y="2335"/>
                  </a:lnTo>
                  <a:lnTo>
                    <a:pt x="118" y="2372"/>
                  </a:lnTo>
                  <a:lnTo>
                    <a:pt x="102" y="2409"/>
                  </a:lnTo>
                  <a:lnTo>
                    <a:pt x="86" y="2446"/>
                  </a:lnTo>
                  <a:lnTo>
                    <a:pt x="72" y="2484"/>
                  </a:lnTo>
                  <a:lnTo>
                    <a:pt x="58" y="2522"/>
                  </a:lnTo>
                  <a:lnTo>
                    <a:pt x="46" y="2560"/>
                  </a:lnTo>
                  <a:lnTo>
                    <a:pt x="36" y="2598"/>
                  </a:lnTo>
                  <a:lnTo>
                    <a:pt x="27" y="2637"/>
                  </a:lnTo>
                  <a:lnTo>
                    <a:pt x="18" y="2676"/>
                  </a:lnTo>
                  <a:lnTo>
                    <a:pt x="11" y="2714"/>
                  </a:lnTo>
                  <a:lnTo>
                    <a:pt x="7" y="2753"/>
                  </a:lnTo>
                  <a:lnTo>
                    <a:pt x="3" y="2793"/>
                  </a:lnTo>
                  <a:lnTo>
                    <a:pt x="1" y="2832"/>
                  </a:lnTo>
                  <a:lnTo>
                    <a:pt x="0" y="2871"/>
                  </a:lnTo>
                  <a:lnTo>
                    <a:pt x="197" y="2871"/>
                  </a:lnTo>
                  <a:lnTo>
                    <a:pt x="197" y="2839"/>
                  </a:lnTo>
                  <a:lnTo>
                    <a:pt x="199" y="2806"/>
                  </a:lnTo>
                  <a:lnTo>
                    <a:pt x="202" y="2775"/>
                  </a:lnTo>
                  <a:lnTo>
                    <a:pt x="206" y="2742"/>
                  </a:lnTo>
                  <a:lnTo>
                    <a:pt x="211" y="2711"/>
                  </a:lnTo>
                  <a:lnTo>
                    <a:pt x="218" y="2679"/>
                  </a:lnTo>
                  <a:lnTo>
                    <a:pt x="226" y="2647"/>
                  </a:lnTo>
                  <a:lnTo>
                    <a:pt x="235" y="2615"/>
                  </a:lnTo>
                  <a:lnTo>
                    <a:pt x="244" y="2584"/>
                  </a:lnTo>
                  <a:lnTo>
                    <a:pt x="255" y="2553"/>
                  </a:lnTo>
                  <a:lnTo>
                    <a:pt x="268" y="2521"/>
                  </a:lnTo>
                  <a:lnTo>
                    <a:pt x="281" y="2489"/>
                  </a:lnTo>
                  <a:lnTo>
                    <a:pt x="296" y="2457"/>
                  </a:lnTo>
                  <a:lnTo>
                    <a:pt x="312" y="2426"/>
                  </a:lnTo>
                  <a:lnTo>
                    <a:pt x="329" y="2395"/>
                  </a:lnTo>
                  <a:lnTo>
                    <a:pt x="347" y="2363"/>
                  </a:lnTo>
                  <a:lnTo>
                    <a:pt x="367" y="2332"/>
                  </a:lnTo>
                  <a:lnTo>
                    <a:pt x="387" y="2300"/>
                  </a:lnTo>
                  <a:lnTo>
                    <a:pt x="409" y="2269"/>
                  </a:lnTo>
                  <a:lnTo>
                    <a:pt x="431" y="2238"/>
                  </a:lnTo>
                  <a:lnTo>
                    <a:pt x="456" y="2207"/>
                  </a:lnTo>
                  <a:lnTo>
                    <a:pt x="480" y="2175"/>
                  </a:lnTo>
                  <a:lnTo>
                    <a:pt x="507" y="2144"/>
                  </a:lnTo>
                  <a:lnTo>
                    <a:pt x="534" y="2114"/>
                  </a:lnTo>
                  <a:lnTo>
                    <a:pt x="563" y="2083"/>
                  </a:lnTo>
                  <a:lnTo>
                    <a:pt x="592" y="2052"/>
                  </a:lnTo>
                  <a:lnTo>
                    <a:pt x="624" y="2021"/>
                  </a:lnTo>
                  <a:lnTo>
                    <a:pt x="656" y="1991"/>
                  </a:lnTo>
                  <a:lnTo>
                    <a:pt x="690" y="1960"/>
                  </a:lnTo>
                  <a:lnTo>
                    <a:pt x="723" y="1929"/>
                  </a:lnTo>
                  <a:lnTo>
                    <a:pt x="759" y="1899"/>
                  </a:lnTo>
                  <a:lnTo>
                    <a:pt x="795" y="1870"/>
                  </a:lnTo>
                  <a:lnTo>
                    <a:pt x="833" y="1839"/>
                  </a:lnTo>
                  <a:lnTo>
                    <a:pt x="871" y="1809"/>
                  </a:lnTo>
                  <a:lnTo>
                    <a:pt x="911" y="1779"/>
                  </a:lnTo>
                  <a:lnTo>
                    <a:pt x="952" y="1750"/>
                  </a:lnTo>
                  <a:lnTo>
                    <a:pt x="994" y="1721"/>
                  </a:lnTo>
                  <a:lnTo>
                    <a:pt x="1037" y="1691"/>
                  </a:lnTo>
                  <a:lnTo>
                    <a:pt x="1081" y="1662"/>
                  </a:lnTo>
                  <a:lnTo>
                    <a:pt x="1126" y="1634"/>
                  </a:lnTo>
                  <a:lnTo>
                    <a:pt x="1172" y="1605"/>
                  </a:lnTo>
                  <a:lnTo>
                    <a:pt x="1219" y="1576"/>
                  </a:lnTo>
                  <a:lnTo>
                    <a:pt x="1267" y="1549"/>
                  </a:lnTo>
                  <a:lnTo>
                    <a:pt x="1316" y="1520"/>
                  </a:lnTo>
                  <a:lnTo>
                    <a:pt x="1367" y="1492"/>
                  </a:lnTo>
                  <a:lnTo>
                    <a:pt x="1417" y="1464"/>
                  </a:lnTo>
                  <a:lnTo>
                    <a:pt x="1470" y="1437"/>
                  </a:lnTo>
                  <a:lnTo>
                    <a:pt x="1522" y="1410"/>
                  </a:lnTo>
                  <a:lnTo>
                    <a:pt x="1576" y="1382"/>
                  </a:lnTo>
                  <a:lnTo>
                    <a:pt x="1631" y="1356"/>
                  </a:lnTo>
                  <a:lnTo>
                    <a:pt x="1686" y="1329"/>
                  </a:lnTo>
                  <a:lnTo>
                    <a:pt x="1744" y="1302"/>
                  </a:lnTo>
                  <a:lnTo>
                    <a:pt x="1802" y="1277"/>
                  </a:lnTo>
                  <a:lnTo>
                    <a:pt x="1860" y="1250"/>
                  </a:lnTo>
                  <a:lnTo>
                    <a:pt x="1920" y="1225"/>
                  </a:lnTo>
                  <a:lnTo>
                    <a:pt x="1981" y="1199"/>
                  </a:lnTo>
                  <a:lnTo>
                    <a:pt x="2042" y="1174"/>
                  </a:lnTo>
                  <a:lnTo>
                    <a:pt x="2104" y="1150"/>
                  </a:lnTo>
                  <a:lnTo>
                    <a:pt x="2168" y="1124"/>
                  </a:lnTo>
                  <a:lnTo>
                    <a:pt x="2231" y="1100"/>
                  </a:lnTo>
                  <a:lnTo>
                    <a:pt x="2296" y="1076"/>
                  </a:lnTo>
                  <a:lnTo>
                    <a:pt x="2362" y="1051"/>
                  </a:lnTo>
                  <a:lnTo>
                    <a:pt x="2428" y="1028"/>
                  </a:lnTo>
                  <a:lnTo>
                    <a:pt x="2496" y="1005"/>
                  </a:lnTo>
                  <a:lnTo>
                    <a:pt x="2633" y="959"/>
                  </a:lnTo>
                  <a:lnTo>
                    <a:pt x="2773" y="914"/>
                  </a:lnTo>
                  <a:lnTo>
                    <a:pt x="2917" y="870"/>
                  </a:lnTo>
                  <a:lnTo>
                    <a:pt x="3065" y="828"/>
                  </a:lnTo>
                  <a:lnTo>
                    <a:pt x="3214" y="786"/>
                  </a:lnTo>
                  <a:lnTo>
                    <a:pt x="3367" y="746"/>
                  </a:lnTo>
                  <a:lnTo>
                    <a:pt x="3522" y="707"/>
                  </a:lnTo>
                  <a:lnTo>
                    <a:pt x="3681" y="669"/>
                  </a:lnTo>
                  <a:lnTo>
                    <a:pt x="3842" y="633"/>
                  </a:lnTo>
                  <a:lnTo>
                    <a:pt x="4006" y="597"/>
                  </a:lnTo>
                  <a:lnTo>
                    <a:pt x="4173" y="564"/>
                  </a:lnTo>
                  <a:lnTo>
                    <a:pt x="4342" y="531"/>
                  </a:lnTo>
                  <a:lnTo>
                    <a:pt x="4514" y="499"/>
                  </a:lnTo>
                  <a:lnTo>
                    <a:pt x="4689" y="470"/>
                  </a:lnTo>
                  <a:lnTo>
                    <a:pt x="4865" y="442"/>
                  </a:lnTo>
                  <a:lnTo>
                    <a:pt x="5044" y="414"/>
                  </a:lnTo>
                  <a:lnTo>
                    <a:pt x="5226" y="390"/>
                  </a:lnTo>
                  <a:lnTo>
                    <a:pt x="5409" y="365"/>
                  </a:lnTo>
                  <a:lnTo>
                    <a:pt x="5595" y="343"/>
                  </a:lnTo>
                  <a:lnTo>
                    <a:pt x="5783" y="322"/>
                  </a:lnTo>
                  <a:lnTo>
                    <a:pt x="5972" y="303"/>
                  </a:lnTo>
                  <a:lnTo>
                    <a:pt x="6164" y="285"/>
                  </a:lnTo>
                  <a:lnTo>
                    <a:pt x="6357" y="269"/>
                  </a:lnTo>
                  <a:lnTo>
                    <a:pt x="6552" y="254"/>
                  </a:lnTo>
                  <a:lnTo>
                    <a:pt x="6749" y="241"/>
                  </a:lnTo>
                  <a:lnTo>
                    <a:pt x="6948" y="230"/>
                  </a:lnTo>
                  <a:lnTo>
                    <a:pt x="7148" y="219"/>
                  </a:lnTo>
                  <a:lnTo>
                    <a:pt x="7350" y="212"/>
                  </a:lnTo>
                  <a:lnTo>
                    <a:pt x="7553" y="206"/>
                  </a:lnTo>
                  <a:lnTo>
                    <a:pt x="7758" y="201"/>
                  </a:lnTo>
                  <a:lnTo>
                    <a:pt x="7965" y="199"/>
                  </a:lnTo>
                  <a:lnTo>
                    <a:pt x="8172" y="198"/>
                  </a:lnTo>
                  <a:lnTo>
                    <a:pt x="8172" y="198"/>
                  </a:lnTo>
                  <a:lnTo>
                    <a:pt x="8172" y="0"/>
                  </a:lnTo>
                  <a:lnTo>
                    <a:pt x="8172" y="0"/>
                  </a:lnTo>
                  <a:lnTo>
                    <a:pt x="8172"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3962160" y="3581280"/>
              <a:ext cx="533160" cy="187920"/>
            </a:xfrm>
            <a:custGeom>
              <a:avLst/>
              <a:gdLst/>
              <a:ahLst/>
              <a:rect l="l" t="t" r="r" b="b"/>
              <a:pathLst>
                <a:path w="8172" h="2871">
                  <a:moveTo>
                    <a:pt x="8172" y="2871"/>
                  </a:moveTo>
                  <a:lnTo>
                    <a:pt x="8172" y="2871"/>
                  </a:lnTo>
                  <a:lnTo>
                    <a:pt x="8171" y="2832"/>
                  </a:lnTo>
                  <a:lnTo>
                    <a:pt x="8169" y="2793"/>
                  </a:lnTo>
                  <a:lnTo>
                    <a:pt x="8165" y="2753"/>
                  </a:lnTo>
                  <a:lnTo>
                    <a:pt x="8161" y="2714"/>
                  </a:lnTo>
                  <a:lnTo>
                    <a:pt x="8154" y="2676"/>
                  </a:lnTo>
                  <a:lnTo>
                    <a:pt x="8145" y="2637"/>
                  </a:lnTo>
                  <a:lnTo>
                    <a:pt x="8136" y="2598"/>
                  </a:lnTo>
                  <a:lnTo>
                    <a:pt x="8126" y="2560"/>
                  </a:lnTo>
                  <a:lnTo>
                    <a:pt x="8114" y="2522"/>
                  </a:lnTo>
                  <a:lnTo>
                    <a:pt x="8100" y="2484"/>
                  </a:lnTo>
                  <a:lnTo>
                    <a:pt x="8086" y="2446"/>
                  </a:lnTo>
                  <a:lnTo>
                    <a:pt x="8070" y="2409"/>
                  </a:lnTo>
                  <a:lnTo>
                    <a:pt x="8052" y="2372"/>
                  </a:lnTo>
                  <a:lnTo>
                    <a:pt x="8034" y="2335"/>
                  </a:lnTo>
                  <a:lnTo>
                    <a:pt x="8015" y="2298"/>
                  </a:lnTo>
                  <a:lnTo>
                    <a:pt x="7993" y="2262"/>
                  </a:lnTo>
                  <a:lnTo>
                    <a:pt x="7972" y="2225"/>
                  </a:lnTo>
                  <a:lnTo>
                    <a:pt x="7948" y="2190"/>
                  </a:lnTo>
                  <a:lnTo>
                    <a:pt x="7924" y="2155"/>
                  </a:lnTo>
                  <a:lnTo>
                    <a:pt x="7897" y="2119"/>
                  </a:lnTo>
                  <a:lnTo>
                    <a:pt x="7871" y="2084"/>
                  </a:lnTo>
                  <a:lnTo>
                    <a:pt x="7842" y="2049"/>
                  </a:lnTo>
                  <a:lnTo>
                    <a:pt x="7813" y="2014"/>
                  </a:lnTo>
                  <a:lnTo>
                    <a:pt x="7783" y="1980"/>
                  </a:lnTo>
                  <a:lnTo>
                    <a:pt x="7751" y="1946"/>
                  </a:lnTo>
                  <a:lnTo>
                    <a:pt x="7718" y="1913"/>
                  </a:lnTo>
                  <a:lnTo>
                    <a:pt x="7685" y="1880"/>
                  </a:lnTo>
                  <a:lnTo>
                    <a:pt x="7650" y="1846"/>
                  </a:lnTo>
                  <a:lnTo>
                    <a:pt x="7614" y="1813"/>
                  </a:lnTo>
                  <a:lnTo>
                    <a:pt x="7577" y="1780"/>
                  </a:lnTo>
                  <a:lnTo>
                    <a:pt x="7540" y="1748"/>
                  </a:lnTo>
                  <a:lnTo>
                    <a:pt x="7500" y="1716"/>
                  </a:lnTo>
                  <a:lnTo>
                    <a:pt x="7460" y="1684"/>
                  </a:lnTo>
                  <a:lnTo>
                    <a:pt x="7419" y="1652"/>
                  </a:lnTo>
                  <a:lnTo>
                    <a:pt x="7377" y="1620"/>
                  </a:lnTo>
                  <a:lnTo>
                    <a:pt x="7333" y="1590"/>
                  </a:lnTo>
                  <a:lnTo>
                    <a:pt x="7289" y="1558"/>
                  </a:lnTo>
                  <a:lnTo>
                    <a:pt x="7244" y="1527"/>
                  </a:lnTo>
                  <a:lnTo>
                    <a:pt x="7199" y="1497"/>
                  </a:lnTo>
                  <a:lnTo>
                    <a:pt x="7151" y="1467"/>
                  </a:lnTo>
                  <a:lnTo>
                    <a:pt x="7102" y="1437"/>
                  </a:lnTo>
                  <a:lnTo>
                    <a:pt x="7053" y="1406"/>
                  </a:lnTo>
                  <a:lnTo>
                    <a:pt x="7003" y="1377"/>
                  </a:lnTo>
                  <a:lnTo>
                    <a:pt x="6952" y="1348"/>
                  </a:lnTo>
                  <a:lnTo>
                    <a:pt x="6900" y="1319"/>
                  </a:lnTo>
                  <a:lnTo>
                    <a:pt x="6847" y="1290"/>
                  </a:lnTo>
                  <a:lnTo>
                    <a:pt x="6793" y="1261"/>
                  </a:lnTo>
                  <a:lnTo>
                    <a:pt x="6738" y="1234"/>
                  </a:lnTo>
                  <a:lnTo>
                    <a:pt x="6683" y="1205"/>
                  </a:lnTo>
                  <a:lnTo>
                    <a:pt x="6625" y="1177"/>
                  </a:lnTo>
                  <a:lnTo>
                    <a:pt x="6568" y="1151"/>
                  </a:lnTo>
                  <a:lnTo>
                    <a:pt x="6510" y="1123"/>
                  </a:lnTo>
                  <a:lnTo>
                    <a:pt x="6450" y="1096"/>
                  </a:lnTo>
                  <a:lnTo>
                    <a:pt x="6389" y="1070"/>
                  </a:lnTo>
                  <a:lnTo>
                    <a:pt x="6329" y="1043"/>
                  </a:lnTo>
                  <a:lnTo>
                    <a:pt x="6267" y="1017"/>
                  </a:lnTo>
                  <a:lnTo>
                    <a:pt x="6204" y="991"/>
                  </a:lnTo>
                  <a:lnTo>
                    <a:pt x="6140" y="965"/>
                  </a:lnTo>
                  <a:lnTo>
                    <a:pt x="6076" y="940"/>
                  </a:lnTo>
                  <a:lnTo>
                    <a:pt x="6009" y="915"/>
                  </a:lnTo>
                  <a:lnTo>
                    <a:pt x="5943" y="890"/>
                  </a:lnTo>
                  <a:lnTo>
                    <a:pt x="5877" y="866"/>
                  </a:lnTo>
                  <a:lnTo>
                    <a:pt x="5808" y="842"/>
                  </a:lnTo>
                  <a:lnTo>
                    <a:pt x="5739" y="817"/>
                  </a:lnTo>
                  <a:lnTo>
                    <a:pt x="5600" y="771"/>
                  </a:lnTo>
                  <a:lnTo>
                    <a:pt x="5456" y="725"/>
                  </a:lnTo>
                  <a:lnTo>
                    <a:pt x="5310" y="681"/>
                  </a:lnTo>
                  <a:lnTo>
                    <a:pt x="5161" y="637"/>
                  </a:lnTo>
                  <a:lnTo>
                    <a:pt x="5008" y="595"/>
                  </a:lnTo>
                  <a:lnTo>
                    <a:pt x="4854" y="554"/>
                  </a:lnTo>
                  <a:lnTo>
                    <a:pt x="4696" y="515"/>
                  </a:lnTo>
                  <a:lnTo>
                    <a:pt x="4534" y="476"/>
                  </a:lnTo>
                  <a:lnTo>
                    <a:pt x="4371" y="439"/>
                  </a:lnTo>
                  <a:lnTo>
                    <a:pt x="4206" y="404"/>
                  </a:lnTo>
                  <a:lnTo>
                    <a:pt x="4036" y="369"/>
                  </a:lnTo>
                  <a:lnTo>
                    <a:pt x="3865" y="336"/>
                  </a:lnTo>
                  <a:lnTo>
                    <a:pt x="3692" y="305"/>
                  </a:lnTo>
                  <a:lnTo>
                    <a:pt x="3515" y="275"/>
                  </a:lnTo>
                  <a:lnTo>
                    <a:pt x="3336" y="246"/>
                  </a:lnTo>
                  <a:lnTo>
                    <a:pt x="3155" y="219"/>
                  </a:lnTo>
                  <a:lnTo>
                    <a:pt x="2973" y="194"/>
                  </a:lnTo>
                  <a:lnTo>
                    <a:pt x="2787" y="169"/>
                  </a:lnTo>
                  <a:lnTo>
                    <a:pt x="2600" y="147"/>
                  </a:lnTo>
                  <a:lnTo>
                    <a:pt x="2411" y="125"/>
                  </a:lnTo>
                  <a:lnTo>
                    <a:pt x="2219" y="106"/>
                  </a:lnTo>
                  <a:lnTo>
                    <a:pt x="2026" y="88"/>
                  </a:lnTo>
                  <a:lnTo>
                    <a:pt x="1831" y="72"/>
                  </a:lnTo>
                  <a:lnTo>
                    <a:pt x="1633" y="56"/>
                  </a:lnTo>
                  <a:lnTo>
                    <a:pt x="1434" y="44"/>
                  </a:lnTo>
                  <a:lnTo>
                    <a:pt x="1234" y="33"/>
                  </a:lnTo>
                  <a:lnTo>
                    <a:pt x="1032" y="23"/>
                  </a:lnTo>
                  <a:lnTo>
                    <a:pt x="828" y="14"/>
                  </a:lnTo>
                  <a:lnTo>
                    <a:pt x="623" y="8"/>
                  </a:lnTo>
                  <a:lnTo>
                    <a:pt x="417" y="4"/>
                  </a:lnTo>
                  <a:lnTo>
                    <a:pt x="209" y="1"/>
                  </a:lnTo>
                  <a:lnTo>
                    <a:pt x="0" y="0"/>
                  </a:lnTo>
                  <a:lnTo>
                    <a:pt x="0" y="198"/>
                  </a:lnTo>
                  <a:lnTo>
                    <a:pt x="207" y="199"/>
                  </a:lnTo>
                  <a:lnTo>
                    <a:pt x="414" y="201"/>
                  </a:lnTo>
                  <a:lnTo>
                    <a:pt x="619" y="206"/>
                  </a:lnTo>
                  <a:lnTo>
                    <a:pt x="822" y="212"/>
                  </a:lnTo>
                  <a:lnTo>
                    <a:pt x="1024" y="219"/>
                  </a:lnTo>
                  <a:lnTo>
                    <a:pt x="1224" y="230"/>
                  </a:lnTo>
                  <a:lnTo>
                    <a:pt x="1423" y="241"/>
                  </a:lnTo>
                  <a:lnTo>
                    <a:pt x="1620" y="254"/>
                  </a:lnTo>
                  <a:lnTo>
                    <a:pt x="1815" y="269"/>
                  </a:lnTo>
                  <a:lnTo>
                    <a:pt x="2008" y="285"/>
                  </a:lnTo>
                  <a:lnTo>
                    <a:pt x="2200" y="303"/>
                  </a:lnTo>
                  <a:lnTo>
                    <a:pt x="2389" y="322"/>
                  </a:lnTo>
                  <a:lnTo>
                    <a:pt x="2577" y="343"/>
                  </a:lnTo>
                  <a:lnTo>
                    <a:pt x="2763" y="365"/>
                  </a:lnTo>
                  <a:lnTo>
                    <a:pt x="2946" y="390"/>
                  </a:lnTo>
                  <a:lnTo>
                    <a:pt x="3128" y="414"/>
                  </a:lnTo>
                  <a:lnTo>
                    <a:pt x="3307" y="442"/>
                  </a:lnTo>
                  <a:lnTo>
                    <a:pt x="3483" y="470"/>
                  </a:lnTo>
                  <a:lnTo>
                    <a:pt x="3657" y="499"/>
                  </a:lnTo>
                  <a:lnTo>
                    <a:pt x="3830" y="531"/>
                  </a:lnTo>
                  <a:lnTo>
                    <a:pt x="3998" y="564"/>
                  </a:lnTo>
                  <a:lnTo>
                    <a:pt x="4166" y="597"/>
                  </a:lnTo>
                  <a:lnTo>
                    <a:pt x="4329" y="633"/>
                  </a:lnTo>
                  <a:lnTo>
                    <a:pt x="4491" y="669"/>
                  </a:lnTo>
                  <a:lnTo>
                    <a:pt x="4650" y="707"/>
                  </a:lnTo>
                  <a:lnTo>
                    <a:pt x="4805" y="746"/>
                  </a:lnTo>
                  <a:lnTo>
                    <a:pt x="4958" y="786"/>
                  </a:lnTo>
                  <a:lnTo>
                    <a:pt x="5108" y="828"/>
                  </a:lnTo>
                  <a:lnTo>
                    <a:pt x="5255" y="870"/>
                  </a:lnTo>
                  <a:lnTo>
                    <a:pt x="5399" y="914"/>
                  </a:lnTo>
                  <a:lnTo>
                    <a:pt x="5539" y="959"/>
                  </a:lnTo>
                  <a:lnTo>
                    <a:pt x="5676" y="1005"/>
                  </a:lnTo>
                  <a:lnTo>
                    <a:pt x="5744" y="1028"/>
                  </a:lnTo>
                  <a:lnTo>
                    <a:pt x="5810" y="1051"/>
                  </a:lnTo>
                  <a:lnTo>
                    <a:pt x="5876" y="1076"/>
                  </a:lnTo>
                  <a:lnTo>
                    <a:pt x="5941" y="1100"/>
                  </a:lnTo>
                  <a:lnTo>
                    <a:pt x="6004" y="1124"/>
                  </a:lnTo>
                  <a:lnTo>
                    <a:pt x="6068" y="1150"/>
                  </a:lnTo>
                  <a:lnTo>
                    <a:pt x="6130" y="1174"/>
                  </a:lnTo>
                  <a:lnTo>
                    <a:pt x="6191" y="1199"/>
                  </a:lnTo>
                  <a:lnTo>
                    <a:pt x="6252" y="1225"/>
                  </a:lnTo>
                  <a:lnTo>
                    <a:pt x="6312" y="1250"/>
                  </a:lnTo>
                  <a:lnTo>
                    <a:pt x="6370" y="1277"/>
                  </a:lnTo>
                  <a:lnTo>
                    <a:pt x="6428" y="1302"/>
                  </a:lnTo>
                  <a:lnTo>
                    <a:pt x="6484" y="1329"/>
                  </a:lnTo>
                  <a:lnTo>
                    <a:pt x="6541" y="1356"/>
                  </a:lnTo>
                  <a:lnTo>
                    <a:pt x="6596" y="1382"/>
                  </a:lnTo>
                  <a:lnTo>
                    <a:pt x="6650" y="1410"/>
                  </a:lnTo>
                  <a:lnTo>
                    <a:pt x="6702" y="1437"/>
                  </a:lnTo>
                  <a:lnTo>
                    <a:pt x="6754" y="1464"/>
                  </a:lnTo>
                  <a:lnTo>
                    <a:pt x="6806" y="1492"/>
                  </a:lnTo>
                  <a:lnTo>
                    <a:pt x="6856" y="1520"/>
                  </a:lnTo>
                  <a:lnTo>
                    <a:pt x="6904" y="1549"/>
                  </a:lnTo>
                  <a:lnTo>
                    <a:pt x="6953" y="1576"/>
                  </a:lnTo>
                  <a:lnTo>
                    <a:pt x="7000" y="1605"/>
                  </a:lnTo>
                  <a:lnTo>
                    <a:pt x="7046" y="1634"/>
                  </a:lnTo>
                  <a:lnTo>
                    <a:pt x="7091" y="1662"/>
                  </a:lnTo>
                  <a:lnTo>
                    <a:pt x="7135" y="1691"/>
                  </a:lnTo>
                  <a:lnTo>
                    <a:pt x="7178" y="1721"/>
                  </a:lnTo>
                  <a:lnTo>
                    <a:pt x="7220" y="1750"/>
                  </a:lnTo>
                  <a:lnTo>
                    <a:pt x="7261" y="1779"/>
                  </a:lnTo>
                  <a:lnTo>
                    <a:pt x="7301" y="1809"/>
                  </a:lnTo>
                  <a:lnTo>
                    <a:pt x="7339" y="1839"/>
                  </a:lnTo>
                  <a:lnTo>
                    <a:pt x="7377" y="1870"/>
                  </a:lnTo>
                  <a:lnTo>
                    <a:pt x="7413" y="1899"/>
                  </a:lnTo>
                  <a:lnTo>
                    <a:pt x="7449" y="1929"/>
                  </a:lnTo>
                  <a:lnTo>
                    <a:pt x="7482" y="1960"/>
                  </a:lnTo>
                  <a:lnTo>
                    <a:pt x="7516" y="1991"/>
                  </a:lnTo>
                  <a:lnTo>
                    <a:pt x="7548" y="2021"/>
                  </a:lnTo>
                  <a:lnTo>
                    <a:pt x="7580" y="2052"/>
                  </a:lnTo>
                  <a:lnTo>
                    <a:pt x="7609" y="2083"/>
                  </a:lnTo>
                  <a:lnTo>
                    <a:pt x="7638" y="2114"/>
                  </a:lnTo>
                  <a:lnTo>
                    <a:pt x="7664" y="2144"/>
                  </a:lnTo>
                  <a:lnTo>
                    <a:pt x="7691" y="2175"/>
                  </a:lnTo>
                  <a:lnTo>
                    <a:pt x="7716" y="2207"/>
                  </a:lnTo>
                  <a:lnTo>
                    <a:pt x="7741" y="2238"/>
                  </a:lnTo>
                  <a:lnTo>
                    <a:pt x="7763" y="2269"/>
                  </a:lnTo>
                  <a:lnTo>
                    <a:pt x="7785" y="2300"/>
                  </a:lnTo>
                  <a:lnTo>
                    <a:pt x="7805" y="2332"/>
                  </a:lnTo>
                  <a:lnTo>
                    <a:pt x="7825" y="2363"/>
                  </a:lnTo>
                  <a:lnTo>
                    <a:pt x="7843" y="2395"/>
                  </a:lnTo>
                  <a:lnTo>
                    <a:pt x="7860" y="2426"/>
                  </a:lnTo>
                  <a:lnTo>
                    <a:pt x="7876" y="2457"/>
                  </a:lnTo>
                  <a:lnTo>
                    <a:pt x="7890" y="2489"/>
                  </a:lnTo>
                  <a:lnTo>
                    <a:pt x="7903" y="2521"/>
                  </a:lnTo>
                  <a:lnTo>
                    <a:pt x="7917" y="2553"/>
                  </a:lnTo>
                  <a:lnTo>
                    <a:pt x="7928" y="2584"/>
                  </a:lnTo>
                  <a:lnTo>
                    <a:pt x="7937" y="2615"/>
                  </a:lnTo>
                  <a:lnTo>
                    <a:pt x="7946" y="2647"/>
                  </a:lnTo>
                  <a:lnTo>
                    <a:pt x="7953" y="2679"/>
                  </a:lnTo>
                  <a:lnTo>
                    <a:pt x="7961" y="2711"/>
                  </a:lnTo>
                  <a:lnTo>
                    <a:pt x="7966" y="2742"/>
                  </a:lnTo>
                  <a:lnTo>
                    <a:pt x="7970" y="2775"/>
                  </a:lnTo>
                  <a:lnTo>
                    <a:pt x="7973" y="2806"/>
                  </a:lnTo>
                  <a:lnTo>
                    <a:pt x="7975" y="2839"/>
                  </a:lnTo>
                  <a:lnTo>
                    <a:pt x="7975" y="2871"/>
                  </a:lnTo>
                  <a:lnTo>
                    <a:pt x="7975" y="2871"/>
                  </a:lnTo>
                  <a:lnTo>
                    <a:pt x="8172" y="2871"/>
                  </a:lnTo>
                  <a:lnTo>
                    <a:pt x="8172" y="2871"/>
                  </a:lnTo>
                  <a:lnTo>
                    <a:pt x="8172"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a:off x="3975840" y="3637440"/>
              <a:ext cx="345600" cy="117000"/>
            </a:xfrm>
            <a:custGeom>
              <a:avLst/>
              <a:gdLst/>
              <a:ahLst/>
              <a:rect l="l" t="t" r="r" b="b"/>
              <a:pathLst>
                <a:path w="5313" h="1800">
                  <a:moveTo>
                    <a:pt x="0" y="1404"/>
                  </a:moveTo>
                  <a:lnTo>
                    <a:pt x="1189" y="1800"/>
                  </a:lnTo>
                  <a:lnTo>
                    <a:pt x="4001" y="676"/>
                  </a:lnTo>
                  <a:lnTo>
                    <a:pt x="5313" y="997"/>
                  </a:lnTo>
                  <a:lnTo>
                    <a:pt x="4621" y="0"/>
                  </a:lnTo>
                  <a:lnTo>
                    <a:pt x="1235" y="0"/>
                  </a:lnTo>
                  <a:lnTo>
                    <a:pt x="2650" y="346"/>
                  </a:lnTo>
                  <a:lnTo>
                    <a:pt x="0" y="140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3597840" y="3778200"/>
              <a:ext cx="345600" cy="117720"/>
            </a:xfrm>
            <a:custGeom>
              <a:avLst/>
              <a:gdLst/>
              <a:ahLst/>
              <a:rect l="l" t="t" r="r" b="b"/>
              <a:pathLst>
                <a:path w="5313" h="1800">
                  <a:moveTo>
                    <a:pt x="5313" y="395"/>
                  </a:moveTo>
                  <a:lnTo>
                    <a:pt x="4124" y="0"/>
                  </a:lnTo>
                  <a:lnTo>
                    <a:pt x="1313" y="1123"/>
                  </a:lnTo>
                  <a:lnTo>
                    <a:pt x="0" y="802"/>
                  </a:lnTo>
                  <a:lnTo>
                    <a:pt x="693" y="1800"/>
                  </a:lnTo>
                  <a:lnTo>
                    <a:pt x="4078" y="1800"/>
                  </a:lnTo>
                  <a:lnTo>
                    <a:pt x="2663" y="1453"/>
                  </a:lnTo>
                  <a:lnTo>
                    <a:pt x="5313" y="3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3616920" y="3632760"/>
              <a:ext cx="344880" cy="117000"/>
            </a:xfrm>
            <a:custGeom>
              <a:avLst/>
              <a:gdLst/>
              <a:ahLst/>
              <a:rect l="l" t="t" r="r" b="b"/>
              <a:pathLst>
                <a:path w="5313" h="1800">
                  <a:moveTo>
                    <a:pt x="0" y="396"/>
                  </a:moveTo>
                  <a:lnTo>
                    <a:pt x="1189" y="0"/>
                  </a:lnTo>
                  <a:lnTo>
                    <a:pt x="4002" y="1123"/>
                  </a:lnTo>
                  <a:lnTo>
                    <a:pt x="5313" y="803"/>
                  </a:lnTo>
                  <a:lnTo>
                    <a:pt x="4621" y="1800"/>
                  </a:lnTo>
                  <a:lnTo>
                    <a:pt x="1235" y="1800"/>
                  </a:lnTo>
                  <a:lnTo>
                    <a:pt x="2650" y="1453"/>
                  </a:lnTo>
                  <a:lnTo>
                    <a:pt x="0" y="3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3964320" y="3785760"/>
              <a:ext cx="347760" cy="117000"/>
            </a:xfrm>
            <a:custGeom>
              <a:avLst/>
              <a:gdLst/>
              <a:ahLst/>
              <a:rect l="l" t="t" r="r" b="b"/>
              <a:pathLst>
                <a:path w="5313" h="1800">
                  <a:moveTo>
                    <a:pt x="5313" y="1405"/>
                  </a:moveTo>
                  <a:lnTo>
                    <a:pt x="4124" y="1800"/>
                  </a:lnTo>
                  <a:lnTo>
                    <a:pt x="1312" y="677"/>
                  </a:lnTo>
                  <a:lnTo>
                    <a:pt x="0" y="998"/>
                  </a:lnTo>
                  <a:lnTo>
                    <a:pt x="692" y="0"/>
                  </a:lnTo>
                  <a:lnTo>
                    <a:pt x="4079" y="0"/>
                  </a:lnTo>
                  <a:lnTo>
                    <a:pt x="2663" y="347"/>
                  </a:lnTo>
                  <a:lnTo>
                    <a:pt x="5313" y="14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3983400" y="3642480"/>
              <a:ext cx="344880" cy="117000"/>
            </a:xfrm>
            <a:custGeom>
              <a:avLst/>
              <a:gdLst/>
              <a:ahLst/>
              <a:rect l="l" t="t" r="r" b="b"/>
              <a:pathLst>
                <a:path w="5313" h="1800">
                  <a:moveTo>
                    <a:pt x="0" y="1405"/>
                  </a:moveTo>
                  <a:lnTo>
                    <a:pt x="1190" y="1800"/>
                  </a:lnTo>
                  <a:lnTo>
                    <a:pt x="4002" y="677"/>
                  </a:lnTo>
                  <a:lnTo>
                    <a:pt x="5313" y="998"/>
                  </a:lnTo>
                  <a:lnTo>
                    <a:pt x="4622" y="0"/>
                  </a:lnTo>
                  <a:lnTo>
                    <a:pt x="1235" y="0"/>
                  </a:lnTo>
                  <a:lnTo>
                    <a:pt x="2650" y="346"/>
                  </a:lnTo>
                  <a:lnTo>
                    <a:pt x="0" y="14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3602520" y="3782880"/>
              <a:ext cx="347760" cy="117720"/>
            </a:xfrm>
            <a:custGeom>
              <a:avLst/>
              <a:gdLst/>
              <a:ahLst/>
              <a:rect l="l" t="t" r="r" b="b"/>
              <a:pathLst>
                <a:path w="5313" h="1800">
                  <a:moveTo>
                    <a:pt x="5313" y="395"/>
                  </a:moveTo>
                  <a:lnTo>
                    <a:pt x="4124" y="0"/>
                  </a:lnTo>
                  <a:lnTo>
                    <a:pt x="1312" y="1123"/>
                  </a:lnTo>
                  <a:lnTo>
                    <a:pt x="0" y="802"/>
                  </a:lnTo>
                  <a:lnTo>
                    <a:pt x="692" y="1800"/>
                  </a:lnTo>
                  <a:lnTo>
                    <a:pt x="4078" y="1800"/>
                  </a:lnTo>
                  <a:lnTo>
                    <a:pt x="2663" y="1454"/>
                  </a:lnTo>
                  <a:lnTo>
                    <a:pt x="5313"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3621240" y="3639600"/>
              <a:ext cx="347760" cy="117720"/>
            </a:xfrm>
            <a:custGeom>
              <a:avLst/>
              <a:gdLst/>
              <a:ahLst/>
              <a:rect l="l" t="t" r="r" b="b"/>
              <a:pathLst>
                <a:path w="5314" h="1799">
                  <a:moveTo>
                    <a:pt x="0" y="394"/>
                  </a:moveTo>
                  <a:lnTo>
                    <a:pt x="1190" y="0"/>
                  </a:lnTo>
                  <a:lnTo>
                    <a:pt x="4002" y="1122"/>
                  </a:lnTo>
                  <a:lnTo>
                    <a:pt x="5314" y="801"/>
                  </a:lnTo>
                  <a:lnTo>
                    <a:pt x="4622" y="1799"/>
                  </a:lnTo>
                  <a:lnTo>
                    <a:pt x="1235" y="1799"/>
                  </a:lnTo>
                  <a:lnTo>
                    <a:pt x="2650" y="1453"/>
                  </a:lnTo>
                  <a:lnTo>
                    <a:pt x="0" y="3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3971160" y="3792600"/>
              <a:ext cx="345600" cy="117000"/>
            </a:xfrm>
            <a:custGeom>
              <a:avLst/>
              <a:gdLst/>
              <a:ahLst/>
              <a:rect l="l" t="t" r="r" b="b"/>
              <a:pathLst>
                <a:path w="5313" h="1800">
                  <a:moveTo>
                    <a:pt x="5313" y="1405"/>
                  </a:moveTo>
                  <a:lnTo>
                    <a:pt x="4124" y="1800"/>
                  </a:lnTo>
                  <a:lnTo>
                    <a:pt x="1311" y="677"/>
                  </a:lnTo>
                  <a:lnTo>
                    <a:pt x="0" y="998"/>
                  </a:lnTo>
                  <a:lnTo>
                    <a:pt x="691" y="0"/>
                  </a:lnTo>
                  <a:lnTo>
                    <a:pt x="4078" y="0"/>
                  </a:lnTo>
                  <a:lnTo>
                    <a:pt x="2663" y="347"/>
                  </a:lnTo>
                  <a:lnTo>
                    <a:pt x="5313" y="14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moh </a:t>
            </a:r>
            <a:r>
              <a:rPr b="1" i="1" lang="en-US" sz="1800" spc="-1" strike="noStrike">
                <a:solidFill>
                  <a:srgbClr val="000000"/>
                </a:solidFill>
                <a:latin typeface="Courier New"/>
              </a:rPr>
              <a:t>filename</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474" name=""/>
          <p:cNvSpPr/>
          <p:nvPr/>
        </p:nvSpPr>
        <p:spPr>
          <a:xfrm>
            <a:off x="39672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475" name=""/>
          <p:cNvSpPr/>
          <p:nvPr/>
        </p:nvSpPr>
        <p:spPr>
          <a:xfrm>
            <a:off x="380880" y="297180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s MoH using the file specified in flash </a:t>
            </a:r>
            <a:endParaRPr b="0" lang="en-US" sz="2400" spc="-1" strike="noStrike">
              <a:solidFill>
                <a:srgbClr val="000000"/>
              </a:solidFill>
              <a:latin typeface="Arial"/>
            </a:endParaRPr>
          </a:p>
        </p:txBody>
      </p:sp>
      <p:sp>
        <p:nvSpPr>
          <p:cNvPr id="476" name=""/>
          <p:cNvSpPr/>
          <p:nvPr/>
        </p:nvSpPr>
        <p:spPr>
          <a:xfrm>
            <a:off x="450720" y="4154400"/>
            <a:ext cx="8159760" cy="6411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multicast moh </a:t>
            </a:r>
            <a:r>
              <a:rPr b="1" i="1" lang="en-US" sz="1800" spc="-1" strike="noStrike">
                <a:solidFill>
                  <a:srgbClr val="000000"/>
                </a:solidFill>
                <a:latin typeface="Courier New"/>
              </a:rPr>
              <a:t>ip-address</a:t>
            </a:r>
            <a:r>
              <a:rPr b="1" lang="en-US" sz="1800" spc="-1" strike="noStrike">
                <a:solidFill>
                  <a:srgbClr val="000000"/>
                </a:solidFill>
                <a:latin typeface="Courier New"/>
              </a:rPr>
              <a:t> </a:t>
            </a:r>
            <a:r>
              <a:rPr b="1" i="1" lang="en-US" sz="1800" spc="-1" strike="noStrike">
                <a:solidFill>
                  <a:srgbClr val="000000"/>
                </a:solidFill>
                <a:latin typeface="Courier New"/>
              </a:rPr>
              <a:t>port port-number</a:t>
            </a:r>
            <a:r>
              <a:rPr b="1" lang="en-US" sz="1800" spc="-1" strike="noStrike">
                <a:solidFill>
                  <a:srgbClr val="000000"/>
                </a:solidFill>
                <a:latin typeface="Courier New"/>
              </a:rPr>
              <a:t> [route </a:t>
            </a:r>
            <a:r>
              <a:rPr b="1" i="1" lang="en-US" sz="1800" spc="-1" strike="noStrike">
                <a:solidFill>
                  <a:srgbClr val="000000"/>
                </a:solidFill>
                <a:latin typeface="Courier New"/>
              </a:rPr>
              <a:t>ip-address-list]</a:t>
            </a:r>
            <a:endParaRPr b="0" lang="en-US" sz="1800" spc="-1" strike="noStrike">
              <a:solidFill>
                <a:srgbClr val="000000"/>
              </a:solidFill>
              <a:latin typeface="Arial"/>
            </a:endParaRPr>
          </a:p>
        </p:txBody>
      </p:sp>
      <p:sp>
        <p:nvSpPr>
          <p:cNvPr id="477" name=""/>
          <p:cNvSpPr/>
          <p:nvPr/>
        </p:nvSpPr>
        <p:spPr>
          <a:xfrm>
            <a:off x="396720" y="38098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478" name=""/>
          <p:cNvSpPr/>
          <p:nvPr/>
        </p:nvSpPr>
        <p:spPr>
          <a:xfrm>
            <a:off x="317520" y="48798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Specifies that the MoH file should be multicast using the parameters specified</a:t>
            </a:r>
            <a:endParaRPr b="0" lang="en-US" sz="2400" spc="-1" strike="noStrike">
              <a:solidFill>
                <a:srgbClr val="000000"/>
              </a:solidFill>
              <a:latin typeface="Arial"/>
            </a:endParaRPr>
          </a:p>
        </p:txBody>
      </p:sp>
      <p:sp>
        <p:nvSpPr>
          <p:cNvPr id="47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sp>
        <p:nvSpPr>
          <p:cNvPr id="480" name=""/>
          <p:cNvSpPr/>
          <p:nvPr/>
        </p:nvSpPr>
        <p:spPr>
          <a:xfrm>
            <a:off x="453600" y="1643040"/>
            <a:ext cx="4244760" cy="4388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file</a:t>
            </a:r>
            <a:endParaRPr b="0" lang="en-US" sz="2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grpSp>
        <p:nvGrpSpPr>
          <p:cNvPr id="482" name=""/>
          <p:cNvGrpSpPr/>
          <p:nvPr/>
        </p:nvGrpSpPr>
        <p:grpSpPr>
          <a:xfrm>
            <a:off x="3505320" y="2971800"/>
            <a:ext cx="1066320" cy="990360"/>
            <a:chOff x="3505320" y="2971800"/>
            <a:chExt cx="1066320" cy="990360"/>
          </a:xfrm>
        </p:grpSpPr>
        <p:sp>
          <p:nvSpPr>
            <p:cNvPr id="483" name=""/>
            <p:cNvSpPr/>
            <p:nvPr/>
          </p:nvSpPr>
          <p:spPr>
            <a:xfrm>
              <a:off x="3512160" y="3571560"/>
              <a:ext cx="1052640" cy="383040"/>
            </a:xfrm>
            <a:custGeom>
              <a:avLst/>
              <a:gdLst/>
              <a:ahLst/>
              <a:rect l="l" t="t" r="r" b="b"/>
              <a:pathLst>
                <a:path w="16146" h="5544">
                  <a:moveTo>
                    <a:pt x="16146" y="2772"/>
                  </a:moveTo>
                  <a:lnTo>
                    <a:pt x="16136" y="2915"/>
                  </a:lnTo>
                  <a:lnTo>
                    <a:pt x="16105" y="3056"/>
                  </a:lnTo>
                  <a:lnTo>
                    <a:pt x="16053" y="3194"/>
                  </a:lnTo>
                  <a:lnTo>
                    <a:pt x="15982" y="3330"/>
                  </a:lnTo>
                  <a:lnTo>
                    <a:pt x="15892" y="3465"/>
                  </a:lnTo>
                  <a:lnTo>
                    <a:pt x="15783" y="3596"/>
                  </a:lnTo>
                  <a:lnTo>
                    <a:pt x="15657" y="3725"/>
                  </a:lnTo>
                  <a:lnTo>
                    <a:pt x="15512" y="3850"/>
                  </a:lnTo>
                  <a:lnTo>
                    <a:pt x="15350" y="3973"/>
                  </a:lnTo>
                  <a:lnTo>
                    <a:pt x="15171" y="4093"/>
                  </a:lnTo>
                  <a:lnTo>
                    <a:pt x="14977" y="4209"/>
                  </a:lnTo>
                  <a:lnTo>
                    <a:pt x="14767" y="4322"/>
                  </a:lnTo>
                  <a:lnTo>
                    <a:pt x="14542" y="4431"/>
                  </a:lnTo>
                  <a:lnTo>
                    <a:pt x="14302" y="4535"/>
                  </a:lnTo>
                  <a:lnTo>
                    <a:pt x="14048" y="4636"/>
                  </a:lnTo>
                  <a:lnTo>
                    <a:pt x="13781" y="4732"/>
                  </a:lnTo>
                  <a:lnTo>
                    <a:pt x="13500" y="4824"/>
                  </a:lnTo>
                  <a:lnTo>
                    <a:pt x="13207" y="4911"/>
                  </a:lnTo>
                  <a:lnTo>
                    <a:pt x="12903" y="4993"/>
                  </a:lnTo>
                  <a:lnTo>
                    <a:pt x="12586" y="5071"/>
                  </a:lnTo>
                  <a:lnTo>
                    <a:pt x="12258" y="5143"/>
                  </a:lnTo>
                  <a:lnTo>
                    <a:pt x="11920" y="5209"/>
                  </a:lnTo>
                  <a:lnTo>
                    <a:pt x="11572" y="5271"/>
                  </a:lnTo>
                  <a:lnTo>
                    <a:pt x="11214" y="5326"/>
                  </a:lnTo>
                  <a:lnTo>
                    <a:pt x="10848" y="5375"/>
                  </a:lnTo>
                  <a:lnTo>
                    <a:pt x="10473" y="5419"/>
                  </a:lnTo>
                  <a:lnTo>
                    <a:pt x="10089" y="5456"/>
                  </a:lnTo>
                  <a:lnTo>
                    <a:pt x="9699" y="5488"/>
                  </a:lnTo>
                  <a:lnTo>
                    <a:pt x="9302" y="5512"/>
                  </a:lnTo>
                  <a:lnTo>
                    <a:pt x="8898" y="5530"/>
                  </a:lnTo>
                  <a:lnTo>
                    <a:pt x="8489" y="5540"/>
                  </a:lnTo>
                  <a:lnTo>
                    <a:pt x="8073" y="5544"/>
                  </a:lnTo>
                  <a:lnTo>
                    <a:pt x="7658" y="5540"/>
                  </a:lnTo>
                  <a:lnTo>
                    <a:pt x="7248" y="5530"/>
                  </a:lnTo>
                  <a:lnTo>
                    <a:pt x="6844" y="5512"/>
                  </a:lnTo>
                  <a:lnTo>
                    <a:pt x="6447" y="5488"/>
                  </a:lnTo>
                  <a:lnTo>
                    <a:pt x="6057" y="5456"/>
                  </a:lnTo>
                  <a:lnTo>
                    <a:pt x="5673" y="5419"/>
                  </a:lnTo>
                  <a:lnTo>
                    <a:pt x="5298" y="5375"/>
                  </a:lnTo>
                  <a:lnTo>
                    <a:pt x="4932" y="5326"/>
                  </a:lnTo>
                  <a:lnTo>
                    <a:pt x="4573" y="5271"/>
                  </a:lnTo>
                  <a:lnTo>
                    <a:pt x="4226" y="5209"/>
                  </a:lnTo>
                  <a:lnTo>
                    <a:pt x="3888" y="5143"/>
                  </a:lnTo>
                  <a:lnTo>
                    <a:pt x="3560" y="5071"/>
                  </a:lnTo>
                  <a:lnTo>
                    <a:pt x="3243" y="4993"/>
                  </a:lnTo>
                  <a:lnTo>
                    <a:pt x="2939" y="4911"/>
                  </a:lnTo>
                  <a:lnTo>
                    <a:pt x="2646" y="4824"/>
                  </a:lnTo>
                  <a:lnTo>
                    <a:pt x="2365" y="4732"/>
                  </a:lnTo>
                  <a:lnTo>
                    <a:pt x="2097" y="4636"/>
                  </a:lnTo>
                  <a:lnTo>
                    <a:pt x="1844" y="4535"/>
                  </a:lnTo>
                  <a:lnTo>
                    <a:pt x="1604" y="4431"/>
                  </a:lnTo>
                  <a:lnTo>
                    <a:pt x="1379" y="4322"/>
                  </a:lnTo>
                  <a:lnTo>
                    <a:pt x="1169" y="4209"/>
                  </a:lnTo>
                  <a:lnTo>
                    <a:pt x="975" y="4093"/>
                  </a:lnTo>
                  <a:lnTo>
                    <a:pt x="796" y="3973"/>
                  </a:lnTo>
                  <a:lnTo>
                    <a:pt x="634" y="3850"/>
                  </a:lnTo>
                  <a:lnTo>
                    <a:pt x="489" y="3725"/>
                  </a:lnTo>
                  <a:lnTo>
                    <a:pt x="363" y="3596"/>
                  </a:lnTo>
                  <a:lnTo>
                    <a:pt x="253" y="3465"/>
                  </a:lnTo>
                  <a:lnTo>
                    <a:pt x="164" y="3330"/>
                  </a:lnTo>
                  <a:lnTo>
                    <a:pt x="93" y="3194"/>
                  </a:lnTo>
                  <a:lnTo>
                    <a:pt x="41" y="3056"/>
                  </a:lnTo>
                  <a:lnTo>
                    <a:pt x="10" y="2915"/>
                  </a:lnTo>
                  <a:lnTo>
                    <a:pt x="0" y="2772"/>
                  </a:lnTo>
                  <a:lnTo>
                    <a:pt x="10" y="2630"/>
                  </a:lnTo>
                  <a:lnTo>
                    <a:pt x="41" y="2488"/>
                  </a:lnTo>
                  <a:lnTo>
                    <a:pt x="93" y="2350"/>
                  </a:lnTo>
                  <a:lnTo>
                    <a:pt x="164" y="2214"/>
                  </a:lnTo>
                  <a:lnTo>
                    <a:pt x="253" y="2079"/>
                  </a:lnTo>
                  <a:lnTo>
                    <a:pt x="363" y="1948"/>
                  </a:lnTo>
                  <a:lnTo>
                    <a:pt x="489" y="1820"/>
                  </a:lnTo>
                  <a:lnTo>
                    <a:pt x="634" y="1694"/>
                  </a:lnTo>
                  <a:lnTo>
                    <a:pt x="796" y="1571"/>
                  </a:lnTo>
                  <a:lnTo>
                    <a:pt x="975" y="1452"/>
                  </a:lnTo>
                  <a:lnTo>
                    <a:pt x="1169" y="1335"/>
                  </a:lnTo>
                  <a:lnTo>
                    <a:pt x="1379" y="1223"/>
                  </a:lnTo>
                  <a:lnTo>
                    <a:pt x="1604" y="1114"/>
                  </a:lnTo>
                  <a:lnTo>
                    <a:pt x="1844" y="1010"/>
                  </a:lnTo>
                  <a:lnTo>
                    <a:pt x="2097" y="909"/>
                  </a:lnTo>
                  <a:lnTo>
                    <a:pt x="2365" y="813"/>
                  </a:lnTo>
                  <a:lnTo>
                    <a:pt x="2646" y="720"/>
                  </a:lnTo>
                  <a:lnTo>
                    <a:pt x="2939" y="633"/>
                  </a:lnTo>
                  <a:lnTo>
                    <a:pt x="3243" y="551"/>
                  </a:lnTo>
                  <a:lnTo>
                    <a:pt x="3560" y="474"/>
                  </a:lnTo>
                  <a:lnTo>
                    <a:pt x="3888" y="401"/>
                  </a:lnTo>
                  <a:lnTo>
                    <a:pt x="4226" y="335"/>
                  </a:lnTo>
                  <a:lnTo>
                    <a:pt x="4573" y="273"/>
                  </a:lnTo>
                  <a:lnTo>
                    <a:pt x="4932" y="218"/>
                  </a:lnTo>
                  <a:lnTo>
                    <a:pt x="5298" y="169"/>
                  </a:lnTo>
                  <a:lnTo>
                    <a:pt x="5673" y="124"/>
                  </a:lnTo>
                  <a:lnTo>
                    <a:pt x="6057" y="88"/>
                  </a:lnTo>
                  <a:lnTo>
                    <a:pt x="6447" y="57"/>
                  </a:lnTo>
                  <a:lnTo>
                    <a:pt x="6844" y="32"/>
                  </a:lnTo>
                  <a:lnTo>
                    <a:pt x="7248" y="15"/>
                  </a:lnTo>
                  <a:lnTo>
                    <a:pt x="7658" y="3"/>
                  </a:lnTo>
                  <a:lnTo>
                    <a:pt x="8073" y="0"/>
                  </a:lnTo>
                  <a:lnTo>
                    <a:pt x="8489" y="3"/>
                  </a:lnTo>
                  <a:lnTo>
                    <a:pt x="8898" y="15"/>
                  </a:lnTo>
                  <a:lnTo>
                    <a:pt x="9302" y="32"/>
                  </a:lnTo>
                  <a:lnTo>
                    <a:pt x="9699" y="57"/>
                  </a:lnTo>
                  <a:lnTo>
                    <a:pt x="10089" y="88"/>
                  </a:lnTo>
                  <a:lnTo>
                    <a:pt x="10473" y="124"/>
                  </a:lnTo>
                  <a:lnTo>
                    <a:pt x="10848" y="169"/>
                  </a:lnTo>
                  <a:lnTo>
                    <a:pt x="11214" y="218"/>
                  </a:lnTo>
                  <a:lnTo>
                    <a:pt x="11572" y="273"/>
                  </a:lnTo>
                  <a:lnTo>
                    <a:pt x="11920" y="335"/>
                  </a:lnTo>
                  <a:lnTo>
                    <a:pt x="12258" y="401"/>
                  </a:lnTo>
                  <a:lnTo>
                    <a:pt x="12586" y="474"/>
                  </a:lnTo>
                  <a:lnTo>
                    <a:pt x="12903" y="551"/>
                  </a:lnTo>
                  <a:lnTo>
                    <a:pt x="13207" y="633"/>
                  </a:lnTo>
                  <a:lnTo>
                    <a:pt x="13500" y="720"/>
                  </a:lnTo>
                  <a:lnTo>
                    <a:pt x="13781" y="813"/>
                  </a:lnTo>
                  <a:lnTo>
                    <a:pt x="14048" y="909"/>
                  </a:lnTo>
                  <a:lnTo>
                    <a:pt x="14302" y="1010"/>
                  </a:lnTo>
                  <a:lnTo>
                    <a:pt x="14542" y="1114"/>
                  </a:lnTo>
                  <a:lnTo>
                    <a:pt x="14767" y="1223"/>
                  </a:lnTo>
                  <a:lnTo>
                    <a:pt x="14977" y="1335"/>
                  </a:lnTo>
                  <a:lnTo>
                    <a:pt x="15171" y="1452"/>
                  </a:lnTo>
                  <a:lnTo>
                    <a:pt x="15350" y="1571"/>
                  </a:lnTo>
                  <a:lnTo>
                    <a:pt x="15512" y="1694"/>
                  </a:lnTo>
                  <a:lnTo>
                    <a:pt x="15657" y="1820"/>
                  </a:lnTo>
                  <a:lnTo>
                    <a:pt x="15783" y="1948"/>
                  </a:lnTo>
                  <a:lnTo>
                    <a:pt x="15892" y="2079"/>
                  </a:lnTo>
                  <a:lnTo>
                    <a:pt x="15982" y="2214"/>
                  </a:lnTo>
                  <a:lnTo>
                    <a:pt x="16053" y="2350"/>
                  </a:lnTo>
                  <a:lnTo>
                    <a:pt x="16105" y="2488"/>
                  </a:lnTo>
                  <a:lnTo>
                    <a:pt x="16136" y="2630"/>
                  </a:lnTo>
                  <a:lnTo>
                    <a:pt x="16146" y="2772"/>
                  </a:lnTo>
                  <a:close/>
                </a:path>
              </a:pathLst>
            </a:custGeom>
            <a:solidFill>
              <a:srgbClr val="007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4038480" y="3763080"/>
              <a:ext cx="533160" cy="199080"/>
            </a:xfrm>
            <a:custGeom>
              <a:avLst/>
              <a:gdLst/>
              <a:ahLst/>
              <a:rect l="l" t="t" r="r" b="b"/>
              <a:pathLst>
                <a:path w="8172" h="2871">
                  <a:moveTo>
                    <a:pt x="0" y="2871"/>
                  </a:moveTo>
                  <a:lnTo>
                    <a:pt x="0" y="2871"/>
                  </a:lnTo>
                  <a:lnTo>
                    <a:pt x="209" y="2870"/>
                  </a:lnTo>
                  <a:lnTo>
                    <a:pt x="417" y="2867"/>
                  </a:lnTo>
                  <a:lnTo>
                    <a:pt x="623" y="2863"/>
                  </a:lnTo>
                  <a:lnTo>
                    <a:pt x="828" y="2857"/>
                  </a:lnTo>
                  <a:lnTo>
                    <a:pt x="1032" y="2848"/>
                  </a:lnTo>
                  <a:lnTo>
                    <a:pt x="1234" y="2838"/>
                  </a:lnTo>
                  <a:lnTo>
                    <a:pt x="1434" y="2827"/>
                  </a:lnTo>
                  <a:lnTo>
                    <a:pt x="1633" y="2815"/>
                  </a:lnTo>
                  <a:lnTo>
                    <a:pt x="1831" y="2799"/>
                  </a:lnTo>
                  <a:lnTo>
                    <a:pt x="2026" y="2784"/>
                  </a:lnTo>
                  <a:lnTo>
                    <a:pt x="2219" y="2765"/>
                  </a:lnTo>
                  <a:lnTo>
                    <a:pt x="2411" y="2746"/>
                  </a:lnTo>
                  <a:lnTo>
                    <a:pt x="2600" y="2724"/>
                  </a:lnTo>
                  <a:lnTo>
                    <a:pt x="2787" y="2702"/>
                  </a:lnTo>
                  <a:lnTo>
                    <a:pt x="2973" y="2677"/>
                  </a:lnTo>
                  <a:lnTo>
                    <a:pt x="3155" y="2652"/>
                  </a:lnTo>
                  <a:lnTo>
                    <a:pt x="3336" y="2625"/>
                  </a:lnTo>
                  <a:lnTo>
                    <a:pt x="3515" y="2596"/>
                  </a:lnTo>
                  <a:lnTo>
                    <a:pt x="3692" y="2566"/>
                  </a:lnTo>
                  <a:lnTo>
                    <a:pt x="3865" y="2535"/>
                  </a:lnTo>
                  <a:lnTo>
                    <a:pt x="4036" y="2502"/>
                  </a:lnTo>
                  <a:lnTo>
                    <a:pt x="4206" y="2467"/>
                  </a:lnTo>
                  <a:lnTo>
                    <a:pt x="4371" y="2432"/>
                  </a:lnTo>
                  <a:lnTo>
                    <a:pt x="4534" y="2395"/>
                  </a:lnTo>
                  <a:lnTo>
                    <a:pt x="4696" y="2356"/>
                  </a:lnTo>
                  <a:lnTo>
                    <a:pt x="4854" y="2317"/>
                  </a:lnTo>
                  <a:lnTo>
                    <a:pt x="5008" y="2276"/>
                  </a:lnTo>
                  <a:lnTo>
                    <a:pt x="5161" y="2234"/>
                  </a:lnTo>
                  <a:lnTo>
                    <a:pt x="5310" y="2191"/>
                  </a:lnTo>
                  <a:lnTo>
                    <a:pt x="5456" y="2146"/>
                  </a:lnTo>
                  <a:lnTo>
                    <a:pt x="5528" y="2123"/>
                  </a:lnTo>
                  <a:lnTo>
                    <a:pt x="5600" y="2101"/>
                  </a:lnTo>
                  <a:lnTo>
                    <a:pt x="5670" y="2077"/>
                  </a:lnTo>
                  <a:lnTo>
                    <a:pt x="5740" y="2054"/>
                  </a:lnTo>
                  <a:lnTo>
                    <a:pt x="5808" y="2029"/>
                  </a:lnTo>
                  <a:lnTo>
                    <a:pt x="5877" y="2005"/>
                  </a:lnTo>
                  <a:lnTo>
                    <a:pt x="5943" y="1981"/>
                  </a:lnTo>
                  <a:lnTo>
                    <a:pt x="6009" y="1956"/>
                  </a:lnTo>
                  <a:lnTo>
                    <a:pt x="6076" y="1931"/>
                  </a:lnTo>
                  <a:lnTo>
                    <a:pt x="6140" y="1906"/>
                  </a:lnTo>
                  <a:lnTo>
                    <a:pt x="6204" y="1880"/>
                  </a:lnTo>
                  <a:lnTo>
                    <a:pt x="6267" y="1855"/>
                  </a:lnTo>
                  <a:lnTo>
                    <a:pt x="6329" y="1828"/>
                  </a:lnTo>
                  <a:lnTo>
                    <a:pt x="6389" y="1801"/>
                  </a:lnTo>
                  <a:lnTo>
                    <a:pt x="6450" y="1775"/>
                  </a:lnTo>
                  <a:lnTo>
                    <a:pt x="6510" y="1748"/>
                  </a:lnTo>
                  <a:lnTo>
                    <a:pt x="6568" y="1720"/>
                  </a:lnTo>
                  <a:lnTo>
                    <a:pt x="6625" y="1694"/>
                  </a:lnTo>
                  <a:lnTo>
                    <a:pt x="6683" y="1666"/>
                  </a:lnTo>
                  <a:lnTo>
                    <a:pt x="6738" y="1638"/>
                  </a:lnTo>
                  <a:lnTo>
                    <a:pt x="6793" y="1610"/>
                  </a:lnTo>
                  <a:lnTo>
                    <a:pt x="6847" y="1581"/>
                  </a:lnTo>
                  <a:lnTo>
                    <a:pt x="6900" y="1552"/>
                  </a:lnTo>
                  <a:lnTo>
                    <a:pt x="6952" y="1523"/>
                  </a:lnTo>
                  <a:lnTo>
                    <a:pt x="7003" y="1494"/>
                  </a:lnTo>
                  <a:lnTo>
                    <a:pt x="7053" y="1465"/>
                  </a:lnTo>
                  <a:lnTo>
                    <a:pt x="7102" y="1435"/>
                  </a:lnTo>
                  <a:lnTo>
                    <a:pt x="7151" y="1404"/>
                  </a:lnTo>
                  <a:lnTo>
                    <a:pt x="7199" y="1375"/>
                  </a:lnTo>
                  <a:lnTo>
                    <a:pt x="7244" y="1344"/>
                  </a:lnTo>
                  <a:lnTo>
                    <a:pt x="7289" y="1313"/>
                  </a:lnTo>
                  <a:lnTo>
                    <a:pt x="7333" y="1282"/>
                  </a:lnTo>
                  <a:lnTo>
                    <a:pt x="7377" y="1251"/>
                  </a:lnTo>
                  <a:lnTo>
                    <a:pt x="7419" y="1220"/>
                  </a:lnTo>
                  <a:lnTo>
                    <a:pt x="7460" y="1187"/>
                  </a:lnTo>
                  <a:lnTo>
                    <a:pt x="7500" y="1155"/>
                  </a:lnTo>
                  <a:lnTo>
                    <a:pt x="7540" y="1123"/>
                  </a:lnTo>
                  <a:lnTo>
                    <a:pt x="7577" y="1091"/>
                  </a:lnTo>
                  <a:lnTo>
                    <a:pt x="7614" y="1058"/>
                  </a:lnTo>
                  <a:lnTo>
                    <a:pt x="7650" y="1025"/>
                  </a:lnTo>
                  <a:lnTo>
                    <a:pt x="7685" y="992"/>
                  </a:lnTo>
                  <a:lnTo>
                    <a:pt x="7718" y="958"/>
                  </a:lnTo>
                  <a:lnTo>
                    <a:pt x="7751" y="925"/>
                  </a:lnTo>
                  <a:lnTo>
                    <a:pt x="7783" y="891"/>
                  </a:lnTo>
                  <a:lnTo>
                    <a:pt x="7813" y="857"/>
                  </a:lnTo>
                  <a:lnTo>
                    <a:pt x="7842" y="822"/>
                  </a:lnTo>
                  <a:lnTo>
                    <a:pt x="7871" y="787"/>
                  </a:lnTo>
                  <a:lnTo>
                    <a:pt x="7897" y="752"/>
                  </a:lnTo>
                  <a:lnTo>
                    <a:pt x="7924" y="716"/>
                  </a:lnTo>
                  <a:lnTo>
                    <a:pt x="7948" y="681"/>
                  </a:lnTo>
                  <a:lnTo>
                    <a:pt x="7972" y="646"/>
                  </a:lnTo>
                  <a:lnTo>
                    <a:pt x="7993" y="610"/>
                  </a:lnTo>
                  <a:lnTo>
                    <a:pt x="8015" y="573"/>
                  </a:lnTo>
                  <a:lnTo>
                    <a:pt x="8034" y="536"/>
                  </a:lnTo>
                  <a:lnTo>
                    <a:pt x="8052" y="499"/>
                  </a:lnTo>
                  <a:lnTo>
                    <a:pt x="8070" y="462"/>
                  </a:lnTo>
                  <a:lnTo>
                    <a:pt x="8086" y="425"/>
                  </a:lnTo>
                  <a:lnTo>
                    <a:pt x="8100" y="387"/>
                  </a:lnTo>
                  <a:lnTo>
                    <a:pt x="8114" y="349"/>
                  </a:lnTo>
                  <a:lnTo>
                    <a:pt x="8126" y="311"/>
                  </a:lnTo>
                  <a:lnTo>
                    <a:pt x="8136" y="273"/>
                  </a:lnTo>
                  <a:lnTo>
                    <a:pt x="8145" y="234"/>
                  </a:lnTo>
                  <a:lnTo>
                    <a:pt x="8154" y="196"/>
                  </a:lnTo>
                  <a:lnTo>
                    <a:pt x="8161" y="157"/>
                  </a:lnTo>
                  <a:lnTo>
                    <a:pt x="8165" y="118"/>
                  </a:lnTo>
                  <a:lnTo>
                    <a:pt x="8169" y="78"/>
                  </a:lnTo>
                  <a:lnTo>
                    <a:pt x="8171" y="39"/>
                  </a:lnTo>
                  <a:lnTo>
                    <a:pt x="8172" y="0"/>
                  </a:lnTo>
                  <a:lnTo>
                    <a:pt x="7975" y="0"/>
                  </a:lnTo>
                  <a:lnTo>
                    <a:pt x="7975" y="32"/>
                  </a:lnTo>
                  <a:lnTo>
                    <a:pt x="7973" y="65"/>
                  </a:lnTo>
                  <a:lnTo>
                    <a:pt x="7970" y="97"/>
                  </a:lnTo>
                  <a:lnTo>
                    <a:pt x="7966" y="129"/>
                  </a:lnTo>
                  <a:lnTo>
                    <a:pt x="7961" y="160"/>
                  </a:lnTo>
                  <a:lnTo>
                    <a:pt x="7953" y="192"/>
                  </a:lnTo>
                  <a:lnTo>
                    <a:pt x="7946" y="224"/>
                  </a:lnTo>
                  <a:lnTo>
                    <a:pt x="7937" y="256"/>
                  </a:lnTo>
                  <a:lnTo>
                    <a:pt x="7928" y="287"/>
                  </a:lnTo>
                  <a:lnTo>
                    <a:pt x="7917" y="318"/>
                  </a:lnTo>
                  <a:lnTo>
                    <a:pt x="7903" y="350"/>
                  </a:lnTo>
                  <a:lnTo>
                    <a:pt x="7890" y="382"/>
                  </a:lnTo>
                  <a:lnTo>
                    <a:pt x="7876" y="414"/>
                  </a:lnTo>
                  <a:lnTo>
                    <a:pt x="7860" y="445"/>
                  </a:lnTo>
                  <a:lnTo>
                    <a:pt x="7843" y="476"/>
                  </a:lnTo>
                  <a:lnTo>
                    <a:pt x="7825" y="508"/>
                  </a:lnTo>
                  <a:lnTo>
                    <a:pt x="7805" y="539"/>
                  </a:lnTo>
                  <a:lnTo>
                    <a:pt x="7785" y="571"/>
                  </a:lnTo>
                  <a:lnTo>
                    <a:pt x="7763" y="602"/>
                  </a:lnTo>
                  <a:lnTo>
                    <a:pt x="7741" y="633"/>
                  </a:lnTo>
                  <a:lnTo>
                    <a:pt x="7716" y="665"/>
                  </a:lnTo>
                  <a:lnTo>
                    <a:pt x="7691" y="696"/>
                  </a:lnTo>
                  <a:lnTo>
                    <a:pt x="7664" y="727"/>
                  </a:lnTo>
                  <a:lnTo>
                    <a:pt x="7638" y="757"/>
                  </a:lnTo>
                  <a:lnTo>
                    <a:pt x="7609" y="788"/>
                  </a:lnTo>
                  <a:lnTo>
                    <a:pt x="7580" y="819"/>
                  </a:lnTo>
                  <a:lnTo>
                    <a:pt x="7548" y="851"/>
                  </a:lnTo>
                  <a:lnTo>
                    <a:pt x="7516" y="880"/>
                  </a:lnTo>
                  <a:lnTo>
                    <a:pt x="7482" y="911"/>
                  </a:lnTo>
                  <a:lnTo>
                    <a:pt x="7449" y="942"/>
                  </a:lnTo>
                  <a:lnTo>
                    <a:pt x="7413" y="972"/>
                  </a:lnTo>
                  <a:lnTo>
                    <a:pt x="7377" y="1001"/>
                  </a:lnTo>
                  <a:lnTo>
                    <a:pt x="7339" y="1032"/>
                  </a:lnTo>
                  <a:lnTo>
                    <a:pt x="7301" y="1062"/>
                  </a:lnTo>
                  <a:lnTo>
                    <a:pt x="7261" y="1092"/>
                  </a:lnTo>
                  <a:lnTo>
                    <a:pt x="7220" y="1121"/>
                  </a:lnTo>
                  <a:lnTo>
                    <a:pt x="7178" y="1150"/>
                  </a:lnTo>
                  <a:lnTo>
                    <a:pt x="7135" y="1180"/>
                  </a:lnTo>
                  <a:lnTo>
                    <a:pt x="7091" y="1209"/>
                  </a:lnTo>
                  <a:lnTo>
                    <a:pt x="7046" y="1237"/>
                  </a:lnTo>
                  <a:lnTo>
                    <a:pt x="7000" y="1266"/>
                  </a:lnTo>
                  <a:lnTo>
                    <a:pt x="6953" y="1295"/>
                  </a:lnTo>
                  <a:lnTo>
                    <a:pt x="6904" y="1323"/>
                  </a:lnTo>
                  <a:lnTo>
                    <a:pt x="6856" y="1351"/>
                  </a:lnTo>
                  <a:lnTo>
                    <a:pt x="6806" y="1379"/>
                  </a:lnTo>
                  <a:lnTo>
                    <a:pt x="6754" y="1407"/>
                  </a:lnTo>
                  <a:lnTo>
                    <a:pt x="6702" y="1434"/>
                  </a:lnTo>
                  <a:lnTo>
                    <a:pt x="6650" y="1462"/>
                  </a:lnTo>
                  <a:lnTo>
                    <a:pt x="6596" y="1489"/>
                  </a:lnTo>
                  <a:lnTo>
                    <a:pt x="6541" y="1515"/>
                  </a:lnTo>
                  <a:lnTo>
                    <a:pt x="6484" y="1542"/>
                  </a:lnTo>
                  <a:lnTo>
                    <a:pt x="6428" y="1569"/>
                  </a:lnTo>
                  <a:lnTo>
                    <a:pt x="6370" y="1595"/>
                  </a:lnTo>
                  <a:lnTo>
                    <a:pt x="6312" y="1621"/>
                  </a:lnTo>
                  <a:lnTo>
                    <a:pt x="6252" y="1646"/>
                  </a:lnTo>
                  <a:lnTo>
                    <a:pt x="6191" y="1672"/>
                  </a:lnTo>
                  <a:lnTo>
                    <a:pt x="6130" y="1697"/>
                  </a:lnTo>
                  <a:lnTo>
                    <a:pt x="6068" y="1721"/>
                  </a:lnTo>
                  <a:lnTo>
                    <a:pt x="6004" y="1747"/>
                  </a:lnTo>
                  <a:lnTo>
                    <a:pt x="5941" y="1772"/>
                  </a:lnTo>
                  <a:lnTo>
                    <a:pt x="5876" y="1795"/>
                  </a:lnTo>
                  <a:lnTo>
                    <a:pt x="5810" y="1820"/>
                  </a:lnTo>
                  <a:lnTo>
                    <a:pt x="5744" y="1843"/>
                  </a:lnTo>
                  <a:lnTo>
                    <a:pt x="5676" y="1866"/>
                  </a:lnTo>
                  <a:lnTo>
                    <a:pt x="5608" y="1890"/>
                  </a:lnTo>
                  <a:lnTo>
                    <a:pt x="5539" y="1912"/>
                  </a:lnTo>
                  <a:lnTo>
                    <a:pt x="5469" y="1936"/>
                  </a:lnTo>
                  <a:lnTo>
                    <a:pt x="5399" y="1957"/>
                  </a:lnTo>
                  <a:lnTo>
                    <a:pt x="5255" y="2001"/>
                  </a:lnTo>
                  <a:lnTo>
                    <a:pt x="5108" y="2043"/>
                  </a:lnTo>
                  <a:lnTo>
                    <a:pt x="4958" y="2085"/>
                  </a:lnTo>
                  <a:lnTo>
                    <a:pt x="4805" y="2125"/>
                  </a:lnTo>
                  <a:lnTo>
                    <a:pt x="4650" y="2164"/>
                  </a:lnTo>
                  <a:lnTo>
                    <a:pt x="4491" y="2202"/>
                  </a:lnTo>
                  <a:lnTo>
                    <a:pt x="4329" y="2238"/>
                  </a:lnTo>
                  <a:lnTo>
                    <a:pt x="4166" y="2274"/>
                  </a:lnTo>
                  <a:lnTo>
                    <a:pt x="3998" y="2308"/>
                  </a:lnTo>
                  <a:lnTo>
                    <a:pt x="3830" y="2341"/>
                  </a:lnTo>
                  <a:lnTo>
                    <a:pt x="3657" y="2372"/>
                  </a:lnTo>
                  <a:lnTo>
                    <a:pt x="3483" y="2401"/>
                  </a:lnTo>
                  <a:lnTo>
                    <a:pt x="3307" y="2429"/>
                  </a:lnTo>
                  <a:lnTo>
                    <a:pt x="3128" y="2457"/>
                  </a:lnTo>
                  <a:lnTo>
                    <a:pt x="2946" y="2482"/>
                  </a:lnTo>
                  <a:lnTo>
                    <a:pt x="2763" y="2506"/>
                  </a:lnTo>
                  <a:lnTo>
                    <a:pt x="2577" y="2528"/>
                  </a:lnTo>
                  <a:lnTo>
                    <a:pt x="2389" y="2549"/>
                  </a:lnTo>
                  <a:lnTo>
                    <a:pt x="2200" y="2568"/>
                  </a:lnTo>
                  <a:lnTo>
                    <a:pt x="2008" y="2586"/>
                  </a:lnTo>
                  <a:lnTo>
                    <a:pt x="1815" y="2602"/>
                  </a:lnTo>
                  <a:lnTo>
                    <a:pt x="1620" y="2617"/>
                  </a:lnTo>
                  <a:lnTo>
                    <a:pt x="1423" y="2630"/>
                  </a:lnTo>
                  <a:lnTo>
                    <a:pt x="1224" y="2641"/>
                  </a:lnTo>
                  <a:lnTo>
                    <a:pt x="1024" y="2652"/>
                  </a:lnTo>
                  <a:lnTo>
                    <a:pt x="822" y="2659"/>
                  </a:lnTo>
                  <a:lnTo>
                    <a:pt x="619" y="2665"/>
                  </a:lnTo>
                  <a:lnTo>
                    <a:pt x="414" y="2670"/>
                  </a:lnTo>
                  <a:lnTo>
                    <a:pt x="207" y="2672"/>
                  </a:lnTo>
                  <a:lnTo>
                    <a:pt x="0" y="2673"/>
                  </a:lnTo>
                  <a:lnTo>
                    <a:pt x="0" y="2673"/>
                  </a:lnTo>
                  <a:lnTo>
                    <a:pt x="0" y="2871"/>
                  </a:lnTo>
                  <a:lnTo>
                    <a:pt x="0" y="2871"/>
                  </a:lnTo>
                  <a:lnTo>
                    <a:pt x="0"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3505320" y="3763080"/>
              <a:ext cx="533160" cy="199080"/>
            </a:xfrm>
            <a:custGeom>
              <a:avLst/>
              <a:gdLst/>
              <a:ahLst/>
              <a:rect l="l" t="t" r="r" b="b"/>
              <a:pathLst>
                <a:path w="8172" h="2871">
                  <a:moveTo>
                    <a:pt x="0" y="0"/>
                  </a:moveTo>
                  <a:lnTo>
                    <a:pt x="0" y="0"/>
                  </a:lnTo>
                  <a:lnTo>
                    <a:pt x="1" y="39"/>
                  </a:lnTo>
                  <a:lnTo>
                    <a:pt x="3" y="78"/>
                  </a:lnTo>
                  <a:lnTo>
                    <a:pt x="7" y="118"/>
                  </a:lnTo>
                  <a:lnTo>
                    <a:pt x="11" y="157"/>
                  </a:lnTo>
                  <a:lnTo>
                    <a:pt x="18" y="196"/>
                  </a:lnTo>
                  <a:lnTo>
                    <a:pt x="27" y="234"/>
                  </a:lnTo>
                  <a:lnTo>
                    <a:pt x="36" y="273"/>
                  </a:lnTo>
                  <a:lnTo>
                    <a:pt x="46" y="311"/>
                  </a:lnTo>
                  <a:lnTo>
                    <a:pt x="58" y="349"/>
                  </a:lnTo>
                  <a:lnTo>
                    <a:pt x="72" y="387"/>
                  </a:lnTo>
                  <a:lnTo>
                    <a:pt x="86" y="425"/>
                  </a:lnTo>
                  <a:lnTo>
                    <a:pt x="102" y="462"/>
                  </a:lnTo>
                  <a:lnTo>
                    <a:pt x="118" y="499"/>
                  </a:lnTo>
                  <a:lnTo>
                    <a:pt x="138" y="536"/>
                  </a:lnTo>
                  <a:lnTo>
                    <a:pt x="157" y="573"/>
                  </a:lnTo>
                  <a:lnTo>
                    <a:pt x="179" y="610"/>
                  </a:lnTo>
                  <a:lnTo>
                    <a:pt x="200" y="646"/>
                  </a:lnTo>
                  <a:lnTo>
                    <a:pt x="224" y="681"/>
                  </a:lnTo>
                  <a:lnTo>
                    <a:pt x="248" y="716"/>
                  </a:lnTo>
                  <a:lnTo>
                    <a:pt x="275" y="752"/>
                  </a:lnTo>
                  <a:lnTo>
                    <a:pt x="301" y="787"/>
                  </a:lnTo>
                  <a:lnTo>
                    <a:pt x="330" y="822"/>
                  </a:lnTo>
                  <a:lnTo>
                    <a:pt x="359" y="857"/>
                  </a:lnTo>
                  <a:lnTo>
                    <a:pt x="389" y="891"/>
                  </a:lnTo>
                  <a:lnTo>
                    <a:pt x="421" y="925"/>
                  </a:lnTo>
                  <a:lnTo>
                    <a:pt x="454" y="958"/>
                  </a:lnTo>
                  <a:lnTo>
                    <a:pt x="486" y="992"/>
                  </a:lnTo>
                  <a:lnTo>
                    <a:pt x="522" y="1025"/>
                  </a:lnTo>
                  <a:lnTo>
                    <a:pt x="558" y="1058"/>
                  </a:lnTo>
                  <a:lnTo>
                    <a:pt x="595" y="1091"/>
                  </a:lnTo>
                  <a:lnTo>
                    <a:pt x="632" y="1123"/>
                  </a:lnTo>
                  <a:lnTo>
                    <a:pt x="672" y="1155"/>
                  </a:lnTo>
                  <a:lnTo>
                    <a:pt x="712" y="1187"/>
                  </a:lnTo>
                  <a:lnTo>
                    <a:pt x="753" y="1220"/>
                  </a:lnTo>
                  <a:lnTo>
                    <a:pt x="795" y="1251"/>
                  </a:lnTo>
                  <a:lnTo>
                    <a:pt x="838" y="1282"/>
                  </a:lnTo>
                  <a:lnTo>
                    <a:pt x="883" y="1313"/>
                  </a:lnTo>
                  <a:lnTo>
                    <a:pt x="928" y="1344"/>
                  </a:lnTo>
                  <a:lnTo>
                    <a:pt x="973" y="1375"/>
                  </a:lnTo>
                  <a:lnTo>
                    <a:pt x="1022" y="1404"/>
                  </a:lnTo>
                  <a:lnTo>
                    <a:pt x="1070" y="1435"/>
                  </a:lnTo>
                  <a:lnTo>
                    <a:pt x="1119" y="1465"/>
                  </a:lnTo>
                  <a:lnTo>
                    <a:pt x="1169" y="1494"/>
                  </a:lnTo>
                  <a:lnTo>
                    <a:pt x="1220" y="1523"/>
                  </a:lnTo>
                  <a:lnTo>
                    <a:pt x="1272" y="1552"/>
                  </a:lnTo>
                  <a:lnTo>
                    <a:pt x="1325" y="1581"/>
                  </a:lnTo>
                  <a:lnTo>
                    <a:pt x="1379" y="1610"/>
                  </a:lnTo>
                  <a:lnTo>
                    <a:pt x="1433" y="1638"/>
                  </a:lnTo>
                  <a:lnTo>
                    <a:pt x="1489" y="1666"/>
                  </a:lnTo>
                  <a:lnTo>
                    <a:pt x="1547" y="1694"/>
                  </a:lnTo>
                  <a:lnTo>
                    <a:pt x="1604" y="1720"/>
                  </a:lnTo>
                  <a:lnTo>
                    <a:pt x="1662" y="1748"/>
                  </a:lnTo>
                  <a:lnTo>
                    <a:pt x="1721" y="1775"/>
                  </a:lnTo>
                  <a:lnTo>
                    <a:pt x="1781" y="1801"/>
                  </a:lnTo>
                  <a:lnTo>
                    <a:pt x="1843" y="1828"/>
                  </a:lnTo>
                  <a:lnTo>
                    <a:pt x="1905" y="1855"/>
                  </a:lnTo>
                  <a:lnTo>
                    <a:pt x="1968" y="1880"/>
                  </a:lnTo>
                  <a:lnTo>
                    <a:pt x="2032" y="1906"/>
                  </a:lnTo>
                  <a:lnTo>
                    <a:pt x="2096" y="1931"/>
                  </a:lnTo>
                  <a:lnTo>
                    <a:pt x="2163" y="1956"/>
                  </a:lnTo>
                  <a:lnTo>
                    <a:pt x="2228" y="1981"/>
                  </a:lnTo>
                  <a:lnTo>
                    <a:pt x="2295" y="2005"/>
                  </a:lnTo>
                  <a:lnTo>
                    <a:pt x="2364" y="2029"/>
                  </a:lnTo>
                  <a:lnTo>
                    <a:pt x="2432" y="2054"/>
                  </a:lnTo>
                  <a:lnTo>
                    <a:pt x="2502" y="2077"/>
                  </a:lnTo>
                  <a:lnTo>
                    <a:pt x="2572" y="2101"/>
                  </a:lnTo>
                  <a:lnTo>
                    <a:pt x="2644" y="2123"/>
                  </a:lnTo>
                  <a:lnTo>
                    <a:pt x="2715" y="2146"/>
                  </a:lnTo>
                  <a:lnTo>
                    <a:pt x="2788" y="2168"/>
                  </a:lnTo>
                  <a:lnTo>
                    <a:pt x="2861" y="2191"/>
                  </a:lnTo>
                  <a:lnTo>
                    <a:pt x="2936" y="2213"/>
                  </a:lnTo>
                  <a:lnTo>
                    <a:pt x="3011" y="2234"/>
                  </a:lnTo>
                  <a:lnTo>
                    <a:pt x="3163" y="2276"/>
                  </a:lnTo>
                  <a:lnTo>
                    <a:pt x="3318" y="2317"/>
                  </a:lnTo>
                  <a:lnTo>
                    <a:pt x="3476" y="2356"/>
                  </a:lnTo>
                  <a:lnTo>
                    <a:pt x="3638" y="2395"/>
                  </a:lnTo>
                  <a:lnTo>
                    <a:pt x="3801" y="2432"/>
                  </a:lnTo>
                  <a:lnTo>
                    <a:pt x="3966" y="2467"/>
                  </a:lnTo>
                  <a:lnTo>
                    <a:pt x="4135" y="2502"/>
                  </a:lnTo>
                  <a:lnTo>
                    <a:pt x="4307" y="2535"/>
                  </a:lnTo>
                  <a:lnTo>
                    <a:pt x="4480" y="2566"/>
                  </a:lnTo>
                  <a:lnTo>
                    <a:pt x="4657" y="2596"/>
                  </a:lnTo>
                  <a:lnTo>
                    <a:pt x="4836" y="2625"/>
                  </a:lnTo>
                  <a:lnTo>
                    <a:pt x="5017" y="2652"/>
                  </a:lnTo>
                  <a:lnTo>
                    <a:pt x="5199" y="2677"/>
                  </a:lnTo>
                  <a:lnTo>
                    <a:pt x="5385" y="2702"/>
                  </a:lnTo>
                  <a:lnTo>
                    <a:pt x="5572" y="2724"/>
                  </a:lnTo>
                  <a:lnTo>
                    <a:pt x="5761" y="2746"/>
                  </a:lnTo>
                  <a:lnTo>
                    <a:pt x="5953" y="2765"/>
                  </a:lnTo>
                  <a:lnTo>
                    <a:pt x="6146" y="2784"/>
                  </a:lnTo>
                  <a:lnTo>
                    <a:pt x="6341" y="2799"/>
                  </a:lnTo>
                  <a:lnTo>
                    <a:pt x="6539" y="2815"/>
                  </a:lnTo>
                  <a:lnTo>
                    <a:pt x="6738" y="2827"/>
                  </a:lnTo>
                  <a:lnTo>
                    <a:pt x="6938" y="2838"/>
                  </a:lnTo>
                  <a:lnTo>
                    <a:pt x="7140" y="2848"/>
                  </a:lnTo>
                  <a:lnTo>
                    <a:pt x="7344" y="2857"/>
                  </a:lnTo>
                  <a:lnTo>
                    <a:pt x="7549" y="2863"/>
                  </a:lnTo>
                  <a:lnTo>
                    <a:pt x="7755" y="2867"/>
                  </a:lnTo>
                  <a:lnTo>
                    <a:pt x="7963" y="2870"/>
                  </a:lnTo>
                  <a:lnTo>
                    <a:pt x="8172" y="2871"/>
                  </a:lnTo>
                  <a:lnTo>
                    <a:pt x="8172" y="2673"/>
                  </a:lnTo>
                  <a:lnTo>
                    <a:pt x="7965" y="2672"/>
                  </a:lnTo>
                  <a:lnTo>
                    <a:pt x="7758" y="2670"/>
                  </a:lnTo>
                  <a:lnTo>
                    <a:pt x="7553" y="2665"/>
                  </a:lnTo>
                  <a:lnTo>
                    <a:pt x="7350" y="2659"/>
                  </a:lnTo>
                  <a:lnTo>
                    <a:pt x="7148" y="2652"/>
                  </a:lnTo>
                  <a:lnTo>
                    <a:pt x="6948" y="2641"/>
                  </a:lnTo>
                  <a:lnTo>
                    <a:pt x="6749" y="2630"/>
                  </a:lnTo>
                  <a:lnTo>
                    <a:pt x="6552" y="2617"/>
                  </a:lnTo>
                  <a:lnTo>
                    <a:pt x="6357" y="2602"/>
                  </a:lnTo>
                  <a:lnTo>
                    <a:pt x="6164" y="2586"/>
                  </a:lnTo>
                  <a:lnTo>
                    <a:pt x="5972" y="2568"/>
                  </a:lnTo>
                  <a:lnTo>
                    <a:pt x="5783" y="2549"/>
                  </a:lnTo>
                  <a:lnTo>
                    <a:pt x="5595" y="2528"/>
                  </a:lnTo>
                  <a:lnTo>
                    <a:pt x="5409" y="2506"/>
                  </a:lnTo>
                  <a:lnTo>
                    <a:pt x="5226" y="2482"/>
                  </a:lnTo>
                  <a:lnTo>
                    <a:pt x="5044" y="2457"/>
                  </a:lnTo>
                  <a:lnTo>
                    <a:pt x="4865" y="2429"/>
                  </a:lnTo>
                  <a:lnTo>
                    <a:pt x="4689" y="2401"/>
                  </a:lnTo>
                  <a:lnTo>
                    <a:pt x="4514" y="2372"/>
                  </a:lnTo>
                  <a:lnTo>
                    <a:pt x="4342" y="2341"/>
                  </a:lnTo>
                  <a:lnTo>
                    <a:pt x="4173" y="2308"/>
                  </a:lnTo>
                  <a:lnTo>
                    <a:pt x="4006" y="2274"/>
                  </a:lnTo>
                  <a:lnTo>
                    <a:pt x="3842" y="2238"/>
                  </a:lnTo>
                  <a:lnTo>
                    <a:pt x="3681" y="2202"/>
                  </a:lnTo>
                  <a:lnTo>
                    <a:pt x="3522" y="2164"/>
                  </a:lnTo>
                  <a:lnTo>
                    <a:pt x="3367" y="2125"/>
                  </a:lnTo>
                  <a:lnTo>
                    <a:pt x="3214" y="2085"/>
                  </a:lnTo>
                  <a:lnTo>
                    <a:pt x="3063" y="2043"/>
                  </a:lnTo>
                  <a:lnTo>
                    <a:pt x="2990" y="2023"/>
                  </a:lnTo>
                  <a:lnTo>
                    <a:pt x="2917" y="2001"/>
                  </a:lnTo>
                  <a:lnTo>
                    <a:pt x="2845" y="1980"/>
                  </a:lnTo>
                  <a:lnTo>
                    <a:pt x="2773" y="1957"/>
                  </a:lnTo>
                  <a:lnTo>
                    <a:pt x="2703" y="1936"/>
                  </a:lnTo>
                  <a:lnTo>
                    <a:pt x="2633" y="1912"/>
                  </a:lnTo>
                  <a:lnTo>
                    <a:pt x="2564" y="1890"/>
                  </a:lnTo>
                  <a:lnTo>
                    <a:pt x="2496" y="1866"/>
                  </a:lnTo>
                  <a:lnTo>
                    <a:pt x="2428" y="1843"/>
                  </a:lnTo>
                  <a:lnTo>
                    <a:pt x="2362" y="1820"/>
                  </a:lnTo>
                  <a:lnTo>
                    <a:pt x="2296" y="1795"/>
                  </a:lnTo>
                  <a:lnTo>
                    <a:pt x="2231" y="1772"/>
                  </a:lnTo>
                  <a:lnTo>
                    <a:pt x="2168" y="1747"/>
                  </a:lnTo>
                  <a:lnTo>
                    <a:pt x="2104" y="1721"/>
                  </a:lnTo>
                  <a:lnTo>
                    <a:pt x="2042" y="1697"/>
                  </a:lnTo>
                  <a:lnTo>
                    <a:pt x="1981" y="1672"/>
                  </a:lnTo>
                  <a:lnTo>
                    <a:pt x="1920" y="1646"/>
                  </a:lnTo>
                  <a:lnTo>
                    <a:pt x="1860" y="1621"/>
                  </a:lnTo>
                  <a:lnTo>
                    <a:pt x="1802" y="1595"/>
                  </a:lnTo>
                  <a:lnTo>
                    <a:pt x="1744" y="1569"/>
                  </a:lnTo>
                  <a:lnTo>
                    <a:pt x="1686" y="1542"/>
                  </a:lnTo>
                  <a:lnTo>
                    <a:pt x="1631" y="1515"/>
                  </a:lnTo>
                  <a:lnTo>
                    <a:pt x="1576" y="1489"/>
                  </a:lnTo>
                  <a:lnTo>
                    <a:pt x="1522" y="1462"/>
                  </a:lnTo>
                  <a:lnTo>
                    <a:pt x="1469" y="1434"/>
                  </a:lnTo>
                  <a:lnTo>
                    <a:pt x="1417" y="1407"/>
                  </a:lnTo>
                  <a:lnTo>
                    <a:pt x="1367" y="1379"/>
                  </a:lnTo>
                  <a:lnTo>
                    <a:pt x="1316" y="1351"/>
                  </a:lnTo>
                  <a:lnTo>
                    <a:pt x="1267" y="1323"/>
                  </a:lnTo>
                  <a:lnTo>
                    <a:pt x="1219" y="1295"/>
                  </a:lnTo>
                  <a:lnTo>
                    <a:pt x="1172" y="1266"/>
                  </a:lnTo>
                  <a:lnTo>
                    <a:pt x="1126" y="1237"/>
                  </a:lnTo>
                  <a:lnTo>
                    <a:pt x="1081" y="1209"/>
                  </a:lnTo>
                  <a:lnTo>
                    <a:pt x="1037" y="1180"/>
                  </a:lnTo>
                  <a:lnTo>
                    <a:pt x="994" y="1150"/>
                  </a:lnTo>
                  <a:lnTo>
                    <a:pt x="952" y="1121"/>
                  </a:lnTo>
                  <a:lnTo>
                    <a:pt x="911" y="1092"/>
                  </a:lnTo>
                  <a:lnTo>
                    <a:pt x="871" y="1062"/>
                  </a:lnTo>
                  <a:lnTo>
                    <a:pt x="833" y="1032"/>
                  </a:lnTo>
                  <a:lnTo>
                    <a:pt x="795" y="1001"/>
                  </a:lnTo>
                  <a:lnTo>
                    <a:pt x="759" y="972"/>
                  </a:lnTo>
                  <a:lnTo>
                    <a:pt x="723" y="942"/>
                  </a:lnTo>
                  <a:lnTo>
                    <a:pt x="690" y="911"/>
                  </a:lnTo>
                  <a:lnTo>
                    <a:pt x="656" y="880"/>
                  </a:lnTo>
                  <a:lnTo>
                    <a:pt x="624" y="851"/>
                  </a:lnTo>
                  <a:lnTo>
                    <a:pt x="592" y="819"/>
                  </a:lnTo>
                  <a:lnTo>
                    <a:pt x="563" y="788"/>
                  </a:lnTo>
                  <a:lnTo>
                    <a:pt x="534" y="757"/>
                  </a:lnTo>
                  <a:lnTo>
                    <a:pt x="507" y="727"/>
                  </a:lnTo>
                  <a:lnTo>
                    <a:pt x="480" y="696"/>
                  </a:lnTo>
                  <a:lnTo>
                    <a:pt x="456" y="665"/>
                  </a:lnTo>
                  <a:lnTo>
                    <a:pt x="431" y="633"/>
                  </a:lnTo>
                  <a:lnTo>
                    <a:pt x="409" y="602"/>
                  </a:lnTo>
                  <a:lnTo>
                    <a:pt x="387" y="571"/>
                  </a:lnTo>
                  <a:lnTo>
                    <a:pt x="367" y="539"/>
                  </a:lnTo>
                  <a:lnTo>
                    <a:pt x="347" y="508"/>
                  </a:lnTo>
                  <a:lnTo>
                    <a:pt x="329" y="476"/>
                  </a:lnTo>
                  <a:lnTo>
                    <a:pt x="312" y="445"/>
                  </a:lnTo>
                  <a:lnTo>
                    <a:pt x="296" y="414"/>
                  </a:lnTo>
                  <a:lnTo>
                    <a:pt x="281" y="382"/>
                  </a:lnTo>
                  <a:lnTo>
                    <a:pt x="268" y="350"/>
                  </a:lnTo>
                  <a:lnTo>
                    <a:pt x="255" y="318"/>
                  </a:lnTo>
                  <a:lnTo>
                    <a:pt x="244" y="287"/>
                  </a:lnTo>
                  <a:lnTo>
                    <a:pt x="235" y="256"/>
                  </a:lnTo>
                  <a:lnTo>
                    <a:pt x="226" y="224"/>
                  </a:lnTo>
                  <a:lnTo>
                    <a:pt x="218" y="192"/>
                  </a:lnTo>
                  <a:lnTo>
                    <a:pt x="211" y="160"/>
                  </a:lnTo>
                  <a:lnTo>
                    <a:pt x="206" y="129"/>
                  </a:lnTo>
                  <a:lnTo>
                    <a:pt x="202" y="97"/>
                  </a:lnTo>
                  <a:lnTo>
                    <a:pt x="199" y="65"/>
                  </a:lnTo>
                  <a:lnTo>
                    <a:pt x="197" y="32"/>
                  </a:lnTo>
                  <a:lnTo>
                    <a:pt x="197" y="0"/>
                  </a:lnTo>
                  <a:lnTo>
                    <a:pt x="197" y="0"/>
                  </a:lnTo>
                  <a:lnTo>
                    <a:pt x="0" y="0"/>
                  </a:lnTo>
                  <a:lnTo>
                    <a:pt x="0" y="0"/>
                  </a:lnTo>
                  <a:lnTo>
                    <a:pt x="0"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3505320" y="3563640"/>
              <a:ext cx="533160" cy="199080"/>
            </a:xfrm>
            <a:custGeom>
              <a:avLst/>
              <a:gdLst/>
              <a:ahLst/>
              <a:rect l="l" t="t" r="r" b="b"/>
              <a:pathLst>
                <a:path w="8172" h="2871">
                  <a:moveTo>
                    <a:pt x="8172" y="0"/>
                  </a:moveTo>
                  <a:lnTo>
                    <a:pt x="8172" y="0"/>
                  </a:lnTo>
                  <a:lnTo>
                    <a:pt x="7963" y="1"/>
                  </a:lnTo>
                  <a:lnTo>
                    <a:pt x="7755" y="4"/>
                  </a:lnTo>
                  <a:lnTo>
                    <a:pt x="7549" y="9"/>
                  </a:lnTo>
                  <a:lnTo>
                    <a:pt x="7344" y="15"/>
                  </a:lnTo>
                  <a:lnTo>
                    <a:pt x="7140" y="22"/>
                  </a:lnTo>
                  <a:lnTo>
                    <a:pt x="6938" y="33"/>
                  </a:lnTo>
                  <a:lnTo>
                    <a:pt x="6738" y="44"/>
                  </a:lnTo>
                  <a:lnTo>
                    <a:pt x="6539" y="57"/>
                  </a:lnTo>
                  <a:lnTo>
                    <a:pt x="6341" y="72"/>
                  </a:lnTo>
                  <a:lnTo>
                    <a:pt x="6146" y="88"/>
                  </a:lnTo>
                  <a:lnTo>
                    <a:pt x="5953" y="107"/>
                  </a:lnTo>
                  <a:lnTo>
                    <a:pt x="5761" y="126"/>
                  </a:lnTo>
                  <a:lnTo>
                    <a:pt x="5572" y="147"/>
                  </a:lnTo>
                  <a:lnTo>
                    <a:pt x="5385" y="169"/>
                  </a:lnTo>
                  <a:lnTo>
                    <a:pt x="5199" y="194"/>
                  </a:lnTo>
                  <a:lnTo>
                    <a:pt x="5017" y="219"/>
                  </a:lnTo>
                  <a:lnTo>
                    <a:pt x="4836" y="247"/>
                  </a:lnTo>
                  <a:lnTo>
                    <a:pt x="4657" y="275"/>
                  </a:lnTo>
                  <a:lnTo>
                    <a:pt x="4480" y="306"/>
                  </a:lnTo>
                  <a:lnTo>
                    <a:pt x="4307" y="337"/>
                  </a:lnTo>
                  <a:lnTo>
                    <a:pt x="4135" y="369"/>
                  </a:lnTo>
                  <a:lnTo>
                    <a:pt x="3966" y="404"/>
                  </a:lnTo>
                  <a:lnTo>
                    <a:pt x="3801" y="440"/>
                  </a:lnTo>
                  <a:lnTo>
                    <a:pt x="3638" y="477"/>
                  </a:lnTo>
                  <a:lnTo>
                    <a:pt x="3476" y="515"/>
                  </a:lnTo>
                  <a:lnTo>
                    <a:pt x="3318" y="555"/>
                  </a:lnTo>
                  <a:lnTo>
                    <a:pt x="3163" y="595"/>
                  </a:lnTo>
                  <a:lnTo>
                    <a:pt x="3011" y="637"/>
                  </a:lnTo>
                  <a:lnTo>
                    <a:pt x="2861" y="681"/>
                  </a:lnTo>
                  <a:lnTo>
                    <a:pt x="2715" y="725"/>
                  </a:lnTo>
                  <a:lnTo>
                    <a:pt x="2572" y="771"/>
                  </a:lnTo>
                  <a:lnTo>
                    <a:pt x="2433" y="817"/>
                  </a:lnTo>
                  <a:lnTo>
                    <a:pt x="2364" y="842"/>
                  </a:lnTo>
                  <a:lnTo>
                    <a:pt x="2295" y="867"/>
                  </a:lnTo>
                  <a:lnTo>
                    <a:pt x="2228" y="890"/>
                  </a:lnTo>
                  <a:lnTo>
                    <a:pt x="2163" y="915"/>
                  </a:lnTo>
                  <a:lnTo>
                    <a:pt x="2096" y="940"/>
                  </a:lnTo>
                  <a:lnTo>
                    <a:pt x="2032" y="965"/>
                  </a:lnTo>
                  <a:lnTo>
                    <a:pt x="1968" y="991"/>
                  </a:lnTo>
                  <a:lnTo>
                    <a:pt x="1905" y="1017"/>
                  </a:lnTo>
                  <a:lnTo>
                    <a:pt x="1843" y="1043"/>
                  </a:lnTo>
                  <a:lnTo>
                    <a:pt x="1781" y="1070"/>
                  </a:lnTo>
                  <a:lnTo>
                    <a:pt x="1721" y="1096"/>
                  </a:lnTo>
                  <a:lnTo>
                    <a:pt x="1662" y="1123"/>
                  </a:lnTo>
                  <a:lnTo>
                    <a:pt x="1604" y="1151"/>
                  </a:lnTo>
                  <a:lnTo>
                    <a:pt x="1547" y="1178"/>
                  </a:lnTo>
                  <a:lnTo>
                    <a:pt x="1489" y="1206"/>
                  </a:lnTo>
                  <a:lnTo>
                    <a:pt x="1433" y="1234"/>
                  </a:lnTo>
                  <a:lnTo>
                    <a:pt x="1379" y="1261"/>
                  </a:lnTo>
                  <a:lnTo>
                    <a:pt x="1325" y="1290"/>
                  </a:lnTo>
                  <a:lnTo>
                    <a:pt x="1272" y="1319"/>
                  </a:lnTo>
                  <a:lnTo>
                    <a:pt x="1220" y="1348"/>
                  </a:lnTo>
                  <a:lnTo>
                    <a:pt x="1169" y="1377"/>
                  </a:lnTo>
                  <a:lnTo>
                    <a:pt x="1119" y="1407"/>
                  </a:lnTo>
                  <a:lnTo>
                    <a:pt x="1070" y="1437"/>
                  </a:lnTo>
                  <a:lnTo>
                    <a:pt x="1022" y="1466"/>
                  </a:lnTo>
                  <a:lnTo>
                    <a:pt x="973" y="1497"/>
                  </a:lnTo>
                  <a:lnTo>
                    <a:pt x="928" y="1528"/>
                  </a:lnTo>
                  <a:lnTo>
                    <a:pt x="883" y="1559"/>
                  </a:lnTo>
                  <a:lnTo>
                    <a:pt x="838" y="1590"/>
                  </a:lnTo>
                  <a:lnTo>
                    <a:pt x="795" y="1620"/>
                  </a:lnTo>
                  <a:lnTo>
                    <a:pt x="753" y="1652"/>
                  </a:lnTo>
                  <a:lnTo>
                    <a:pt x="712" y="1684"/>
                  </a:lnTo>
                  <a:lnTo>
                    <a:pt x="672" y="1716"/>
                  </a:lnTo>
                  <a:lnTo>
                    <a:pt x="632" y="1747"/>
                  </a:lnTo>
                  <a:lnTo>
                    <a:pt x="595" y="1780"/>
                  </a:lnTo>
                  <a:lnTo>
                    <a:pt x="558" y="1813"/>
                  </a:lnTo>
                  <a:lnTo>
                    <a:pt x="522" y="1846"/>
                  </a:lnTo>
                  <a:lnTo>
                    <a:pt x="486" y="1880"/>
                  </a:lnTo>
                  <a:lnTo>
                    <a:pt x="454" y="1913"/>
                  </a:lnTo>
                  <a:lnTo>
                    <a:pt x="421" y="1946"/>
                  </a:lnTo>
                  <a:lnTo>
                    <a:pt x="389" y="1980"/>
                  </a:lnTo>
                  <a:lnTo>
                    <a:pt x="359" y="2015"/>
                  </a:lnTo>
                  <a:lnTo>
                    <a:pt x="330" y="2050"/>
                  </a:lnTo>
                  <a:lnTo>
                    <a:pt x="301" y="2085"/>
                  </a:lnTo>
                  <a:lnTo>
                    <a:pt x="275" y="2119"/>
                  </a:lnTo>
                  <a:lnTo>
                    <a:pt x="248" y="2155"/>
                  </a:lnTo>
                  <a:lnTo>
                    <a:pt x="224" y="2191"/>
                  </a:lnTo>
                  <a:lnTo>
                    <a:pt x="200" y="2226"/>
                  </a:lnTo>
                  <a:lnTo>
                    <a:pt x="179" y="2262"/>
                  </a:lnTo>
                  <a:lnTo>
                    <a:pt x="157" y="2298"/>
                  </a:lnTo>
                  <a:lnTo>
                    <a:pt x="138" y="2335"/>
                  </a:lnTo>
                  <a:lnTo>
                    <a:pt x="118" y="2372"/>
                  </a:lnTo>
                  <a:lnTo>
                    <a:pt x="102" y="2409"/>
                  </a:lnTo>
                  <a:lnTo>
                    <a:pt x="86" y="2446"/>
                  </a:lnTo>
                  <a:lnTo>
                    <a:pt x="72" y="2484"/>
                  </a:lnTo>
                  <a:lnTo>
                    <a:pt x="58" y="2522"/>
                  </a:lnTo>
                  <a:lnTo>
                    <a:pt x="46" y="2560"/>
                  </a:lnTo>
                  <a:lnTo>
                    <a:pt x="36" y="2598"/>
                  </a:lnTo>
                  <a:lnTo>
                    <a:pt x="27" y="2637"/>
                  </a:lnTo>
                  <a:lnTo>
                    <a:pt x="18" y="2676"/>
                  </a:lnTo>
                  <a:lnTo>
                    <a:pt x="11" y="2715"/>
                  </a:lnTo>
                  <a:lnTo>
                    <a:pt x="7" y="2754"/>
                  </a:lnTo>
                  <a:lnTo>
                    <a:pt x="3" y="2793"/>
                  </a:lnTo>
                  <a:lnTo>
                    <a:pt x="1" y="2831"/>
                  </a:lnTo>
                  <a:lnTo>
                    <a:pt x="0" y="2871"/>
                  </a:lnTo>
                  <a:lnTo>
                    <a:pt x="197" y="2871"/>
                  </a:lnTo>
                  <a:lnTo>
                    <a:pt x="197" y="2839"/>
                  </a:lnTo>
                  <a:lnTo>
                    <a:pt x="199" y="2807"/>
                  </a:lnTo>
                  <a:lnTo>
                    <a:pt x="202" y="2775"/>
                  </a:lnTo>
                  <a:lnTo>
                    <a:pt x="206" y="2743"/>
                  </a:lnTo>
                  <a:lnTo>
                    <a:pt x="211" y="2711"/>
                  </a:lnTo>
                  <a:lnTo>
                    <a:pt x="218" y="2680"/>
                  </a:lnTo>
                  <a:lnTo>
                    <a:pt x="226" y="2648"/>
                  </a:lnTo>
                  <a:lnTo>
                    <a:pt x="235" y="2616"/>
                  </a:lnTo>
                  <a:lnTo>
                    <a:pt x="244" y="2584"/>
                  </a:lnTo>
                  <a:lnTo>
                    <a:pt x="255" y="2553"/>
                  </a:lnTo>
                  <a:lnTo>
                    <a:pt x="268" y="2521"/>
                  </a:lnTo>
                  <a:lnTo>
                    <a:pt x="281" y="2489"/>
                  </a:lnTo>
                  <a:lnTo>
                    <a:pt x="296" y="2458"/>
                  </a:lnTo>
                  <a:lnTo>
                    <a:pt x="312" y="2426"/>
                  </a:lnTo>
                  <a:lnTo>
                    <a:pt x="329" y="2395"/>
                  </a:lnTo>
                  <a:lnTo>
                    <a:pt x="347" y="2364"/>
                  </a:lnTo>
                  <a:lnTo>
                    <a:pt x="367" y="2332"/>
                  </a:lnTo>
                  <a:lnTo>
                    <a:pt x="387" y="2300"/>
                  </a:lnTo>
                  <a:lnTo>
                    <a:pt x="409" y="2269"/>
                  </a:lnTo>
                  <a:lnTo>
                    <a:pt x="431" y="2239"/>
                  </a:lnTo>
                  <a:lnTo>
                    <a:pt x="456" y="2207"/>
                  </a:lnTo>
                  <a:lnTo>
                    <a:pt x="480" y="2175"/>
                  </a:lnTo>
                  <a:lnTo>
                    <a:pt x="507" y="2144"/>
                  </a:lnTo>
                  <a:lnTo>
                    <a:pt x="534" y="2114"/>
                  </a:lnTo>
                  <a:lnTo>
                    <a:pt x="563" y="2083"/>
                  </a:lnTo>
                  <a:lnTo>
                    <a:pt x="592" y="2052"/>
                  </a:lnTo>
                  <a:lnTo>
                    <a:pt x="624" y="2021"/>
                  </a:lnTo>
                  <a:lnTo>
                    <a:pt x="656" y="1991"/>
                  </a:lnTo>
                  <a:lnTo>
                    <a:pt x="690" y="1960"/>
                  </a:lnTo>
                  <a:lnTo>
                    <a:pt x="723" y="1930"/>
                  </a:lnTo>
                  <a:lnTo>
                    <a:pt x="759" y="1899"/>
                  </a:lnTo>
                  <a:lnTo>
                    <a:pt x="795" y="1870"/>
                  </a:lnTo>
                  <a:lnTo>
                    <a:pt x="833" y="1839"/>
                  </a:lnTo>
                  <a:lnTo>
                    <a:pt x="871" y="1810"/>
                  </a:lnTo>
                  <a:lnTo>
                    <a:pt x="911" y="1780"/>
                  </a:lnTo>
                  <a:lnTo>
                    <a:pt x="952" y="1751"/>
                  </a:lnTo>
                  <a:lnTo>
                    <a:pt x="994" y="1721"/>
                  </a:lnTo>
                  <a:lnTo>
                    <a:pt x="1037" y="1691"/>
                  </a:lnTo>
                  <a:lnTo>
                    <a:pt x="1081" y="1662"/>
                  </a:lnTo>
                  <a:lnTo>
                    <a:pt x="1126" y="1634"/>
                  </a:lnTo>
                  <a:lnTo>
                    <a:pt x="1172" y="1605"/>
                  </a:lnTo>
                  <a:lnTo>
                    <a:pt x="1219" y="1577"/>
                  </a:lnTo>
                  <a:lnTo>
                    <a:pt x="1267" y="1549"/>
                  </a:lnTo>
                  <a:lnTo>
                    <a:pt x="1316" y="1521"/>
                  </a:lnTo>
                  <a:lnTo>
                    <a:pt x="1367" y="1492"/>
                  </a:lnTo>
                  <a:lnTo>
                    <a:pt x="1417" y="1464"/>
                  </a:lnTo>
                  <a:lnTo>
                    <a:pt x="1470" y="1438"/>
                  </a:lnTo>
                  <a:lnTo>
                    <a:pt x="1522" y="1410"/>
                  </a:lnTo>
                  <a:lnTo>
                    <a:pt x="1576" y="1382"/>
                  </a:lnTo>
                  <a:lnTo>
                    <a:pt x="1631" y="1356"/>
                  </a:lnTo>
                  <a:lnTo>
                    <a:pt x="1686" y="1329"/>
                  </a:lnTo>
                  <a:lnTo>
                    <a:pt x="1744" y="1302"/>
                  </a:lnTo>
                  <a:lnTo>
                    <a:pt x="1802" y="1277"/>
                  </a:lnTo>
                  <a:lnTo>
                    <a:pt x="1860" y="1251"/>
                  </a:lnTo>
                  <a:lnTo>
                    <a:pt x="1920" y="1225"/>
                  </a:lnTo>
                  <a:lnTo>
                    <a:pt x="1981" y="1200"/>
                  </a:lnTo>
                  <a:lnTo>
                    <a:pt x="2042" y="1174"/>
                  </a:lnTo>
                  <a:lnTo>
                    <a:pt x="2104" y="1150"/>
                  </a:lnTo>
                  <a:lnTo>
                    <a:pt x="2168" y="1125"/>
                  </a:lnTo>
                  <a:lnTo>
                    <a:pt x="2231" y="1100"/>
                  </a:lnTo>
                  <a:lnTo>
                    <a:pt x="2296" y="1076"/>
                  </a:lnTo>
                  <a:lnTo>
                    <a:pt x="2362" y="1052"/>
                  </a:lnTo>
                  <a:lnTo>
                    <a:pt x="2428" y="1029"/>
                  </a:lnTo>
                  <a:lnTo>
                    <a:pt x="2496" y="1005"/>
                  </a:lnTo>
                  <a:lnTo>
                    <a:pt x="2633" y="959"/>
                  </a:lnTo>
                  <a:lnTo>
                    <a:pt x="2773" y="914"/>
                  </a:lnTo>
                  <a:lnTo>
                    <a:pt x="2917" y="871"/>
                  </a:lnTo>
                  <a:lnTo>
                    <a:pt x="3065" y="828"/>
                  </a:lnTo>
                  <a:lnTo>
                    <a:pt x="3214" y="787"/>
                  </a:lnTo>
                  <a:lnTo>
                    <a:pt x="3367" y="747"/>
                  </a:lnTo>
                  <a:lnTo>
                    <a:pt x="3522" y="707"/>
                  </a:lnTo>
                  <a:lnTo>
                    <a:pt x="3681" y="670"/>
                  </a:lnTo>
                  <a:lnTo>
                    <a:pt x="3842" y="633"/>
                  </a:lnTo>
                  <a:lnTo>
                    <a:pt x="4006" y="598"/>
                  </a:lnTo>
                  <a:lnTo>
                    <a:pt x="4173" y="564"/>
                  </a:lnTo>
                  <a:lnTo>
                    <a:pt x="4342" y="531"/>
                  </a:lnTo>
                  <a:lnTo>
                    <a:pt x="4514" y="500"/>
                  </a:lnTo>
                  <a:lnTo>
                    <a:pt x="4689" y="470"/>
                  </a:lnTo>
                  <a:lnTo>
                    <a:pt x="4865" y="442"/>
                  </a:lnTo>
                  <a:lnTo>
                    <a:pt x="5044" y="415"/>
                  </a:lnTo>
                  <a:lnTo>
                    <a:pt x="5226" y="390"/>
                  </a:lnTo>
                  <a:lnTo>
                    <a:pt x="5409" y="366"/>
                  </a:lnTo>
                  <a:lnTo>
                    <a:pt x="5595" y="343"/>
                  </a:lnTo>
                  <a:lnTo>
                    <a:pt x="5783" y="322"/>
                  </a:lnTo>
                  <a:lnTo>
                    <a:pt x="5972" y="302"/>
                  </a:lnTo>
                  <a:lnTo>
                    <a:pt x="6164" y="285"/>
                  </a:lnTo>
                  <a:lnTo>
                    <a:pt x="6357" y="269"/>
                  </a:lnTo>
                  <a:lnTo>
                    <a:pt x="6552" y="254"/>
                  </a:lnTo>
                  <a:lnTo>
                    <a:pt x="6749" y="241"/>
                  </a:lnTo>
                  <a:lnTo>
                    <a:pt x="6948" y="230"/>
                  </a:lnTo>
                  <a:lnTo>
                    <a:pt x="7148" y="220"/>
                  </a:lnTo>
                  <a:lnTo>
                    <a:pt x="7350" y="212"/>
                  </a:lnTo>
                  <a:lnTo>
                    <a:pt x="7553" y="206"/>
                  </a:lnTo>
                  <a:lnTo>
                    <a:pt x="7758" y="201"/>
                  </a:lnTo>
                  <a:lnTo>
                    <a:pt x="7965" y="199"/>
                  </a:lnTo>
                  <a:lnTo>
                    <a:pt x="8172" y="198"/>
                  </a:lnTo>
                  <a:lnTo>
                    <a:pt x="8172" y="198"/>
                  </a:lnTo>
                  <a:lnTo>
                    <a:pt x="8172" y="0"/>
                  </a:lnTo>
                  <a:lnTo>
                    <a:pt x="8172" y="0"/>
                  </a:lnTo>
                  <a:lnTo>
                    <a:pt x="8172"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4038480" y="3563640"/>
              <a:ext cx="533160" cy="199080"/>
            </a:xfrm>
            <a:custGeom>
              <a:avLst/>
              <a:gdLst/>
              <a:ahLst/>
              <a:rect l="l" t="t" r="r" b="b"/>
              <a:pathLst>
                <a:path w="8172" h="2871">
                  <a:moveTo>
                    <a:pt x="8172" y="2871"/>
                  </a:moveTo>
                  <a:lnTo>
                    <a:pt x="8172" y="2871"/>
                  </a:lnTo>
                  <a:lnTo>
                    <a:pt x="8171" y="2831"/>
                  </a:lnTo>
                  <a:lnTo>
                    <a:pt x="8169" y="2793"/>
                  </a:lnTo>
                  <a:lnTo>
                    <a:pt x="8165" y="2754"/>
                  </a:lnTo>
                  <a:lnTo>
                    <a:pt x="8161" y="2715"/>
                  </a:lnTo>
                  <a:lnTo>
                    <a:pt x="8154" y="2676"/>
                  </a:lnTo>
                  <a:lnTo>
                    <a:pt x="8145" y="2637"/>
                  </a:lnTo>
                  <a:lnTo>
                    <a:pt x="8136" y="2598"/>
                  </a:lnTo>
                  <a:lnTo>
                    <a:pt x="8126" y="2560"/>
                  </a:lnTo>
                  <a:lnTo>
                    <a:pt x="8114" y="2522"/>
                  </a:lnTo>
                  <a:lnTo>
                    <a:pt x="8100" y="2484"/>
                  </a:lnTo>
                  <a:lnTo>
                    <a:pt x="8086" y="2447"/>
                  </a:lnTo>
                  <a:lnTo>
                    <a:pt x="8070" y="2409"/>
                  </a:lnTo>
                  <a:lnTo>
                    <a:pt x="8052" y="2372"/>
                  </a:lnTo>
                  <a:lnTo>
                    <a:pt x="8034" y="2335"/>
                  </a:lnTo>
                  <a:lnTo>
                    <a:pt x="8015" y="2298"/>
                  </a:lnTo>
                  <a:lnTo>
                    <a:pt x="7993" y="2262"/>
                  </a:lnTo>
                  <a:lnTo>
                    <a:pt x="7972" y="2226"/>
                  </a:lnTo>
                  <a:lnTo>
                    <a:pt x="7948" y="2191"/>
                  </a:lnTo>
                  <a:lnTo>
                    <a:pt x="7924" y="2155"/>
                  </a:lnTo>
                  <a:lnTo>
                    <a:pt x="7897" y="2119"/>
                  </a:lnTo>
                  <a:lnTo>
                    <a:pt x="7871" y="2084"/>
                  </a:lnTo>
                  <a:lnTo>
                    <a:pt x="7842" y="2050"/>
                  </a:lnTo>
                  <a:lnTo>
                    <a:pt x="7813" y="2015"/>
                  </a:lnTo>
                  <a:lnTo>
                    <a:pt x="7783" y="1980"/>
                  </a:lnTo>
                  <a:lnTo>
                    <a:pt x="7751" y="1946"/>
                  </a:lnTo>
                  <a:lnTo>
                    <a:pt x="7718" y="1913"/>
                  </a:lnTo>
                  <a:lnTo>
                    <a:pt x="7685" y="1880"/>
                  </a:lnTo>
                  <a:lnTo>
                    <a:pt x="7650" y="1846"/>
                  </a:lnTo>
                  <a:lnTo>
                    <a:pt x="7614" y="1813"/>
                  </a:lnTo>
                  <a:lnTo>
                    <a:pt x="7577" y="1780"/>
                  </a:lnTo>
                  <a:lnTo>
                    <a:pt x="7540" y="1747"/>
                  </a:lnTo>
                  <a:lnTo>
                    <a:pt x="7500" y="1716"/>
                  </a:lnTo>
                  <a:lnTo>
                    <a:pt x="7460" y="1684"/>
                  </a:lnTo>
                  <a:lnTo>
                    <a:pt x="7419" y="1652"/>
                  </a:lnTo>
                  <a:lnTo>
                    <a:pt x="7377" y="1620"/>
                  </a:lnTo>
                  <a:lnTo>
                    <a:pt x="7333" y="1590"/>
                  </a:lnTo>
                  <a:lnTo>
                    <a:pt x="7289" y="1559"/>
                  </a:lnTo>
                  <a:lnTo>
                    <a:pt x="7244" y="1528"/>
                  </a:lnTo>
                  <a:lnTo>
                    <a:pt x="7199" y="1497"/>
                  </a:lnTo>
                  <a:lnTo>
                    <a:pt x="7151" y="1466"/>
                  </a:lnTo>
                  <a:lnTo>
                    <a:pt x="7102" y="1437"/>
                  </a:lnTo>
                  <a:lnTo>
                    <a:pt x="7053" y="1407"/>
                  </a:lnTo>
                  <a:lnTo>
                    <a:pt x="7003" y="1377"/>
                  </a:lnTo>
                  <a:lnTo>
                    <a:pt x="6952" y="1348"/>
                  </a:lnTo>
                  <a:lnTo>
                    <a:pt x="6900" y="1319"/>
                  </a:lnTo>
                  <a:lnTo>
                    <a:pt x="6847" y="1290"/>
                  </a:lnTo>
                  <a:lnTo>
                    <a:pt x="6793" y="1261"/>
                  </a:lnTo>
                  <a:lnTo>
                    <a:pt x="6738" y="1234"/>
                  </a:lnTo>
                  <a:lnTo>
                    <a:pt x="6683" y="1206"/>
                  </a:lnTo>
                  <a:lnTo>
                    <a:pt x="6625" y="1178"/>
                  </a:lnTo>
                  <a:lnTo>
                    <a:pt x="6568" y="1151"/>
                  </a:lnTo>
                  <a:lnTo>
                    <a:pt x="6510" y="1123"/>
                  </a:lnTo>
                  <a:lnTo>
                    <a:pt x="6450" y="1096"/>
                  </a:lnTo>
                  <a:lnTo>
                    <a:pt x="6389" y="1070"/>
                  </a:lnTo>
                  <a:lnTo>
                    <a:pt x="6329" y="1043"/>
                  </a:lnTo>
                  <a:lnTo>
                    <a:pt x="6267" y="1017"/>
                  </a:lnTo>
                  <a:lnTo>
                    <a:pt x="6204" y="991"/>
                  </a:lnTo>
                  <a:lnTo>
                    <a:pt x="6140" y="965"/>
                  </a:lnTo>
                  <a:lnTo>
                    <a:pt x="6076" y="940"/>
                  </a:lnTo>
                  <a:lnTo>
                    <a:pt x="6009" y="915"/>
                  </a:lnTo>
                  <a:lnTo>
                    <a:pt x="5943" y="890"/>
                  </a:lnTo>
                  <a:lnTo>
                    <a:pt x="5877" y="867"/>
                  </a:lnTo>
                  <a:lnTo>
                    <a:pt x="5808" y="842"/>
                  </a:lnTo>
                  <a:lnTo>
                    <a:pt x="5739" y="817"/>
                  </a:lnTo>
                  <a:lnTo>
                    <a:pt x="5600" y="771"/>
                  </a:lnTo>
                  <a:lnTo>
                    <a:pt x="5456" y="725"/>
                  </a:lnTo>
                  <a:lnTo>
                    <a:pt x="5310" y="681"/>
                  </a:lnTo>
                  <a:lnTo>
                    <a:pt x="5161" y="637"/>
                  </a:lnTo>
                  <a:lnTo>
                    <a:pt x="5008" y="595"/>
                  </a:lnTo>
                  <a:lnTo>
                    <a:pt x="4854" y="555"/>
                  </a:lnTo>
                  <a:lnTo>
                    <a:pt x="4696" y="515"/>
                  </a:lnTo>
                  <a:lnTo>
                    <a:pt x="4534" y="477"/>
                  </a:lnTo>
                  <a:lnTo>
                    <a:pt x="4371" y="440"/>
                  </a:lnTo>
                  <a:lnTo>
                    <a:pt x="4206" y="404"/>
                  </a:lnTo>
                  <a:lnTo>
                    <a:pt x="4036" y="369"/>
                  </a:lnTo>
                  <a:lnTo>
                    <a:pt x="3865" y="337"/>
                  </a:lnTo>
                  <a:lnTo>
                    <a:pt x="3692" y="306"/>
                  </a:lnTo>
                  <a:lnTo>
                    <a:pt x="3515" y="275"/>
                  </a:lnTo>
                  <a:lnTo>
                    <a:pt x="3336" y="247"/>
                  </a:lnTo>
                  <a:lnTo>
                    <a:pt x="3155" y="219"/>
                  </a:lnTo>
                  <a:lnTo>
                    <a:pt x="2973" y="194"/>
                  </a:lnTo>
                  <a:lnTo>
                    <a:pt x="2787" y="169"/>
                  </a:lnTo>
                  <a:lnTo>
                    <a:pt x="2600" y="147"/>
                  </a:lnTo>
                  <a:lnTo>
                    <a:pt x="2411" y="126"/>
                  </a:lnTo>
                  <a:lnTo>
                    <a:pt x="2219" y="107"/>
                  </a:lnTo>
                  <a:lnTo>
                    <a:pt x="2026" y="88"/>
                  </a:lnTo>
                  <a:lnTo>
                    <a:pt x="1831" y="72"/>
                  </a:lnTo>
                  <a:lnTo>
                    <a:pt x="1633" y="57"/>
                  </a:lnTo>
                  <a:lnTo>
                    <a:pt x="1434" y="44"/>
                  </a:lnTo>
                  <a:lnTo>
                    <a:pt x="1234" y="33"/>
                  </a:lnTo>
                  <a:lnTo>
                    <a:pt x="1032" y="22"/>
                  </a:lnTo>
                  <a:lnTo>
                    <a:pt x="828" y="15"/>
                  </a:lnTo>
                  <a:lnTo>
                    <a:pt x="623" y="9"/>
                  </a:lnTo>
                  <a:lnTo>
                    <a:pt x="417" y="4"/>
                  </a:lnTo>
                  <a:lnTo>
                    <a:pt x="209" y="1"/>
                  </a:lnTo>
                  <a:lnTo>
                    <a:pt x="0" y="0"/>
                  </a:lnTo>
                  <a:lnTo>
                    <a:pt x="0" y="198"/>
                  </a:lnTo>
                  <a:lnTo>
                    <a:pt x="207" y="199"/>
                  </a:lnTo>
                  <a:lnTo>
                    <a:pt x="414" y="201"/>
                  </a:lnTo>
                  <a:lnTo>
                    <a:pt x="619" y="206"/>
                  </a:lnTo>
                  <a:lnTo>
                    <a:pt x="822" y="212"/>
                  </a:lnTo>
                  <a:lnTo>
                    <a:pt x="1024" y="220"/>
                  </a:lnTo>
                  <a:lnTo>
                    <a:pt x="1224" y="230"/>
                  </a:lnTo>
                  <a:lnTo>
                    <a:pt x="1423" y="241"/>
                  </a:lnTo>
                  <a:lnTo>
                    <a:pt x="1620" y="254"/>
                  </a:lnTo>
                  <a:lnTo>
                    <a:pt x="1815" y="269"/>
                  </a:lnTo>
                  <a:lnTo>
                    <a:pt x="2008" y="285"/>
                  </a:lnTo>
                  <a:lnTo>
                    <a:pt x="2200" y="302"/>
                  </a:lnTo>
                  <a:lnTo>
                    <a:pt x="2389" y="322"/>
                  </a:lnTo>
                  <a:lnTo>
                    <a:pt x="2577" y="343"/>
                  </a:lnTo>
                  <a:lnTo>
                    <a:pt x="2763" y="366"/>
                  </a:lnTo>
                  <a:lnTo>
                    <a:pt x="2946" y="390"/>
                  </a:lnTo>
                  <a:lnTo>
                    <a:pt x="3128" y="415"/>
                  </a:lnTo>
                  <a:lnTo>
                    <a:pt x="3307" y="442"/>
                  </a:lnTo>
                  <a:lnTo>
                    <a:pt x="3483" y="470"/>
                  </a:lnTo>
                  <a:lnTo>
                    <a:pt x="3657" y="500"/>
                  </a:lnTo>
                  <a:lnTo>
                    <a:pt x="3830" y="531"/>
                  </a:lnTo>
                  <a:lnTo>
                    <a:pt x="3998" y="564"/>
                  </a:lnTo>
                  <a:lnTo>
                    <a:pt x="4166" y="598"/>
                  </a:lnTo>
                  <a:lnTo>
                    <a:pt x="4329" y="633"/>
                  </a:lnTo>
                  <a:lnTo>
                    <a:pt x="4491" y="670"/>
                  </a:lnTo>
                  <a:lnTo>
                    <a:pt x="4650" y="707"/>
                  </a:lnTo>
                  <a:lnTo>
                    <a:pt x="4805" y="747"/>
                  </a:lnTo>
                  <a:lnTo>
                    <a:pt x="4958" y="787"/>
                  </a:lnTo>
                  <a:lnTo>
                    <a:pt x="5108" y="828"/>
                  </a:lnTo>
                  <a:lnTo>
                    <a:pt x="5255" y="871"/>
                  </a:lnTo>
                  <a:lnTo>
                    <a:pt x="5399" y="914"/>
                  </a:lnTo>
                  <a:lnTo>
                    <a:pt x="5539" y="959"/>
                  </a:lnTo>
                  <a:lnTo>
                    <a:pt x="5676" y="1005"/>
                  </a:lnTo>
                  <a:lnTo>
                    <a:pt x="5744" y="1029"/>
                  </a:lnTo>
                  <a:lnTo>
                    <a:pt x="5810" y="1052"/>
                  </a:lnTo>
                  <a:lnTo>
                    <a:pt x="5876" y="1076"/>
                  </a:lnTo>
                  <a:lnTo>
                    <a:pt x="5941" y="1100"/>
                  </a:lnTo>
                  <a:lnTo>
                    <a:pt x="6004" y="1125"/>
                  </a:lnTo>
                  <a:lnTo>
                    <a:pt x="6068" y="1150"/>
                  </a:lnTo>
                  <a:lnTo>
                    <a:pt x="6130" y="1174"/>
                  </a:lnTo>
                  <a:lnTo>
                    <a:pt x="6191" y="1200"/>
                  </a:lnTo>
                  <a:lnTo>
                    <a:pt x="6252" y="1225"/>
                  </a:lnTo>
                  <a:lnTo>
                    <a:pt x="6312" y="1251"/>
                  </a:lnTo>
                  <a:lnTo>
                    <a:pt x="6370" y="1277"/>
                  </a:lnTo>
                  <a:lnTo>
                    <a:pt x="6428" y="1302"/>
                  </a:lnTo>
                  <a:lnTo>
                    <a:pt x="6484" y="1329"/>
                  </a:lnTo>
                  <a:lnTo>
                    <a:pt x="6541" y="1356"/>
                  </a:lnTo>
                  <a:lnTo>
                    <a:pt x="6596" y="1382"/>
                  </a:lnTo>
                  <a:lnTo>
                    <a:pt x="6650" y="1410"/>
                  </a:lnTo>
                  <a:lnTo>
                    <a:pt x="6702" y="1438"/>
                  </a:lnTo>
                  <a:lnTo>
                    <a:pt x="6754" y="1464"/>
                  </a:lnTo>
                  <a:lnTo>
                    <a:pt x="6806" y="1492"/>
                  </a:lnTo>
                  <a:lnTo>
                    <a:pt x="6856" y="1521"/>
                  </a:lnTo>
                  <a:lnTo>
                    <a:pt x="6904" y="1549"/>
                  </a:lnTo>
                  <a:lnTo>
                    <a:pt x="6953" y="1577"/>
                  </a:lnTo>
                  <a:lnTo>
                    <a:pt x="7000" y="1605"/>
                  </a:lnTo>
                  <a:lnTo>
                    <a:pt x="7046" y="1634"/>
                  </a:lnTo>
                  <a:lnTo>
                    <a:pt x="7091" y="1662"/>
                  </a:lnTo>
                  <a:lnTo>
                    <a:pt x="7135" y="1691"/>
                  </a:lnTo>
                  <a:lnTo>
                    <a:pt x="7178" y="1721"/>
                  </a:lnTo>
                  <a:lnTo>
                    <a:pt x="7220" y="1751"/>
                  </a:lnTo>
                  <a:lnTo>
                    <a:pt x="7261" y="1780"/>
                  </a:lnTo>
                  <a:lnTo>
                    <a:pt x="7301" y="1810"/>
                  </a:lnTo>
                  <a:lnTo>
                    <a:pt x="7339" y="1839"/>
                  </a:lnTo>
                  <a:lnTo>
                    <a:pt x="7377" y="1870"/>
                  </a:lnTo>
                  <a:lnTo>
                    <a:pt x="7413" y="1899"/>
                  </a:lnTo>
                  <a:lnTo>
                    <a:pt x="7449" y="1930"/>
                  </a:lnTo>
                  <a:lnTo>
                    <a:pt x="7482" y="1960"/>
                  </a:lnTo>
                  <a:lnTo>
                    <a:pt x="7516" y="1991"/>
                  </a:lnTo>
                  <a:lnTo>
                    <a:pt x="7548" y="2021"/>
                  </a:lnTo>
                  <a:lnTo>
                    <a:pt x="7580" y="2052"/>
                  </a:lnTo>
                  <a:lnTo>
                    <a:pt x="7609" y="2083"/>
                  </a:lnTo>
                  <a:lnTo>
                    <a:pt x="7638" y="2114"/>
                  </a:lnTo>
                  <a:lnTo>
                    <a:pt x="7664" y="2144"/>
                  </a:lnTo>
                  <a:lnTo>
                    <a:pt x="7691" y="2175"/>
                  </a:lnTo>
                  <a:lnTo>
                    <a:pt x="7716" y="2207"/>
                  </a:lnTo>
                  <a:lnTo>
                    <a:pt x="7741" y="2239"/>
                  </a:lnTo>
                  <a:lnTo>
                    <a:pt x="7763" y="2269"/>
                  </a:lnTo>
                  <a:lnTo>
                    <a:pt x="7785" y="2300"/>
                  </a:lnTo>
                  <a:lnTo>
                    <a:pt x="7805" y="2332"/>
                  </a:lnTo>
                  <a:lnTo>
                    <a:pt x="7825" y="2364"/>
                  </a:lnTo>
                  <a:lnTo>
                    <a:pt x="7843" y="2395"/>
                  </a:lnTo>
                  <a:lnTo>
                    <a:pt x="7860" y="2426"/>
                  </a:lnTo>
                  <a:lnTo>
                    <a:pt x="7876" y="2458"/>
                  </a:lnTo>
                  <a:lnTo>
                    <a:pt x="7890" y="2489"/>
                  </a:lnTo>
                  <a:lnTo>
                    <a:pt x="7903" y="2521"/>
                  </a:lnTo>
                  <a:lnTo>
                    <a:pt x="7917" y="2553"/>
                  </a:lnTo>
                  <a:lnTo>
                    <a:pt x="7928" y="2584"/>
                  </a:lnTo>
                  <a:lnTo>
                    <a:pt x="7937" y="2616"/>
                  </a:lnTo>
                  <a:lnTo>
                    <a:pt x="7946" y="2648"/>
                  </a:lnTo>
                  <a:lnTo>
                    <a:pt x="7953" y="2680"/>
                  </a:lnTo>
                  <a:lnTo>
                    <a:pt x="7961" y="2711"/>
                  </a:lnTo>
                  <a:lnTo>
                    <a:pt x="7966" y="2743"/>
                  </a:lnTo>
                  <a:lnTo>
                    <a:pt x="7970" y="2775"/>
                  </a:lnTo>
                  <a:lnTo>
                    <a:pt x="7973" y="2807"/>
                  </a:lnTo>
                  <a:lnTo>
                    <a:pt x="7975" y="2839"/>
                  </a:lnTo>
                  <a:lnTo>
                    <a:pt x="7975" y="2871"/>
                  </a:lnTo>
                  <a:lnTo>
                    <a:pt x="7975" y="2871"/>
                  </a:lnTo>
                  <a:lnTo>
                    <a:pt x="8172" y="2871"/>
                  </a:lnTo>
                  <a:lnTo>
                    <a:pt x="8172" y="2871"/>
                  </a:lnTo>
                  <a:lnTo>
                    <a:pt x="8172"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3510000" y="3168000"/>
              <a:ext cx="1054440" cy="582120"/>
            </a:xfrm>
            <a:custGeom>
              <a:avLst/>
              <a:gdLst/>
              <a:ahLst/>
              <a:rect l="l" t="t" r="r" b="b"/>
              <a:pathLst>
                <a:path w="16174" h="8440">
                  <a:moveTo>
                    <a:pt x="0" y="0"/>
                  </a:moveTo>
                  <a:lnTo>
                    <a:pt x="0" y="8440"/>
                  </a:lnTo>
                  <a:lnTo>
                    <a:pt x="16171" y="8440"/>
                  </a:lnTo>
                  <a:lnTo>
                    <a:pt x="16174" y="4"/>
                  </a:lnTo>
                  <a:lnTo>
                    <a:pt x="0" y="0"/>
                  </a:lnTo>
                  <a:close/>
                </a:path>
              </a:pathLst>
            </a:custGeom>
            <a:solidFill>
              <a:srgbClr val="007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3505320" y="3175920"/>
              <a:ext cx="13680" cy="601920"/>
            </a:xfrm>
            <a:custGeom>
              <a:avLst/>
              <a:gdLst/>
              <a:ahLst/>
              <a:rect l="l" t="t" r="r" b="b"/>
              <a:pathLst>
                <a:path w="211" h="8730">
                  <a:moveTo>
                    <a:pt x="197" y="8730"/>
                  </a:moveTo>
                  <a:lnTo>
                    <a:pt x="211" y="0"/>
                  </a:lnTo>
                  <a:lnTo>
                    <a:pt x="13" y="0"/>
                  </a:lnTo>
                  <a:lnTo>
                    <a:pt x="0" y="8730"/>
                  </a:lnTo>
                  <a:lnTo>
                    <a:pt x="197" y="873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3505320" y="3778200"/>
              <a:ext cx="13680" cy="7200"/>
            </a:xfrm>
            <a:prstGeom prst="rect">
              <a:avLst/>
            </a:prstGeom>
            <a:solidFill>
              <a:srgbClr val="add7e7"/>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491" name=""/>
            <p:cNvSpPr/>
            <p:nvPr/>
          </p:nvSpPr>
          <p:spPr>
            <a:xfrm>
              <a:off x="4557240" y="3175920"/>
              <a:ext cx="14040" cy="604440"/>
            </a:xfrm>
            <a:prstGeom prst="rect">
              <a:avLst/>
            </a:pr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4557240" y="3780360"/>
              <a:ext cx="14040" cy="7200"/>
            </a:xfrm>
            <a:prstGeom prst="rect">
              <a:avLst/>
            </a:prstGeom>
            <a:solidFill>
              <a:srgbClr val="add7e7"/>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493" name=""/>
            <p:cNvSpPr/>
            <p:nvPr/>
          </p:nvSpPr>
          <p:spPr>
            <a:xfrm>
              <a:off x="3831840" y="3411720"/>
              <a:ext cx="436680" cy="129600"/>
            </a:xfrm>
            <a:custGeom>
              <a:avLst/>
              <a:gdLst/>
              <a:ahLst/>
              <a:rect l="l" t="t" r="r" b="b"/>
              <a:pathLst>
                <a:path w="6695" h="1868">
                  <a:moveTo>
                    <a:pt x="456" y="442"/>
                  </a:moveTo>
                  <a:lnTo>
                    <a:pt x="0" y="1524"/>
                  </a:lnTo>
                  <a:lnTo>
                    <a:pt x="220" y="1868"/>
                  </a:lnTo>
                  <a:lnTo>
                    <a:pt x="1928" y="1559"/>
                  </a:lnTo>
                  <a:lnTo>
                    <a:pt x="1952" y="818"/>
                  </a:lnTo>
                  <a:lnTo>
                    <a:pt x="1968" y="747"/>
                  </a:lnTo>
                  <a:lnTo>
                    <a:pt x="1988" y="676"/>
                  </a:lnTo>
                  <a:lnTo>
                    <a:pt x="2034" y="606"/>
                  </a:lnTo>
                  <a:lnTo>
                    <a:pt x="2109" y="550"/>
                  </a:lnTo>
                  <a:lnTo>
                    <a:pt x="2188" y="507"/>
                  </a:lnTo>
                  <a:lnTo>
                    <a:pt x="2275" y="489"/>
                  </a:lnTo>
                  <a:lnTo>
                    <a:pt x="2263" y="496"/>
                  </a:lnTo>
                  <a:lnTo>
                    <a:pt x="4387" y="496"/>
                  </a:lnTo>
                  <a:lnTo>
                    <a:pt x="4475" y="500"/>
                  </a:lnTo>
                  <a:lnTo>
                    <a:pt x="4526" y="515"/>
                  </a:lnTo>
                  <a:lnTo>
                    <a:pt x="4585" y="538"/>
                  </a:lnTo>
                  <a:lnTo>
                    <a:pt x="4664" y="590"/>
                  </a:lnTo>
                  <a:lnTo>
                    <a:pt x="4706" y="650"/>
                  </a:lnTo>
                  <a:lnTo>
                    <a:pt x="4741" y="727"/>
                  </a:lnTo>
                  <a:lnTo>
                    <a:pt x="4754" y="786"/>
                  </a:lnTo>
                  <a:lnTo>
                    <a:pt x="4804" y="1577"/>
                  </a:lnTo>
                  <a:lnTo>
                    <a:pt x="6510" y="1859"/>
                  </a:lnTo>
                  <a:lnTo>
                    <a:pt x="6695" y="1455"/>
                  </a:lnTo>
                  <a:lnTo>
                    <a:pt x="6291" y="442"/>
                  </a:lnTo>
                  <a:lnTo>
                    <a:pt x="6142" y="370"/>
                  </a:lnTo>
                  <a:lnTo>
                    <a:pt x="5850" y="294"/>
                  </a:lnTo>
                  <a:lnTo>
                    <a:pt x="5540" y="217"/>
                  </a:lnTo>
                  <a:lnTo>
                    <a:pt x="5228" y="159"/>
                  </a:lnTo>
                  <a:lnTo>
                    <a:pt x="4873" y="102"/>
                  </a:lnTo>
                  <a:lnTo>
                    <a:pt x="4520" y="55"/>
                  </a:lnTo>
                  <a:lnTo>
                    <a:pt x="4150" y="20"/>
                  </a:lnTo>
                  <a:lnTo>
                    <a:pt x="3795" y="4"/>
                  </a:lnTo>
                  <a:lnTo>
                    <a:pt x="3483" y="0"/>
                  </a:lnTo>
                  <a:lnTo>
                    <a:pt x="3200" y="8"/>
                  </a:lnTo>
                  <a:lnTo>
                    <a:pt x="2913" y="6"/>
                  </a:lnTo>
                  <a:lnTo>
                    <a:pt x="2635" y="18"/>
                  </a:lnTo>
                  <a:lnTo>
                    <a:pt x="2193" y="47"/>
                  </a:lnTo>
                  <a:lnTo>
                    <a:pt x="1814" y="109"/>
                  </a:lnTo>
                  <a:lnTo>
                    <a:pt x="1493" y="167"/>
                  </a:lnTo>
                  <a:lnTo>
                    <a:pt x="1219" y="226"/>
                  </a:lnTo>
                  <a:lnTo>
                    <a:pt x="945" y="288"/>
                  </a:lnTo>
                  <a:lnTo>
                    <a:pt x="655" y="371"/>
                  </a:lnTo>
                  <a:lnTo>
                    <a:pt x="456" y="4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3676680" y="3484080"/>
              <a:ext cx="136080" cy="172080"/>
            </a:xfrm>
            <a:custGeom>
              <a:avLst/>
              <a:gdLst/>
              <a:ahLst/>
              <a:rect l="l" t="t" r="r" b="b"/>
              <a:pathLst>
                <a:path w="2075" h="2486">
                  <a:moveTo>
                    <a:pt x="1443" y="0"/>
                  </a:moveTo>
                  <a:lnTo>
                    <a:pt x="1443" y="1121"/>
                  </a:lnTo>
                  <a:lnTo>
                    <a:pt x="2075" y="1121"/>
                  </a:lnTo>
                  <a:lnTo>
                    <a:pt x="2075" y="1456"/>
                  </a:lnTo>
                  <a:lnTo>
                    <a:pt x="1455" y="1456"/>
                  </a:lnTo>
                  <a:lnTo>
                    <a:pt x="1455" y="2486"/>
                  </a:lnTo>
                  <a:lnTo>
                    <a:pt x="0" y="1289"/>
                  </a:lnTo>
                  <a:lnTo>
                    <a:pt x="14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3666960" y="3651120"/>
              <a:ext cx="133560" cy="171360"/>
            </a:xfrm>
            <a:custGeom>
              <a:avLst/>
              <a:gdLst/>
              <a:ahLst/>
              <a:rect l="l" t="t" r="r" b="b"/>
              <a:pathLst>
                <a:path w="2075" h="2486">
                  <a:moveTo>
                    <a:pt x="632" y="2486"/>
                  </a:moveTo>
                  <a:lnTo>
                    <a:pt x="632" y="1365"/>
                  </a:lnTo>
                  <a:lnTo>
                    <a:pt x="0" y="1365"/>
                  </a:lnTo>
                  <a:lnTo>
                    <a:pt x="0" y="1030"/>
                  </a:lnTo>
                  <a:lnTo>
                    <a:pt x="620" y="1030"/>
                  </a:lnTo>
                  <a:lnTo>
                    <a:pt x="620" y="0"/>
                  </a:lnTo>
                  <a:lnTo>
                    <a:pt x="2075" y="1198"/>
                  </a:lnTo>
                  <a:lnTo>
                    <a:pt x="632" y="24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4280400" y="3484080"/>
              <a:ext cx="133560" cy="172080"/>
            </a:xfrm>
            <a:custGeom>
              <a:avLst/>
              <a:gdLst/>
              <a:ahLst/>
              <a:rect l="l" t="t" r="r" b="b"/>
              <a:pathLst>
                <a:path w="2073" h="2486">
                  <a:moveTo>
                    <a:pt x="632" y="0"/>
                  </a:moveTo>
                  <a:lnTo>
                    <a:pt x="632" y="1121"/>
                  </a:lnTo>
                  <a:lnTo>
                    <a:pt x="0" y="1121"/>
                  </a:lnTo>
                  <a:lnTo>
                    <a:pt x="0" y="1456"/>
                  </a:lnTo>
                  <a:lnTo>
                    <a:pt x="619" y="1456"/>
                  </a:lnTo>
                  <a:lnTo>
                    <a:pt x="619" y="2486"/>
                  </a:lnTo>
                  <a:lnTo>
                    <a:pt x="2073" y="1289"/>
                  </a:lnTo>
                  <a:lnTo>
                    <a:pt x="63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4289760" y="3651120"/>
              <a:ext cx="135720" cy="171360"/>
            </a:xfrm>
            <a:custGeom>
              <a:avLst/>
              <a:gdLst/>
              <a:ahLst/>
              <a:rect l="l" t="t" r="r" b="b"/>
              <a:pathLst>
                <a:path w="2074" h="2486">
                  <a:moveTo>
                    <a:pt x="1442" y="2486"/>
                  </a:moveTo>
                  <a:lnTo>
                    <a:pt x="1442" y="1365"/>
                  </a:lnTo>
                  <a:lnTo>
                    <a:pt x="2074" y="1365"/>
                  </a:lnTo>
                  <a:lnTo>
                    <a:pt x="2074" y="1030"/>
                  </a:lnTo>
                  <a:lnTo>
                    <a:pt x="1454" y="1030"/>
                  </a:lnTo>
                  <a:lnTo>
                    <a:pt x="1454" y="0"/>
                  </a:lnTo>
                  <a:lnTo>
                    <a:pt x="0" y="1198"/>
                  </a:lnTo>
                  <a:lnTo>
                    <a:pt x="1442" y="24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
            <p:cNvSpPr/>
            <p:nvPr/>
          </p:nvSpPr>
          <p:spPr>
            <a:xfrm>
              <a:off x="3883320" y="3556440"/>
              <a:ext cx="335520" cy="315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a:off x="3824640" y="3407400"/>
              <a:ext cx="436680" cy="126720"/>
            </a:xfrm>
            <a:custGeom>
              <a:avLst/>
              <a:gdLst/>
              <a:ahLst/>
              <a:rect l="l" t="t" r="r" b="b"/>
              <a:pathLst>
                <a:path w="6695" h="1867">
                  <a:moveTo>
                    <a:pt x="456" y="442"/>
                  </a:moveTo>
                  <a:lnTo>
                    <a:pt x="0" y="1524"/>
                  </a:lnTo>
                  <a:lnTo>
                    <a:pt x="220" y="1867"/>
                  </a:lnTo>
                  <a:lnTo>
                    <a:pt x="1927" y="1557"/>
                  </a:lnTo>
                  <a:lnTo>
                    <a:pt x="1952" y="817"/>
                  </a:lnTo>
                  <a:lnTo>
                    <a:pt x="1966" y="746"/>
                  </a:lnTo>
                  <a:lnTo>
                    <a:pt x="1988" y="675"/>
                  </a:lnTo>
                  <a:lnTo>
                    <a:pt x="2033" y="605"/>
                  </a:lnTo>
                  <a:lnTo>
                    <a:pt x="2107" y="548"/>
                  </a:lnTo>
                  <a:lnTo>
                    <a:pt x="2188" y="506"/>
                  </a:lnTo>
                  <a:lnTo>
                    <a:pt x="2274" y="489"/>
                  </a:lnTo>
                  <a:lnTo>
                    <a:pt x="2262" y="495"/>
                  </a:lnTo>
                  <a:lnTo>
                    <a:pt x="4386" y="495"/>
                  </a:lnTo>
                  <a:lnTo>
                    <a:pt x="4474" y="498"/>
                  </a:lnTo>
                  <a:lnTo>
                    <a:pt x="4525" y="514"/>
                  </a:lnTo>
                  <a:lnTo>
                    <a:pt x="4584" y="538"/>
                  </a:lnTo>
                  <a:lnTo>
                    <a:pt x="4664" y="589"/>
                  </a:lnTo>
                  <a:lnTo>
                    <a:pt x="4706" y="649"/>
                  </a:lnTo>
                  <a:lnTo>
                    <a:pt x="4741" y="727"/>
                  </a:lnTo>
                  <a:lnTo>
                    <a:pt x="4753" y="785"/>
                  </a:lnTo>
                  <a:lnTo>
                    <a:pt x="4804" y="1577"/>
                  </a:lnTo>
                  <a:lnTo>
                    <a:pt x="6509" y="1858"/>
                  </a:lnTo>
                  <a:lnTo>
                    <a:pt x="6695" y="1455"/>
                  </a:lnTo>
                  <a:lnTo>
                    <a:pt x="6290" y="442"/>
                  </a:lnTo>
                  <a:lnTo>
                    <a:pt x="6141" y="369"/>
                  </a:lnTo>
                  <a:lnTo>
                    <a:pt x="5850" y="293"/>
                  </a:lnTo>
                  <a:lnTo>
                    <a:pt x="5539" y="217"/>
                  </a:lnTo>
                  <a:lnTo>
                    <a:pt x="5227" y="158"/>
                  </a:lnTo>
                  <a:lnTo>
                    <a:pt x="4873" y="101"/>
                  </a:lnTo>
                  <a:lnTo>
                    <a:pt x="4519" y="55"/>
                  </a:lnTo>
                  <a:lnTo>
                    <a:pt x="4149" y="18"/>
                  </a:lnTo>
                  <a:lnTo>
                    <a:pt x="3794" y="4"/>
                  </a:lnTo>
                  <a:lnTo>
                    <a:pt x="3483" y="0"/>
                  </a:lnTo>
                  <a:lnTo>
                    <a:pt x="3199" y="8"/>
                  </a:lnTo>
                  <a:lnTo>
                    <a:pt x="2913" y="5"/>
                  </a:lnTo>
                  <a:lnTo>
                    <a:pt x="2633" y="16"/>
                  </a:lnTo>
                  <a:lnTo>
                    <a:pt x="2192" y="47"/>
                  </a:lnTo>
                  <a:lnTo>
                    <a:pt x="1813" y="107"/>
                  </a:lnTo>
                  <a:lnTo>
                    <a:pt x="1492" y="167"/>
                  </a:lnTo>
                  <a:lnTo>
                    <a:pt x="1219" y="225"/>
                  </a:lnTo>
                  <a:lnTo>
                    <a:pt x="944" y="287"/>
                  </a:lnTo>
                  <a:lnTo>
                    <a:pt x="654" y="370"/>
                  </a:lnTo>
                  <a:lnTo>
                    <a:pt x="456" y="4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3669840" y="3476880"/>
              <a:ext cx="135720" cy="171360"/>
            </a:xfrm>
            <a:custGeom>
              <a:avLst/>
              <a:gdLst/>
              <a:ahLst/>
              <a:rect l="l" t="t" r="r" b="b"/>
              <a:pathLst>
                <a:path w="2074" h="2485">
                  <a:moveTo>
                    <a:pt x="1442" y="0"/>
                  </a:moveTo>
                  <a:lnTo>
                    <a:pt x="1442" y="1120"/>
                  </a:lnTo>
                  <a:lnTo>
                    <a:pt x="2074" y="1120"/>
                  </a:lnTo>
                  <a:lnTo>
                    <a:pt x="2074" y="1455"/>
                  </a:lnTo>
                  <a:lnTo>
                    <a:pt x="1455" y="1455"/>
                  </a:lnTo>
                  <a:lnTo>
                    <a:pt x="1455" y="2485"/>
                  </a:lnTo>
                  <a:lnTo>
                    <a:pt x="0" y="1287"/>
                  </a:lnTo>
                  <a:lnTo>
                    <a:pt x="14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3660120" y="3643920"/>
              <a:ext cx="133560" cy="173520"/>
            </a:xfrm>
            <a:custGeom>
              <a:avLst/>
              <a:gdLst/>
              <a:ahLst/>
              <a:rect l="l" t="t" r="r" b="b"/>
              <a:pathLst>
                <a:path w="2074" h="2486">
                  <a:moveTo>
                    <a:pt x="632" y="2486"/>
                  </a:moveTo>
                  <a:lnTo>
                    <a:pt x="632" y="1365"/>
                  </a:lnTo>
                  <a:lnTo>
                    <a:pt x="0" y="1365"/>
                  </a:lnTo>
                  <a:lnTo>
                    <a:pt x="0" y="1030"/>
                  </a:lnTo>
                  <a:lnTo>
                    <a:pt x="620" y="1030"/>
                  </a:lnTo>
                  <a:lnTo>
                    <a:pt x="620" y="0"/>
                  </a:lnTo>
                  <a:lnTo>
                    <a:pt x="2074" y="1197"/>
                  </a:lnTo>
                  <a:lnTo>
                    <a:pt x="632" y="24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4273200" y="3476880"/>
              <a:ext cx="136080" cy="171360"/>
            </a:xfrm>
            <a:custGeom>
              <a:avLst/>
              <a:gdLst/>
              <a:ahLst/>
              <a:rect l="l" t="t" r="r" b="b"/>
              <a:pathLst>
                <a:path w="2074" h="2485">
                  <a:moveTo>
                    <a:pt x="632" y="0"/>
                  </a:moveTo>
                  <a:lnTo>
                    <a:pt x="632" y="1120"/>
                  </a:lnTo>
                  <a:lnTo>
                    <a:pt x="0" y="1120"/>
                  </a:lnTo>
                  <a:lnTo>
                    <a:pt x="0" y="1455"/>
                  </a:lnTo>
                  <a:lnTo>
                    <a:pt x="620" y="1455"/>
                  </a:lnTo>
                  <a:lnTo>
                    <a:pt x="620" y="2485"/>
                  </a:lnTo>
                  <a:lnTo>
                    <a:pt x="2074" y="1287"/>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4282200" y="3643920"/>
              <a:ext cx="136080" cy="173520"/>
            </a:xfrm>
            <a:custGeom>
              <a:avLst/>
              <a:gdLst/>
              <a:ahLst/>
              <a:rect l="l" t="t" r="r" b="b"/>
              <a:pathLst>
                <a:path w="2074" h="2486">
                  <a:moveTo>
                    <a:pt x="1443" y="2486"/>
                  </a:moveTo>
                  <a:lnTo>
                    <a:pt x="1443" y="1365"/>
                  </a:lnTo>
                  <a:lnTo>
                    <a:pt x="2074" y="1365"/>
                  </a:lnTo>
                  <a:lnTo>
                    <a:pt x="2074" y="1030"/>
                  </a:lnTo>
                  <a:lnTo>
                    <a:pt x="1455" y="1030"/>
                  </a:lnTo>
                  <a:lnTo>
                    <a:pt x="1455" y="0"/>
                  </a:lnTo>
                  <a:lnTo>
                    <a:pt x="0" y="1197"/>
                  </a:lnTo>
                  <a:lnTo>
                    <a:pt x="1443" y="24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
            <p:cNvSpPr/>
            <p:nvPr/>
          </p:nvSpPr>
          <p:spPr>
            <a:xfrm>
              <a:off x="3876480" y="3548880"/>
              <a:ext cx="33804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3913560" y="3578760"/>
              <a:ext cx="272520" cy="12240"/>
            </a:xfrm>
            <a:custGeom>
              <a:avLst/>
              <a:gdLst/>
              <a:ahLst/>
              <a:rect l="l" t="t" r="r" b="b"/>
              <a:pathLst>
                <a:path w="4145" h="198">
                  <a:moveTo>
                    <a:pt x="4145" y="99"/>
                  </a:moveTo>
                  <a:lnTo>
                    <a:pt x="4047" y="0"/>
                  </a:lnTo>
                  <a:lnTo>
                    <a:pt x="0" y="0"/>
                  </a:lnTo>
                  <a:lnTo>
                    <a:pt x="0" y="198"/>
                  </a:lnTo>
                  <a:lnTo>
                    <a:pt x="4047" y="198"/>
                  </a:lnTo>
                  <a:lnTo>
                    <a:pt x="4145" y="99"/>
                  </a:lnTo>
                  <a:close/>
                </a:path>
              </a:pathLst>
            </a:custGeom>
            <a:solidFill>
              <a:srgbClr val="0760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506" name=""/>
            <p:cNvSpPr/>
            <p:nvPr/>
          </p:nvSpPr>
          <p:spPr>
            <a:xfrm>
              <a:off x="4172040" y="3586320"/>
              <a:ext cx="14040" cy="61920"/>
            </a:xfrm>
            <a:custGeom>
              <a:avLst/>
              <a:gdLst/>
              <a:ahLst/>
              <a:rect l="l" t="t" r="r" b="b"/>
              <a:pathLst>
                <a:path w="197" h="923">
                  <a:moveTo>
                    <a:pt x="99" y="923"/>
                  </a:moveTo>
                  <a:lnTo>
                    <a:pt x="197" y="825"/>
                  </a:lnTo>
                  <a:lnTo>
                    <a:pt x="197" y="0"/>
                  </a:lnTo>
                  <a:lnTo>
                    <a:pt x="0" y="0"/>
                  </a:lnTo>
                  <a:lnTo>
                    <a:pt x="0" y="825"/>
                  </a:lnTo>
                  <a:lnTo>
                    <a:pt x="99" y="923"/>
                  </a:lnTo>
                  <a:close/>
                </a:path>
              </a:pathLst>
            </a:custGeom>
            <a:solidFill>
              <a:srgbClr val="07608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7" name=""/>
            <p:cNvSpPr/>
            <p:nvPr/>
          </p:nvSpPr>
          <p:spPr>
            <a:xfrm>
              <a:off x="3908880" y="3636000"/>
              <a:ext cx="270000" cy="12240"/>
            </a:xfrm>
            <a:custGeom>
              <a:avLst/>
              <a:gdLst/>
              <a:ahLst/>
              <a:rect l="l" t="t" r="r" b="b"/>
              <a:pathLst>
                <a:path w="4146" h="198">
                  <a:moveTo>
                    <a:pt x="0" y="100"/>
                  </a:moveTo>
                  <a:lnTo>
                    <a:pt x="99" y="198"/>
                  </a:lnTo>
                  <a:lnTo>
                    <a:pt x="4146" y="198"/>
                  </a:lnTo>
                  <a:lnTo>
                    <a:pt x="4146" y="0"/>
                  </a:lnTo>
                  <a:lnTo>
                    <a:pt x="99" y="0"/>
                  </a:lnTo>
                  <a:lnTo>
                    <a:pt x="0" y="100"/>
                  </a:lnTo>
                  <a:close/>
                </a:path>
              </a:pathLst>
            </a:custGeom>
            <a:solidFill>
              <a:srgbClr val="0760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508" name=""/>
            <p:cNvSpPr/>
            <p:nvPr/>
          </p:nvSpPr>
          <p:spPr>
            <a:xfrm>
              <a:off x="3908880" y="3578760"/>
              <a:ext cx="11520" cy="61920"/>
            </a:xfrm>
            <a:custGeom>
              <a:avLst/>
              <a:gdLst/>
              <a:ahLst/>
              <a:rect l="l" t="t" r="r" b="b"/>
              <a:pathLst>
                <a:path w="197" h="924">
                  <a:moveTo>
                    <a:pt x="99" y="0"/>
                  </a:moveTo>
                  <a:lnTo>
                    <a:pt x="0" y="99"/>
                  </a:lnTo>
                  <a:lnTo>
                    <a:pt x="0" y="924"/>
                  </a:lnTo>
                  <a:lnTo>
                    <a:pt x="197" y="924"/>
                  </a:lnTo>
                  <a:lnTo>
                    <a:pt x="197" y="99"/>
                  </a:lnTo>
                  <a:lnTo>
                    <a:pt x="99" y="0"/>
                  </a:lnTo>
                  <a:close/>
                </a:path>
              </a:pathLst>
            </a:custGeom>
            <a:solidFill>
              <a:srgbClr val="07608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9" name=""/>
            <p:cNvSpPr/>
            <p:nvPr/>
          </p:nvSpPr>
          <p:spPr>
            <a:xfrm>
              <a:off x="3913560" y="3686040"/>
              <a:ext cx="272520" cy="12240"/>
            </a:xfrm>
            <a:custGeom>
              <a:avLst/>
              <a:gdLst/>
              <a:ahLst/>
              <a:rect l="l" t="t" r="r" b="b"/>
              <a:pathLst>
                <a:path w="4145" h="198">
                  <a:moveTo>
                    <a:pt x="4145" y="100"/>
                  </a:moveTo>
                  <a:lnTo>
                    <a:pt x="4047" y="0"/>
                  </a:lnTo>
                  <a:lnTo>
                    <a:pt x="0" y="0"/>
                  </a:lnTo>
                  <a:lnTo>
                    <a:pt x="0" y="198"/>
                  </a:lnTo>
                  <a:lnTo>
                    <a:pt x="4047" y="198"/>
                  </a:lnTo>
                  <a:lnTo>
                    <a:pt x="4145" y="100"/>
                  </a:lnTo>
                  <a:close/>
                </a:path>
              </a:pathLst>
            </a:custGeom>
            <a:solidFill>
              <a:srgbClr val="0760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510" name=""/>
            <p:cNvSpPr/>
            <p:nvPr/>
          </p:nvSpPr>
          <p:spPr>
            <a:xfrm>
              <a:off x="4172040" y="3690720"/>
              <a:ext cx="14040" cy="149400"/>
            </a:xfrm>
            <a:custGeom>
              <a:avLst/>
              <a:gdLst/>
              <a:ahLst/>
              <a:rect l="l" t="t" r="r" b="b"/>
              <a:pathLst>
                <a:path w="197" h="2159">
                  <a:moveTo>
                    <a:pt x="99" y="2159"/>
                  </a:moveTo>
                  <a:lnTo>
                    <a:pt x="197" y="2060"/>
                  </a:lnTo>
                  <a:lnTo>
                    <a:pt x="197" y="0"/>
                  </a:lnTo>
                  <a:lnTo>
                    <a:pt x="0" y="0"/>
                  </a:lnTo>
                  <a:lnTo>
                    <a:pt x="0" y="2060"/>
                  </a:lnTo>
                  <a:lnTo>
                    <a:pt x="99" y="2159"/>
                  </a:lnTo>
                  <a:close/>
                </a:path>
              </a:pathLst>
            </a:custGeom>
            <a:solidFill>
              <a:srgbClr val="076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
            <p:cNvSpPr/>
            <p:nvPr/>
          </p:nvSpPr>
          <p:spPr>
            <a:xfrm>
              <a:off x="3908880" y="3827880"/>
              <a:ext cx="270000" cy="12240"/>
            </a:xfrm>
            <a:custGeom>
              <a:avLst/>
              <a:gdLst/>
              <a:ahLst/>
              <a:rect l="l" t="t" r="r" b="b"/>
              <a:pathLst>
                <a:path w="4146" h="197">
                  <a:moveTo>
                    <a:pt x="0" y="98"/>
                  </a:moveTo>
                  <a:lnTo>
                    <a:pt x="99" y="197"/>
                  </a:lnTo>
                  <a:lnTo>
                    <a:pt x="4146" y="197"/>
                  </a:lnTo>
                  <a:lnTo>
                    <a:pt x="4146" y="0"/>
                  </a:lnTo>
                  <a:lnTo>
                    <a:pt x="99" y="0"/>
                  </a:lnTo>
                  <a:lnTo>
                    <a:pt x="0" y="98"/>
                  </a:lnTo>
                  <a:close/>
                </a:path>
              </a:pathLst>
            </a:custGeom>
            <a:solidFill>
              <a:srgbClr val="0760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512" name=""/>
            <p:cNvSpPr/>
            <p:nvPr/>
          </p:nvSpPr>
          <p:spPr>
            <a:xfrm>
              <a:off x="3908880" y="3686040"/>
              <a:ext cx="11520" cy="148680"/>
            </a:xfrm>
            <a:custGeom>
              <a:avLst/>
              <a:gdLst/>
              <a:ahLst/>
              <a:rect l="l" t="t" r="r" b="b"/>
              <a:pathLst>
                <a:path w="197" h="2160">
                  <a:moveTo>
                    <a:pt x="99" y="0"/>
                  </a:moveTo>
                  <a:lnTo>
                    <a:pt x="0" y="100"/>
                  </a:lnTo>
                  <a:lnTo>
                    <a:pt x="0" y="2160"/>
                  </a:lnTo>
                  <a:lnTo>
                    <a:pt x="197" y="2160"/>
                  </a:lnTo>
                  <a:lnTo>
                    <a:pt x="197" y="100"/>
                  </a:lnTo>
                  <a:lnTo>
                    <a:pt x="99" y="0"/>
                  </a:lnTo>
                  <a:close/>
                </a:path>
              </a:pathLst>
            </a:custGeom>
            <a:solidFill>
              <a:srgbClr val="076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a:off x="4178880" y="3660840"/>
              <a:ext cx="4680" cy="12960"/>
            </a:xfrm>
            <a:prstGeom prst="rect">
              <a:avLst/>
            </a:prstGeom>
            <a:solidFill>
              <a:srgbClr val="07608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514" name=""/>
            <p:cNvSpPr/>
            <p:nvPr/>
          </p:nvSpPr>
          <p:spPr>
            <a:xfrm>
              <a:off x="3913560" y="3660840"/>
              <a:ext cx="264960" cy="12960"/>
            </a:xfrm>
            <a:prstGeom prst="rect">
              <a:avLst/>
            </a:prstGeom>
            <a:solidFill>
              <a:srgbClr val="07608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515" name=""/>
            <p:cNvSpPr/>
            <p:nvPr/>
          </p:nvSpPr>
          <p:spPr>
            <a:xfrm>
              <a:off x="3512160" y="2979000"/>
              <a:ext cx="1052640" cy="383040"/>
            </a:xfrm>
            <a:custGeom>
              <a:avLst/>
              <a:gdLst/>
              <a:ahLst/>
              <a:rect l="l" t="t" r="r" b="b"/>
              <a:pathLst>
                <a:path w="16146" h="5544">
                  <a:moveTo>
                    <a:pt x="16146" y="2772"/>
                  </a:moveTo>
                  <a:lnTo>
                    <a:pt x="16136" y="2914"/>
                  </a:lnTo>
                  <a:lnTo>
                    <a:pt x="16105" y="3056"/>
                  </a:lnTo>
                  <a:lnTo>
                    <a:pt x="16053" y="3194"/>
                  </a:lnTo>
                  <a:lnTo>
                    <a:pt x="15982" y="3330"/>
                  </a:lnTo>
                  <a:lnTo>
                    <a:pt x="15892" y="3465"/>
                  </a:lnTo>
                  <a:lnTo>
                    <a:pt x="15783" y="3596"/>
                  </a:lnTo>
                  <a:lnTo>
                    <a:pt x="15657" y="3724"/>
                  </a:lnTo>
                  <a:lnTo>
                    <a:pt x="15512" y="3850"/>
                  </a:lnTo>
                  <a:lnTo>
                    <a:pt x="15350" y="3973"/>
                  </a:lnTo>
                  <a:lnTo>
                    <a:pt x="15171" y="4092"/>
                  </a:lnTo>
                  <a:lnTo>
                    <a:pt x="14977" y="4209"/>
                  </a:lnTo>
                  <a:lnTo>
                    <a:pt x="14767" y="4321"/>
                  </a:lnTo>
                  <a:lnTo>
                    <a:pt x="14542" y="4430"/>
                  </a:lnTo>
                  <a:lnTo>
                    <a:pt x="14302" y="4534"/>
                  </a:lnTo>
                  <a:lnTo>
                    <a:pt x="14048" y="4636"/>
                  </a:lnTo>
                  <a:lnTo>
                    <a:pt x="13781" y="4731"/>
                  </a:lnTo>
                  <a:lnTo>
                    <a:pt x="13500" y="4824"/>
                  </a:lnTo>
                  <a:lnTo>
                    <a:pt x="13207" y="4911"/>
                  </a:lnTo>
                  <a:lnTo>
                    <a:pt x="12903" y="4993"/>
                  </a:lnTo>
                  <a:lnTo>
                    <a:pt x="12586" y="5070"/>
                  </a:lnTo>
                  <a:lnTo>
                    <a:pt x="12258" y="5143"/>
                  </a:lnTo>
                  <a:lnTo>
                    <a:pt x="11920" y="5209"/>
                  </a:lnTo>
                  <a:lnTo>
                    <a:pt x="11572" y="5271"/>
                  </a:lnTo>
                  <a:lnTo>
                    <a:pt x="11214" y="5326"/>
                  </a:lnTo>
                  <a:lnTo>
                    <a:pt x="10848" y="5375"/>
                  </a:lnTo>
                  <a:lnTo>
                    <a:pt x="10473" y="5420"/>
                  </a:lnTo>
                  <a:lnTo>
                    <a:pt x="10089" y="5456"/>
                  </a:lnTo>
                  <a:lnTo>
                    <a:pt x="9699" y="5487"/>
                  </a:lnTo>
                  <a:lnTo>
                    <a:pt x="9302" y="5512"/>
                  </a:lnTo>
                  <a:lnTo>
                    <a:pt x="8898" y="5529"/>
                  </a:lnTo>
                  <a:lnTo>
                    <a:pt x="8489" y="5541"/>
                  </a:lnTo>
                  <a:lnTo>
                    <a:pt x="8073" y="5544"/>
                  </a:lnTo>
                  <a:lnTo>
                    <a:pt x="7658" y="5541"/>
                  </a:lnTo>
                  <a:lnTo>
                    <a:pt x="7248" y="5529"/>
                  </a:lnTo>
                  <a:lnTo>
                    <a:pt x="6844" y="5512"/>
                  </a:lnTo>
                  <a:lnTo>
                    <a:pt x="6447" y="5487"/>
                  </a:lnTo>
                  <a:lnTo>
                    <a:pt x="6057" y="5456"/>
                  </a:lnTo>
                  <a:lnTo>
                    <a:pt x="5673" y="5420"/>
                  </a:lnTo>
                  <a:lnTo>
                    <a:pt x="5298" y="5375"/>
                  </a:lnTo>
                  <a:lnTo>
                    <a:pt x="4932" y="5326"/>
                  </a:lnTo>
                  <a:lnTo>
                    <a:pt x="4573" y="5271"/>
                  </a:lnTo>
                  <a:lnTo>
                    <a:pt x="4226" y="5209"/>
                  </a:lnTo>
                  <a:lnTo>
                    <a:pt x="3888" y="5143"/>
                  </a:lnTo>
                  <a:lnTo>
                    <a:pt x="3560" y="5070"/>
                  </a:lnTo>
                  <a:lnTo>
                    <a:pt x="3243" y="4993"/>
                  </a:lnTo>
                  <a:lnTo>
                    <a:pt x="2939" y="4911"/>
                  </a:lnTo>
                  <a:lnTo>
                    <a:pt x="2646" y="4824"/>
                  </a:lnTo>
                  <a:lnTo>
                    <a:pt x="2365" y="4731"/>
                  </a:lnTo>
                  <a:lnTo>
                    <a:pt x="2097" y="4636"/>
                  </a:lnTo>
                  <a:lnTo>
                    <a:pt x="1844" y="4534"/>
                  </a:lnTo>
                  <a:lnTo>
                    <a:pt x="1604" y="4430"/>
                  </a:lnTo>
                  <a:lnTo>
                    <a:pt x="1379" y="4321"/>
                  </a:lnTo>
                  <a:lnTo>
                    <a:pt x="1169" y="4209"/>
                  </a:lnTo>
                  <a:lnTo>
                    <a:pt x="975" y="4092"/>
                  </a:lnTo>
                  <a:lnTo>
                    <a:pt x="796" y="3973"/>
                  </a:lnTo>
                  <a:lnTo>
                    <a:pt x="634" y="3850"/>
                  </a:lnTo>
                  <a:lnTo>
                    <a:pt x="489" y="3724"/>
                  </a:lnTo>
                  <a:lnTo>
                    <a:pt x="363" y="3596"/>
                  </a:lnTo>
                  <a:lnTo>
                    <a:pt x="253" y="3465"/>
                  </a:lnTo>
                  <a:lnTo>
                    <a:pt x="164" y="3330"/>
                  </a:lnTo>
                  <a:lnTo>
                    <a:pt x="93" y="3194"/>
                  </a:lnTo>
                  <a:lnTo>
                    <a:pt x="41" y="3056"/>
                  </a:lnTo>
                  <a:lnTo>
                    <a:pt x="10" y="2914"/>
                  </a:lnTo>
                  <a:lnTo>
                    <a:pt x="0" y="2772"/>
                  </a:lnTo>
                  <a:lnTo>
                    <a:pt x="10" y="2629"/>
                  </a:lnTo>
                  <a:lnTo>
                    <a:pt x="41" y="2488"/>
                  </a:lnTo>
                  <a:lnTo>
                    <a:pt x="93" y="2350"/>
                  </a:lnTo>
                  <a:lnTo>
                    <a:pt x="164" y="2214"/>
                  </a:lnTo>
                  <a:lnTo>
                    <a:pt x="253" y="2079"/>
                  </a:lnTo>
                  <a:lnTo>
                    <a:pt x="363" y="1948"/>
                  </a:lnTo>
                  <a:lnTo>
                    <a:pt x="489" y="1819"/>
                  </a:lnTo>
                  <a:lnTo>
                    <a:pt x="634" y="1694"/>
                  </a:lnTo>
                  <a:lnTo>
                    <a:pt x="796" y="1571"/>
                  </a:lnTo>
                  <a:lnTo>
                    <a:pt x="975" y="1451"/>
                  </a:lnTo>
                  <a:lnTo>
                    <a:pt x="1169" y="1335"/>
                  </a:lnTo>
                  <a:lnTo>
                    <a:pt x="1379" y="1223"/>
                  </a:lnTo>
                  <a:lnTo>
                    <a:pt x="1604" y="1114"/>
                  </a:lnTo>
                  <a:lnTo>
                    <a:pt x="1844" y="1010"/>
                  </a:lnTo>
                  <a:lnTo>
                    <a:pt x="2097" y="908"/>
                  </a:lnTo>
                  <a:lnTo>
                    <a:pt x="2365" y="813"/>
                  </a:lnTo>
                  <a:lnTo>
                    <a:pt x="2646" y="720"/>
                  </a:lnTo>
                  <a:lnTo>
                    <a:pt x="2939" y="633"/>
                  </a:lnTo>
                  <a:lnTo>
                    <a:pt x="3243" y="551"/>
                  </a:lnTo>
                  <a:lnTo>
                    <a:pt x="3560" y="473"/>
                  </a:lnTo>
                  <a:lnTo>
                    <a:pt x="3888" y="401"/>
                  </a:lnTo>
                  <a:lnTo>
                    <a:pt x="4226" y="335"/>
                  </a:lnTo>
                  <a:lnTo>
                    <a:pt x="4573" y="273"/>
                  </a:lnTo>
                  <a:lnTo>
                    <a:pt x="4932" y="218"/>
                  </a:lnTo>
                  <a:lnTo>
                    <a:pt x="5298" y="169"/>
                  </a:lnTo>
                  <a:lnTo>
                    <a:pt x="5673" y="125"/>
                  </a:lnTo>
                  <a:lnTo>
                    <a:pt x="6057" y="88"/>
                  </a:lnTo>
                  <a:lnTo>
                    <a:pt x="6447" y="57"/>
                  </a:lnTo>
                  <a:lnTo>
                    <a:pt x="6844" y="32"/>
                  </a:lnTo>
                  <a:lnTo>
                    <a:pt x="7248" y="15"/>
                  </a:lnTo>
                  <a:lnTo>
                    <a:pt x="7658" y="4"/>
                  </a:lnTo>
                  <a:lnTo>
                    <a:pt x="8073" y="0"/>
                  </a:lnTo>
                  <a:lnTo>
                    <a:pt x="8489" y="4"/>
                  </a:lnTo>
                  <a:lnTo>
                    <a:pt x="8898" y="15"/>
                  </a:lnTo>
                  <a:lnTo>
                    <a:pt x="9302" y="32"/>
                  </a:lnTo>
                  <a:lnTo>
                    <a:pt x="9699" y="57"/>
                  </a:lnTo>
                  <a:lnTo>
                    <a:pt x="10089" y="88"/>
                  </a:lnTo>
                  <a:lnTo>
                    <a:pt x="10473" y="125"/>
                  </a:lnTo>
                  <a:lnTo>
                    <a:pt x="10848" y="169"/>
                  </a:lnTo>
                  <a:lnTo>
                    <a:pt x="11214" y="218"/>
                  </a:lnTo>
                  <a:lnTo>
                    <a:pt x="11572" y="273"/>
                  </a:lnTo>
                  <a:lnTo>
                    <a:pt x="11920" y="335"/>
                  </a:lnTo>
                  <a:lnTo>
                    <a:pt x="12258" y="401"/>
                  </a:lnTo>
                  <a:lnTo>
                    <a:pt x="12586" y="473"/>
                  </a:lnTo>
                  <a:lnTo>
                    <a:pt x="12903" y="551"/>
                  </a:lnTo>
                  <a:lnTo>
                    <a:pt x="13207" y="633"/>
                  </a:lnTo>
                  <a:lnTo>
                    <a:pt x="13500" y="720"/>
                  </a:lnTo>
                  <a:lnTo>
                    <a:pt x="13781" y="813"/>
                  </a:lnTo>
                  <a:lnTo>
                    <a:pt x="14048" y="908"/>
                  </a:lnTo>
                  <a:lnTo>
                    <a:pt x="14302" y="1010"/>
                  </a:lnTo>
                  <a:lnTo>
                    <a:pt x="14542" y="1114"/>
                  </a:lnTo>
                  <a:lnTo>
                    <a:pt x="14767" y="1223"/>
                  </a:lnTo>
                  <a:lnTo>
                    <a:pt x="14977" y="1335"/>
                  </a:lnTo>
                  <a:lnTo>
                    <a:pt x="15171" y="1451"/>
                  </a:lnTo>
                  <a:lnTo>
                    <a:pt x="15350" y="1571"/>
                  </a:lnTo>
                  <a:lnTo>
                    <a:pt x="15512" y="1694"/>
                  </a:lnTo>
                  <a:lnTo>
                    <a:pt x="15657" y="1819"/>
                  </a:lnTo>
                  <a:lnTo>
                    <a:pt x="15783" y="1948"/>
                  </a:lnTo>
                  <a:lnTo>
                    <a:pt x="15892" y="2079"/>
                  </a:lnTo>
                  <a:lnTo>
                    <a:pt x="15982" y="2214"/>
                  </a:lnTo>
                  <a:lnTo>
                    <a:pt x="16053" y="2350"/>
                  </a:lnTo>
                  <a:lnTo>
                    <a:pt x="16105" y="2488"/>
                  </a:lnTo>
                  <a:lnTo>
                    <a:pt x="16136" y="2629"/>
                  </a:lnTo>
                  <a:lnTo>
                    <a:pt x="16146" y="2772"/>
                  </a:lnTo>
                  <a:close/>
                </a:path>
              </a:pathLst>
            </a:custGeom>
            <a:solidFill>
              <a:srgbClr val="009b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4038480" y="3170880"/>
              <a:ext cx="533160" cy="199080"/>
            </a:xfrm>
            <a:custGeom>
              <a:avLst/>
              <a:gdLst/>
              <a:ahLst/>
              <a:rect l="l" t="t" r="r" b="b"/>
              <a:pathLst>
                <a:path w="8172" h="2871">
                  <a:moveTo>
                    <a:pt x="0" y="2871"/>
                  </a:moveTo>
                  <a:lnTo>
                    <a:pt x="0" y="2871"/>
                  </a:lnTo>
                  <a:lnTo>
                    <a:pt x="209" y="2870"/>
                  </a:lnTo>
                  <a:lnTo>
                    <a:pt x="417" y="2867"/>
                  </a:lnTo>
                  <a:lnTo>
                    <a:pt x="623" y="2863"/>
                  </a:lnTo>
                  <a:lnTo>
                    <a:pt x="828" y="2856"/>
                  </a:lnTo>
                  <a:lnTo>
                    <a:pt x="1032" y="2849"/>
                  </a:lnTo>
                  <a:lnTo>
                    <a:pt x="1234" y="2838"/>
                  </a:lnTo>
                  <a:lnTo>
                    <a:pt x="1434" y="2827"/>
                  </a:lnTo>
                  <a:lnTo>
                    <a:pt x="1633" y="2814"/>
                  </a:lnTo>
                  <a:lnTo>
                    <a:pt x="1831" y="2799"/>
                  </a:lnTo>
                  <a:lnTo>
                    <a:pt x="2026" y="2783"/>
                  </a:lnTo>
                  <a:lnTo>
                    <a:pt x="2219" y="2764"/>
                  </a:lnTo>
                  <a:lnTo>
                    <a:pt x="2411" y="2745"/>
                  </a:lnTo>
                  <a:lnTo>
                    <a:pt x="2600" y="2724"/>
                  </a:lnTo>
                  <a:lnTo>
                    <a:pt x="2787" y="2702"/>
                  </a:lnTo>
                  <a:lnTo>
                    <a:pt x="2973" y="2677"/>
                  </a:lnTo>
                  <a:lnTo>
                    <a:pt x="3155" y="2652"/>
                  </a:lnTo>
                  <a:lnTo>
                    <a:pt x="3336" y="2625"/>
                  </a:lnTo>
                  <a:lnTo>
                    <a:pt x="3515" y="2596"/>
                  </a:lnTo>
                  <a:lnTo>
                    <a:pt x="3692" y="2566"/>
                  </a:lnTo>
                  <a:lnTo>
                    <a:pt x="3865" y="2535"/>
                  </a:lnTo>
                  <a:lnTo>
                    <a:pt x="4036" y="2502"/>
                  </a:lnTo>
                  <a:lnTo>
                    <a:pt x="4206" y="2467"/>
                  </a:lnTo>
                  <a:lnTo>
                    <a:pt x="4371" y="2432"/>
                  </a:lnTo>
                  <a:lnTo>
                    <a:pt x="4534" y="2394"/>
                  </a:lnTo>
                  <a:lnTo>
                    <a:pt x="4696" y="2356"/>
                  </a:lnTo>
                  <a:lnTo>
                    <a:pt x="4854" y="2317"/>
                  </a:lnTo>
                  <a:lnTo>
                    <a:pt x="5008" y="2276"/>
                  </a:lnTo>
                  <a:lnTo>
                    <a:pt x="5161" y="2234"/>
                  </a:lnTo>
                  <a:lnTo>
                    <a:pt x="5310" y="2190"/>
                  </a:lnTo>
                  <a:lnTo>
                    <a:pt x="5456" y="2146"/>
                  </a:lnTo>
                  <a:lnTo>
                    <a:pt x="5528" y="2123"/>
                  </a:lnTo>
                  <a:lnTo>
                    <a:pt x="5600" y="2100"/>
                  </a:lnTo>
                  <a:lnTo>
                    <a:pt x="5670" y="2076"/>
                  </a:lnTo>
                  <a:lnTo>
                    <a:pt x="5740" y="2054"/>
                  </a:lnTo>
                  <a:lnTo>
                    <a:pt x="5808" y="2029"/>
                  </a:lnTo>
                  <a:lnTo>
                    <a:pt x="5877" y="2004"/>
                  </a:lnTo>
                  <a:lnTo>
                    <a:pt x="5943" y="1981"/>
                  </a:lnTo>
                  <a:lnTo>
                    <a:pt x="6009" y="1956"/>
                  </a:lnTo>
                  <a:lnTo>
                    <a:pt x="6076" y="1931"/>
                  </a:lnTo>
                  <a:lnTo>
                    <a:pt x="6140" y="1906"/>
                  </a:lnTo>
                  <a:lnTo>
                    <a:pt x="6204" y="1880"/>
                  </a:lnTo>
                  <a:lnTo>
                    <a:pt x="6267" y="1854"/>
                  </a:lnTo>
                  <a:lnTo>
                    <a:pt x="6329" y="1828"/>
                  </a:lnTo>
                  <a:lnTo>
                    <a:pt x="6389" y="1801"/>
                  </a:lnTo>
                  <a:lnTo>
                    <a:pt x="6450" y="1775"/>
                  </a:lnTo>
                  <a:lnTo>
                    <a:pt x="6510" y="1748"/>
                  </a:lnTo>
                  <a:lnTo>
                    <a:pt x="6568" y="1720"/>
                  </a:lnTo>
                  <a:lnTo>
                    <a:pt x="6625" y="1694"/>
                  </a:lnTo>
                  <a:lnTo>
                    <a:pt x="6683" y="1666"/>
                  </a:lnTo>
                  <a:lnTo>
                    <a:pt x="6738" y="1637"/>
                  </a:lnTo>
                  <a:lnTo>
                    <a:pt x="6793" y="1610"/>
                  </a:lnTo>
                  <a:lnTo>
                    <a:pt x="6847" y="1581"/>
                  </a:lnTo>
                  <a:lnTo>
                    <a:pt x="6900" y="1552"/>
                  </a:lnTo>
                  <a:lnTo>
                    <a:pt x="6952" y="1523"/>
                  </a:lnTo>
                  <a:lnTo>
                    <a:pt x="7003" y="1494"/>
                  </a:lnTo>
                  <a:lnTo>
                    <a:pt x="7053" y="1464"/>
                  </a:lnTo>
                  <a:lnTo>
                    <a:pt x="7102" y="1434"/>
                  </a:lnTo>
                  <a:lnTo>
                    <a:pt x="7151" y="1405"/>
                  </a:lnTo>
                  <a:lnTo>
                    <a:pt x="7199" y="1374"/>
                  </a:lnTo>
                  <a:lnTo>
                    <a:pt x="7244" y="1344"/>
                  </a:lnTo>
                  <a:lnTo>
                    <a:pt x="7289" y="1313"/>
                  </a:lnTo>
                  <a:lnTo>
                    <a:pt x="7333" y="1281"/>
                  </a:lnTo>
                  <a:lnTo>
                    <a:pt x="7377" y="1251"/>
                  </a:lnTo>
                  <a:lnTo>
                    <a:pt x="7419" y="1219"/>
                  </a:lnTo>
                  <a:lnTo>
                    <a:pt x="7460" y="1187"/>
                  </a:lnTo>
                  <a:lnTo>
                    <a:pt x="7500" y="1155"/>
                  </a:lnTo>
                  <a:lnTo>
                    <a:pt x="7540" y="1124"/>
                  </a:lnTo>
                  <a:lnTo>
                    <a:pt x="7577" y="1091"/>
                  </a:lnTo>
                  <a:lnTo>
                    <a:pt x="7614" y="1058"/>
                  </a:lnTo>
                  <a:lnTo>
                    <a:pt x="7650" y="1025"/>
                  </a:lnTo>
                  <a:lnTo>
                    <a:pt x="7685" y="991"/>
                  </a:lnTo>
                  <a:lnTo>
                    <a:pt x="7718" y="958"/>
                  </a:lnTo>
                  <a:lnTo>
                    <a:pt x="7751" y="925"/>
                  </a:lnTo>
                  <a:lnTo>
                    <a:pt x="7783" y="891"/>
                  </a:lnTo>
                  <a:lnTo>
                    <a:pt x="7813" y="856"/>
                  </a:lnTo>
                  <a:lnTo>
                    <a:pt x="7842" y="822"/>
                  </a:lnTo>
                  <a:lnTo>
                    <a:pt x="7871" y="787"/>
                  </a:lnTo>
                  <a:lnTo>
                    <a:pt x="7897" y="752"/>
                  </a:lnTo>
                  <a:lnTo>
                    <a:pt x="7924" y="716"/>
                  </a:lnTo>
                  <a:lnTo>
                    <a:pt x="7948" y="682"/>
                  </a:lnTo>
                  <a:lnTo>
                    <a:pt x="7972" y="646"/>
                  </a:lnTo>
                  <a:lnTo>
                    <a:pt x="7993" y="609"/>
                  </a:lnTo>
                  <a:lnTo>
                    <a:pt x="8015" y="573"/>
                  </a:lnTo>
                  <a:lnTo>
                    <a:pt x="8034" y="536"/>
                  </a:lnTo>
                  <a:lnTo>
                    <a:pt x="8052" y="499"/>
                  </a:lnTo>
                  <a:lnTo>
                    <a:pt x="8070" y="462"/>
                  </a:lnTo>
                  <a:lnTo>
                    <a:pt x="8086" y="425"/>
                  </a:lnTo>
                  <a:lnTo>
                    <a:pt x="8100" y="387"/>
                  </a:lnTo>
                  <a:lnTo>
                    <a:pt x="8114" y="349"/>
                  </a:lnTo>
                  <a:lnTo>
                    <a:pt x="8126" y="311"/>
                  </a:lnTo>
                  <a:lnTo>
                    <a:pt x="8136" y="273"/>
                  </a:lnTo>
                  <a:lnTo>
                    <a:pt x="8145" y="234"/>
                  </a:lnTo>
                  <a:lnTo>
                    <a:pt x="8154" y="195"/>
                  </a:lnTo>
                  <a:lnTo>
                    <a:pt x="8161" y="156"/>
                  </a:lnTo>
                  <a:lnTo>
                    <a:pt x="8165" y="117"/>
                  </a:lnTo>
                  <a:lnTo>
                    <a:pt x="8169" y="78"/>
                  </a:lnTo>
                  <a:lnTo>
                    <a:pt x="8171" y="40"/>
                  </a:lnTo>
                  <a:lnTo>
                    <a:pt x="8172" y="0"/>
                  </a:lnTo>
                  <a:lnTo>
                    <a:pt x="7975" y="0"/>
                  </a:lnTo>
                  <a:lnTo>
                    <a:pt x="7975" y="32"/>
                  </a:lnTo>
                  <a:lnTo>
                    <a:pt x="7973" y="64"/>
                  </a:lnTo>
                  <a:lnTo>
                    <a:pt x="7970" y="96"/>
                  </a:lnTo>
                  <a:lnTo>
                    <a:pt x="7966" y="128"/>
                  </a:lnTo>
                  <a:lnTo>
                    <a:pt x="7961" y="161"/>
                  </a:lnTo>
                  <a:lnTo>
                    <a:pt x="7953" y="192"/>
                  </a:lnTo>
                  <a:lnTo>
                    <a:pt x="7946" y="223"/>
                  </a:lnTo>
                  <a:lnTo>
                    <a:pt x="7937" y="255"/>
                  </a:lnTo>
                  <a:lnTo>
                    <a:pt x="7928" y="287"/>
                  </a:lnTo>
                  <a:lnTo>
                    <a:pt x="7917" y="318"/>
                  </a:lnTo>
                  <a:lnTo>
                    <a:pt x="7903" y="350"/>
                  </a:lnTo>
                  <a:lnTo>
                    <a:pt x="7890" y="382"/>
                  </a:lnTo>
                  <a:lnTo>
                    <a:pt x="7876" y="414"/>
                  </a:lnTo>
                  <a:lnTo>
                    <a:pt x="7860" y="445"/>
                  </a:lnTo>
                  <a:lnTo>
                    <a:pt x="7843" y="476"/>
                  </a:lnTo>
                  <a:lnTo>
                    <a:pt x="7825" y="508"/>
                  </a:lnTo>
                  <a:lnTo>
                    <a:pt x="7805" y="539"/>
                  </a:lnTo>
                  <a:lnTo>
                    <a:pt x="7785" y="571"/>
                  </a:lnTo>
                  <a:lnTo>
                    <a:pt x="7763" y="602"/>
                  </a:lnTo>
                  <a:lnTo>
                    <a:pt x="7741" y="633"/>
                  </a:lnTo>
                  <a:lnTo>
                    <a:pt x="7716" y="664"/>
                  </a:lnTo>
                  <a:lnTo>
                    <a:pt x="7691" y="696"/>
                  </a:lnTo>
                  <a:lnTo>
                    <a:pt x="7664" y="727"/>
                  </a:lnTo>
                  <a:lnTo>
                    <a:pt x="7638" y="757"/>
                  </a:lnTo>
                  <a:lnTo>
                    <a:pt x="7609" y="788"/>
                  </a:lnTo>
                  <a:lnTo>
                    <a:pt x="7580" y="819"/>
                  </a:lnTo>
                  <a:lnTo>
                    <a:pt x="7548" y="850"/>
                  </a:lnTo>
                  <a:lnTo>
                    <a:pt x="7516" y="880"/>
                  </a:lnTo>
                  <a:lnTo>
                    <a:pt x="7482" y="911"/>
                  </a:lnTo>
                  <a:lnTo>
                    <a:pt x="7449" y="941"/>
                  </a:lnTo>
                  <a:lnTo>
                    <a:pt x="7413" y="972"/>
                  </a:lnTo>
                  <a:lnTo>
                    <a:pt x="7377" y="1001"/>
                  </a:lnTo>
                  <a:lnTo>
                    <a:pt x="7339" y="1032"/>
                  </a:lnTo>
                  <a:lnTo>
                    <a:pt x="7301" y="1062"/>
                  </a:lnTo>
                  <a:lnTo>
                    <a:pt x="7261" y="1092"/>
                  </a:lnTo>
                  <a:lnTo>
                    <a:pt x="7220" y="1120"/>
                  </a:lnTo>
                  <a:lnTo>
                    <a:pt x="7178" y="1150"/>
                  </a:lnTo>
                  <a:lnTo>
                    <a:pt x="7135" y="1180"/>
                  </a:lnTo>
                  <a:lnTo>
                    <a:pt x="7091" y="1209"/>
                  </a:lnTo>
                  <a:lnTo>
                    <a:pt x="7046" y="1237"/>
                  </a:lnTo>
                  <a:lnTo>
                    <a:pt x="7000" y="1266"/>
                  </a:lnTo>
                  <a:lnTo>
                    <a:pt x="6953" y="1295"/>
                  </a:lnTo>
                  <a:lnTo>
                    <a:pt x="6904" y="1322"/>
                  </a:lnTo>
                  <a:lnTo>
                    <a:pt x="6856" y="1351"/>
                  </a:lnTo>
                  <a:lnTo>
                    <a:pt x="6806" y="1379"/>
                  </a:lnTo>
                  <a:lnTo>
                    <a:pt x="6754" y="1407"/>
                  </a:lnTo>
                  <a:lnTo>
                    <a:pt x="6702" y="1434"/>
                  </a:lnTo>
                  <a:lnTo>
                    <a:pt x="6650" y="1461"/>
                  </a:lnTo>
                  <a:lnTo>
                    <a:pt x="6596" y="1489"/>
                  </a:lnTo>
                  <a:lnTo>
                    <a:pt x="6541" y="1515"/>
                  </a:lnTo>
                  <a:lnTo>
                    <a:pt x="6484" y="1542"/>
                  </a:lnTo>
                  <a:lnTo>
                    <a:pt x="6428" y="1569"/>
                  </a:lnTo>
                  <a:lnTo>
                    <a:pt x="6370" y="1594"/>
                  </a:lnTo>
                  <a:lnTo>
                    <a:pt x="6312" y="1621"/>
                  </a:lnTo>
                  <a:lnTo>
                    <a:pt x="6252" y="1647"/>
                  </a:lnTo>
                  <a:lnTo>
                    <a:pt x="6191" y="1671"/>
                  </a:lnTo>
                  <a:lnTo>
                    <a:pt x="6130" y="1697"/>
                  </a:lnTo>
                  <a:lnTo>
                    <a:pt x="6068" y="1721"/>
                  </a:lnTo>
                  <a:lnTo>
                    <a:pt x="6004" y="1747"/>
                  </a:lnTo>
                  <a:lnTo>
                    <a:pt x="5941" y="1771"/>
                  </a:lnTo>
                  <a:lnTo>
                    <a:pt x="5876" y="1795"/>
                  </a:lnTo>
                  <a:lnTo>
                    <a:pt x="5810" y="1819"/>
                  </a:lnTo>
                  <a:lnTo>
                    <a:pt x="5744" y="1842"/>
                  </a:lnTo>
                  <a:lnTo>
                    <a:pt x="5676" y="1866"/>
                  </a:lnTo>
                  <a:lnTo>
                    <a:pt x="5608" y="1890"/>
                  </a:lnTo>
                  <a:lnTo>
                    <a:pt x="5539" y="1912"/>
                  </a:lnTo>
                  <a:lnTo>
                    <a:pt x="5469" y="1935"/>
                  </a:lnTo>
                  <a:lnTo>
                    <a:pt x="5399" y="1957"/>
                  </a:lnTo>
                  <a:lnTo>
                    <a:pt x="5255" y="2001"/>
                  </a:lnTo>
                  <a:lnTo>
                    <a:pt x="5108" y="2043"/>
                  </a:lnTo>
                  <a:lnTo>
                    <a:pt x="4958" y="2084"/>
                  </a:lnTo>
                  <a:lnTo>
                    <a:pt x="4805" y="2125"/>
                  </a:lnTo>
                  <a:lnTo>
                    <a:pt x="4650" y="2164"/>
                  </a:lnTo>
                  <a:lnTo>
                    <a:pt x="4491" y="2202"/>
                  </a:lnTo>
                  <a:lnTo>
                    <a:pt x="4329" y="2238"/>
                  </a:lnTo>
                  <a:lnTo>
                    <a:pt x="4166" y="2274"/>
                  </a:lnTo>
                  <a:lnTo>
                    <a:pt x="3998" y="2307"/>
                  </a:lnTo>
                  <a:lnTo>
                    <a:pt x="3830" y="2340"/>
                  </a:lnTo>
                  <a:lnTo>
                    <a:pt x="3657" y="2371"/>
                  </a:lnTo>
                  <a:lnTo>
                    <a:pt x="3483" y="2401"/>
                  </a:lnTo>
                  <a:lnTo>
                    <a:pt x="3307" y="2429"/>
                  </a:lnTo>
                  <a:lnTo>
                    <a:pt x="3128" y="2456"/>
                  </a:lnTo>
                  <a:lnTo>
                    <a:pt x="2946" y="2481"/>
                  </a:lnTo>
                  <a:lnTo>
                    <a:pt x="2763" y="2505"/>
                  </a:lnTo>
                  <a:lnTo>
                    <a:pt x="2577" y="2528"/>
                  </a:lnTo>
                  <a:lnTo>
                    <a:pt x="2389" y="2549"/>
                  </a:lnTo>
                  <a:lnTo>
                    <a:pt x="2200" y="2569"/>
                  </a:lnTo>
                  <a:lnTo>
                    <a:pt x="2008" y="2586"/>
                  </a:lnTo>
                  <a:lnTo>
                    <a:pt x="1815" y="2602"/>
                  </a:lnTo>
                  <a:lnTo>
                    <a:pt x="1620" y="2617"/>
                  </a:lnTo>
                  <a:lnTo>
                    <a:pt x="1423" y="2630"/>
                  </a:lnTo>
                  <a:lnTo>
                    <a:pt x="1224" y="2641"/>
                  </a:lnTo>
                  <a:lnTo>
                    <a:pt x="1024" y="2651"/>
                  </a:lnTo>
                  <a:lnTo>
                    <a:pt x="822" y="2659"/>
                  </a:lnTo>
                  <a:lnTo>
                    <a:pt x="619" y="2665"/>
                  </a:lnTo>
                  <a:lnTo>
                    <a:pt x="414" y="2670"/>
                  </a:lnTo>
                  <a:lnTo>
                    <a:pt x="207" y="2672"/>
                  </a:lnTo>
                  <a:lnTo>
                    <a:pt x="0" y="2673"/>
                  </a:lnTo>
                  <a:lnTo>
                    <a:pt x="0" y="2673"/>
                  </a:lnTo>
                  <a:lnTo>
                    <a:pt x="0" y="2871"/>
                  </a:lnTo>
                  <a:lnTo>
                    <a:pt x="0" y="2871"/>
                  </a:lnTo>
                  <a:lnTo>
                    <a:pt x="0"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3505320" y="3170880"/>
              <a:ext cx="533160" cy="199080"/>
            </a:xfrm>
            <a:custGeom>
              <a:avLst/>
              <a:gdLst/>
              <a:ahLst/>
              <a:rect l="l" t="t" r="r" b="b"/>
              <a:pathLst>
                <a:path w="8172" h="2871">
                  <a:moveTo>
                    <a:pt x="0" y="0"/>
                  </a:moveTo>
                  <a:lnTo>
                    <a:pt x="0" y="0"/>
                  </a:lnTo>
                  <a:lnTo>
                    <a:pt x="1" y="40"/>
                  </a:lnTo>
                  <a:lnTo>
                    <a:pt x="3" y="78"/>
                  </a:lnTo>
                  <a:lnTo>
                    <a:pt x="7" y="117"/>
                  </a:lnTo>
                  <a:lnTo>
                    <a:pt x="11" y="156"/>
                  </a:lnTo>
                  <a:lnTo>
                    <a:pt x="18" y="195"/>
                  </a:lnTo>
                  <a:lnTo>
                    <a:pt x="27" y="234"/>
                  </a:lnTo>
                  <a:lnTo>
                    <a:pt x="36" y="273"/>
                  </a:lnTo>
                  <a:lnTo>
                    <a:pt x="46" y="311"/>
                  </a:lnTo>
                  <a:lnTo>
                    <a:pt x="58" y="349"/>
                  </a:lnTo>
                  <a:lnTo>
                    <a:pt x="72" y="387"/>
                  </a:lnTo>
                  <a:lnTo>
                    <a:pt x="86" y="425"/>
                  </a:lnTo>
                  <a:lnTo>
                    <a:pt x="102" y="462"/>
                  </a:lnTo>
                  <a:lnTo>
                    <a:pt x="118" y="499"/>
                  </a:lnTo>
                  <a:lnTo>
                    <a:pt x="138" y="536"/>
                  </a:lnTo>
                  <a:lnTo>
                    <a:pt x="157" y="573"/>
                  </a:lnTo>
                  <a:lnTo>
                    <a:pt x="179" y="609"/>
                  </a:lnTo>
                  <a:lnTo>
                    <a:pt x="200" y="646"/>
                  </a:lnTo>
                  <a:lnTo>
                    <a:pt x="224" y="682"/>
                  </a:lnTo>
                  <a:lnTo>
                    <a:pt x="248" y="716"/>
                  </a:lnTo>
                  <a:lnTo>
                    <a:pt x="275" y="751"/>
                  </a:lnTo>
                  <a:lnTo>
                    <a:pt x="301" y="787"/>
                  </a:lnTo>
                  <a:lnTo>
                    <a:pt x="330" y="822"/>
                  </a:lnTo>
                  <a:lnTo>
                    <a:pt x="359" y="856"/>
                  </a:lnTo>
                  <a:lnTo>
                    <a:pt x="389" y="891"/>
                  </a:lnTo>
                  <a:lnTo>
                    <a:pt x="421" y="925"/>
                  </a:lnTo>
                  <a:lnTo>
                    <a:pt x="454" y="958"/>
                  </a:lnTo>
                  <a:lnTo>
                    <a:pt x="486" y="991"/>
                  </a:lnTo>
                  <a:lnTo>
                    <a:pt x="522" y="1025"/>
                  </a:lnTo>
                  <a:lnTo>
                    <a:pt x="558" y="1058"/>
                  </a:lnTo>
                  <a:lnTo>
                    <a:pt x="595" y="1091"/>
                  </a:lnTo>
                  <a:lnTo>
                    <a:pt x="632" y="1124"/>
                  </a:lnTo>
                  <a:lnTo>
                    <a:pt x="672" y="1155"/>
                  </a:lnTo>
                  <a:lnTo>
                    <a:pt x="712" y="1187"/>
                  </a:lnTo>
                  <a:lnTo>
                    <a:pt x="753" y="1219"/>
                  </a:lnTo>
                  <a:lnTo>
                    <a:pt x="795" y="1251"/>
                  </a:lnTo>
                  <a:lnTo>
                    <a:pt x="838" y="1281"/>
                  </a:lnTo>
                  <a:lnTo>
                    <a:pt x="883" y="1313"/>
                  </a:lnTo>
                  <a:lnTo>
                    <a:pt x="928" y="1344"/>
                  </a:lnTo>
                  <a:lnTo>
                    <a:pt x="973" y="1374"/>
                  </a:lnTo>
                  <a:lnTo>
                    <a:pt x="1022" y="1405"/>
                  </a:lnTo>
                  <a:lnTo>
                    <a:pt x="1070" y="1434"/>
                  </a:lnTo>
                  <a:lnTo>
                    <a:pt x="1119" y="1464"/>
                  </a:lnTo>
                  <a:lnTo>
                    <a:pt x="1169" y="1494"/>
                  </a:lnTo>
                  <a:lnTo>
                    <a:pt x="1220" y="1523"/>
                  </a:lnTo>
                  <a:lnTo>
                    <a:pt x="1272" y="1552"/>
                  </a:lnTo>
                  <a:lnTo>
                    <a:pt x="1325" y="1581"/>
                  </a:lnTo>
                  <a:lnTo>
                    <a:pt x="1379" y="1610"/>
                  </a:lnTo>
                  <a:lnTo>
                    <a:pt x="1433" y="1637"/>
                  </a:lnTo>
                  <a:lnTo>
                    <a:pt x="1489" y="1666"/>
                  </a:lnTo>
                  <a:lnTo>
                    <a:pt x="1547" y="1694"/>
                  </a:lnTo>
                  <a:lnTo>
                    <a:pt x="1604" y="1720"/>
                  </a:lnTo>
                  <a:lnTo>
                    <a:pt x="1662" y="1748"/>
                  </a:lnTo>
                  <a:lnTo>
                    <a:pt x="1721" y="1775"/>
                  </a:lnTo>
                  <a:lnTo>
                    <a:pt x="1781" y="1801"/>
                  </a:lnTo>
                  <a:lnTo>
                    <a:pt x="1843" y="1828"/>
                  </a:lnTo>
                  <a:lnTo>
                    <a:pt x="1905" y="1854"/>
                  </a:lnTo>
                  <a:lnTo>
                    <a:pt x="1968" y="1880"/>
                  </a:lnTo>
                  <a:lnTo>
                    <a:pt x="2032" y="1906"/>
                  </a:lnTo>
                  <a:lnTo>
                    <a:pt x="2096" y="1931"/>
                  </a:lnTo>
                  <a:lnTo>
                    <a:pt x="2163" y="1956"/>
                  </a:lnTo>
                  <a:lnTo>
                    <a:pt x="2228" y="1981"/>
                  </a:lnTo>
                  <a:lnTo>
                    <a:pt x="2295" y="2004"/>
                  </a:lnTo>
                  <a:lnTo>
                    <a:pt x="2364" y="2029"/>
                  </a:lnTo>
                  <a:lnTo>
                    <a:pt x="2432" y="2054"/>
                  </a:lnTo>
                  <a:lnTo>
                    <a:pt x="2502" y="2076"/>
                  </a:lnTo>
                  <a:lnTo>
                    <a:pt x="2572" y="2100"/>
                  </a:lnTo>
                  <a:lnTo>
                    <a:pt x="2644" y="2123"/>
                  </a:lnTo>
                  <a:lnTo>
                    <a:pt x="2715" y="2146"/>
                  </a:lnTo>
                  <a:lnTo>
                    <a:pt x="2788" y="2169"/>
                  </a:lnTo>
                  <a:lnTo>
                    <a:pt x="2861" y="2190"/>
                  </a:lnTo>
                  <a:lnTo>
                    <a:pt x="2936" y="2212"/>
                  </a:lnTo>
                  <a:lnTo>
                    <a:pt x="3011" y="2234"/>
                  </a:lnTo>
                  <a:lnTo>
                    <a:pt x="3163" y="2276"/>
                  </a:lnTo>
                  <a:lnTo>
                    <a:pt x="3318" y="2317"/>
                  </a:lnTo>
                  <a:lnTo>
                    <a:pt x="3476" y="2356"/>
                  </a:lnTo>
                  <a:lnTo>
                    <a:pt x="3638" y="2394"/>
                  </a:lnTo>
                  <a:lnTo>
                    <a:pt x="3801" y="2432"/>
                  </a:lnTo>
                  <a:lnTo>
                    <a:pt x="3966" y="2467"/>
                  </a:lnTo>
                  <a:lnTo>
                    <a:pt x="4135" y="2502"/>
                  </a:lnTo>
                  <a:lnTo>
                    <a:pt x="4307" y="2535"/>
                  </a:lnTo>
                  <a:lnTo>
                    <a:pt x="4480" y="2566"/>
                  </a:lnTo>
                  <a:lnTo>
                    <a:pt x="4657" y="2596"/>
                  </a:lnTo>
                  <a:lnTo>
                    <a:pt x="4836" y="2625"/>
                  </a:lnTo>
                  <a:lnTo>
                    <a:pt x="5017" y="2652"/>
                  </a:lnTo>
                  <a:lnTo>
                    <a:pt x="5199" y="2677"/>
                  </a:lnTo>
                  <a:lnTo>
                    <a:pt x="5385" y="2702"/>
                  </a:lnTo>
                  <a:lnTo>
                    <a:pt x="5572" y="2724"/>
                  </a:lnTo>
                  <a:lnTo>
                    <a:pt x="5761" y="2745"/>
                  </a:lnTo>
                  <a:lnTo>
                    <a:pt x="5953" y="2764"/>
                  </a:lnTo>
                  <a:lnTo>
                    <a:pt x="6146" y="2783"/>
                  </a:lnTo>
                  <a:lnTo>
                    <a:pt x="6341" y="2799"/>
                  </a:lnTo>
                  <a:lnTo>
                    <a:pt x="6539" y="2814"/>
                  </a:lnTo>
                  <a:lnTo>
                    <a:pt x="6738" y="2827"/>
                  </a:lnTo>
                  <a:lnTo>
                    <a:pt x="6938" y="2838"/>
                  </a:lnTo>
                  <a:lnTo>
                    <a:pt x="7140" y="2849"/>
                  </a:lnTo>
                  <a:lnTo>
                    <a:pt x="7344" y="2856"/>
                  </a:lnTo>
                  <a:lnTo>
                    <a:pt x="7549" y="2863"/>
                  </a:lnTo>
                  <a:lnTo>
                    <a:pt x="7755" y="2867"/>
                  </a:lnTo>
                  <a:lnTo>
                    <a:pt x="7963" y="2870"/>
                  </a:lnTo>
                  <a:lnTo>
                    <a:pt x="8172" y="2871"/>
                  </a:lnTo>
                  <a:lnTo>
                    <a:pt x="8172" y="2673"/>
                  </a:lnTo>
                  <a:lnTo>
                    <a:pt x="7965" y="2672"/>
                  </a:lnTo>
                  <a:lnTo>
                    <a:pt x="7758" y="2670"/>
                  </a:lnTo>
                  <a:lnTo>
                    <a:pt x="7553" y="2665"/>
                  </a:lnTo>
                  <a:lnTo>
                    <a:pt x="7350" y="2659"/>
                  </a:lnTo>
                  <a:lnTo>
                    <a:pt x="7148" y="2651"/>
                  </a:lnTo>
                  <a:lnTo>
                    <a:pt x="6948" y="2641"/>
                  </a:lnTo>
                  <a:lnTo>
                    <a:pt x="6749" y="2630"/>
                  </a:lnTo>
                  <a:lnTo>
                    <a:pt x="6552" y="2617"/>
                  </a:lnTo>
                  <a:lnTo>
                    <a:pt x="6357" y="2602"/>
                  </a:lnTo>
                  <a:lnTo>
                    <a:pt x="6164" y="2586"/>
                  </a:lnTo>
                  <a:lnTo>
                    <a:pt x="5972" y="2569"/>
                  </a:lnTo>
                  <a:lnTo>
                    <a:pt x="5783" y="2549"/>
                  </a:lnTo>
                  <a:lnTo>
                    <a:pt x="5595" y="2528"/>
                  </a:lnTo>
                  <a:lnTo>
                    <a:pt x="5409" y="2505"/>
                  </a:lnTo>
                  <a:lnTo>
                    <a:pt x="5226" y="2481"/>
                  </a:lnTo>
                  <a:lnTo>
                    <a:pt x="5044" y="2456"/>
                  </a:lnTo>
                  <a:lnTo>
                    <a:pt x="4865" y="2429"/>
                  </a:lnTo>
                  <a:lnTo>
                    <a:pt x="4689" y="2401"/>
                  </a:lnTo>
                  <a:lnTo>
                    <a:pt x="4514" y="2371"/>
                  </a:lnTo>
                  <a:lnTo>
                    <a:pt x="4342" y="2340"/>
                  </a:lnTo>
                  <a:lnTo>
                    <a:pt x="4173" y="2307"/>
                  </a:lnTo>
                  <a:lnTo>
                    <a:pt x="4006" y="2274"/>
                  </a:lnTo>
                  <a:lnTo>
                    <a:pt x="3842" y="2238"/>
                  </a:lnTo>
                  <a:lnTo>
                    <a:pt x="3681" y="2202"/>
                  </a:lnTo>
                  <a:lnTo>
                    <a:pt x="3522" y="2164"/>
                  </a:lnTo>
                  <a:lnTo>
                    <a:pt x="3367" y="2125"/>
                  </a:lnTo>
                  <a:lnTo>
                    <a:pt x="3214" y="2084"/>
                  </a:lnTo>
                  <a:lnTo>
                    <a:pt x="3063" y="2043"/>
                  </a:lnTo>
                  <a:lnTo>
                    <a:pt x="2990" y="2023"/>
                  </a:lnTo>
                  <a:lnTo>
                    <a:pt x="2917" y="2001"/>
                  </a:lnTo>
                  <a:lnTo>
                    <a:pt x="2845" y="1980"/>
                  </a:lnTo>
                  <a:lnTo>
                    <a:pt x="2773" y="1957"/>
                  </a:lnTo>
                  <a:lnTo>
                    <a:pt x="2703" y="1935"/>
                  </a:lnTo>
                  <a:lnTo>
                    <a:pt x="2633" y="1912"/>
                  </a:lnTo>
                  <a:lnTo>
                    <a:pt x="2564" y="1890"/>
                  </a:lnTo>
                  <a:lnTo>
                    <a:pt x="2496" y="1866"/>
                  </a:lnTo>
                  <a:lnTo>
                    <a:pt x="2428" y="1842"/>
                  </a:lnTo>
                  <a:lnTo>
                    <a:pt x="2362" y="1819"/>
                  </a:lnTo>
                  <a:lnTo>
                    <a:pt x="2296" y="1795"/>
                  </a:lnTo>
                  <a:lnTo>
                    <a:pt x="2231" y="1771"/>
                  </a:lnTo>
                  <a:lnTo>
                    <a:pt x="2168" y="1747"/>
                  </a:lnTo>
                  <a:lnTo>
                    <a:pt x="2104" y="1721"/>
                  </a:lnTo>
                  <a:lnTo>
                    <a:pt x="2042" y="1697"/>
                  </a:lnTo>
                  <a:lnTo>
                    <a:pt x="1981" y="1671"/>
                  </a:lnTo>
                  <a:lnTo>
                    <a:pt x="1920" y="1647"/>
                  </a:lnTo>
                  <a:lnTo>
                    <a:pt x="1860" y="1621"/>
                  </a:lnTo>
                  <a:lnTo>
                    <a:pt x="1802" y="1594"/>
                  </a:lnTo>
                  <a:lnTo>
                    <a:pt x="1744" y="1569"/>
                  </a:lnTo>
                  <a:lnTo>
                    <a:pt x="1686" y="1542"/>
                  </a:lnTo>
                  <a:lnTo>
                    <a:pt x="1631" y="1515"/>
                  </a:lnTo>
                  <a:lnTo>
                    <a:pt x="1576" y="1489"/>
                  </a:lnTo>
                  <a:lnTo>
                    <a:pt x="1522" y="1461"/>
                  </a:lnTo>
                  <a:lnTo>
                    <a:pt x="1469" y="1434"/>
                  </a:lnTo>
                  <a:lnTo>
                    <a:pt x="1417" y="1407"/>
                  </a:lnTo>
                  <a:lnTo>
                    <a:pt x="1367" y="1379"/>
                  </a:lnTo>
                  <a:lnTo>
                    <a:pt x="1316" y="1351"/>
                  </a:lnTo>
                  <a:lnTo>
                    <a:pt x="1267" y="1322"/>
                  </a:lnTo>
                  <a:lnTo>
                    <a:pt x="1219" y="1295"/>
                  </a:lnTo>
                  <a:lnTo>
                    <a:pt x="1172" y="1266"/>
                  </a:lnTo>
                  <a:lnTo>
                    <a:pt x="1126" y="1237"/>
                  </a:lnTo>
                  <a:lnTo>
                    <a:pt x="1081" y="1209"/>
                  </a:lnTo>
                  <a:lnTo>
                    <a:pt x="1037" y="1179"/>
                  </a:lnTo>
                  <a:lnTo>
                    <a:pt x="994" y="1150"/>
                  </a:lnTo>
                  <a:lnTo>
                    <a:pt x="952" y="1120"/>
                  </a:lnTo>
                  <a:lnTo>
                    <a:pt x="911" y="1092"/>
                  </a:lnTo>
                  <a:lnTo>
                    <a:pt x="871" y="1062"/>
                  </a:lnTo>
                  <a:lnTo>
                    <a:pt x="833" y="1032"/>
                  </a:lnTo>
                  <a:lnTo>
                    <a:pt x="795" y="1001"/>
                  </a:lnTo>
                  <a:lnTo>
                    <a:pt x="759" y="972"/>
                  </a:lnTo>
                  <a:lnTo>
                    <a:pt x="723" y="941"/>
                  </a:lnTo>
                  <a:lnTo>
                    <a:pt x="690" y="911"/>
                  </a:lnTo>
                  <a:lnTo>
                    <a:pt x="656" y="880"/>
                  </a:lnTo>
                  <a:lnTo>
                    <a:pt x="624" y="850"/>
                  </a:lnTo>
                  <a:lnTo>
                    <a:pt x="592" y="819"/>
                  </a:lnTo>
                  <a:lnTo>
                    <a:pt x="563" y="788"/>
                  </a:lnTo>
                  <a:lnTo>
                    <a:pt x="534" y="757"/>
                  </a:lnTo>
                  <a:lnTo>
                    <a:pt x="507" y="727"/>
                  </a:lnTo>
                  <a:lnTo>
                    <a:pt x="480" y="696"/>
                  </a:lnTo>
                  <a:lnTo>
                    <a:pt x="456" y="664"/>
                  </a:lnTo>
                  <a:lnTo>
                    <a:pt x="431" y="633"/>
                  </a:lnTo>
                  <a:lnTo>
                    <a:pt x="409" y="602"/>
                  </a:lnTo>
                  <a:lnTo>
                    <a:pt x="387" y="571"/>
                  </a:lnTo>
                  <a:lnTo>
                    <a:pt x="367" y="539"/>
                  </a:lnTo>
                  <a:lnTo>
                    <a:pt x="347" y="508"/>
                  </a:lnTo>
                  <a:lnTo>
                    <a:pt x="329" y="476"/>
                  </a:lnTo>
                  <a:lnTo>
                    <a:pt x="312" y="445"/>
                  </a:lnTo>
                  <a:lnTo>
                    <a:pt x="296" y="414"/>
                  </a:lnTo>
                  <a:lnTo>
                    <a:pt x="281" y="382"/>
                  </a:lnTo>
                  <a:lnTo>
                    <a:pt x="268" y="350"/>
                  </a:lnTo>
                  <a:lnTo>
                    <a:pt x="255" y="318"/>
                  </a:lnTo>
                  <a:lnTo>
                    <a:pt x="244" y="287"/>
                  </a:lnTo>
                  <a:lnTo>
                    <a:pt x="235" y="255"/>
                  </a:lnTo>
                  <a:lnTo>
                    <a:pt x="226" y="223"/>
                  </a:lnTo>
                  <a:lnTo>
                    <a:pt x="218" y="192"/>
                  </a:lnTo>
                  <a:lnTo>
                    <a:pt x="211" y="161"/>
                  </a:lnTo>
                  <a:lnTo>
                    <a:pt x="206" y="128"/>
                  </a:lnTo>
                  <a:lnTo>
                    <a:pt x="202" y="96"/>
                  </a:lnTo>
                  <a:lnTo>
                    <a:pt x="199" y="64"/>
                  </a:lnTo>
                  <a:lnTo>
                    <a:pt x="197" y="32"/>
                  </a:lnTo>
                  <a:lnTo>
                    <a:pt x="197" y="0"/>
                  </a:lnTo>
                  <a:lnTo>
                    <a:pt x="197" y="0"/>
                  </a:lnTo>
                  <a:lnTo>
                    <a:pt x="0" y="0"/>
                  </a:lnTo>
                  <a:lnTo>
                    <a:pt x="0" y="0"/>
                  </a:lnTo>
                  <a:lnTo>
                    <a:pt x="0"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3505320" y="2971800"/>
              <a:ext cx="533160" cy="199080"/>
            </a:xfrm>
            <a:custGeom>
              <a:avLst/>
              <a:gdLst/>
              <a:ahLst/>
              <a:rect l="l" t="t" r="r" b="b"/>
              <a:pathLst>
                <a:path w="8172" h="2871">
                  <a:moveTo>
                    <a:pt x="8172" y="0"/>
                  </a:moveTo>
                  <a:lnTo>
                    <a:pt x="8172" y="0"/>
                  </a:lnTo>
                  <a:lnTo>
                    <a:pt x="7963" y="1"/>
                  </a:lnTo>
                  <a:lnTo>
                    <a:pt x="7755" y="4"/>
                  </a:lnTo>
                  <a:lnTo>
                    <a:pt x="7549" y="8"/>
                  </a:lnTo>
                  <a:lnTo>
                    <a:pt x="7344" y="14"/>
                  </a:lnTo>
                  <a:lnTo>
                    <a:pt x="7140" y="23"/>
                  </a:lnTo>
                  <a:lnTo>
                    <a:pt x="6938" y="33"/>
                  </a:lnTo>
                  <a:lnTo>
                    <a:pt x="6738" y="44"/>
                  </a:lnTo>
                  <a:lnTo>
                    <a:pt x="6539" y="56"/>
                  </a:lnTo>
                  <a:lnTo>
                    <a:pt x="6341" y="72"/>
                  </a:lnTo>
                  <a:lnTo>
                    <a:pt x="6146" y="88"/>
                  </a:lnTo>
                  <a:lnTo>
                    <a:pt x="5953" y="106"/>
                  </a:lnTo>
                  <a:lnTo>
                    <a:pt x="5761" y="125"/>
                  </a:lnTo>
                  <a:lnTo>
                    <a:pt x="5572" y="147"/>
                  </a:lnTo>
                  <a:lnTo>
                    <a:pt x="5385" y="169"/>
                  </a:lnTo>
                  <a:lnTo>
                    <a:pt x="5199" y="194"/>
                  </a:lnTo>
                  <a:lnTo>
                    <a:pt x="5017" y="219"/>
                  </a:lnTo>
                  <a:lnTo>
                    <a:pt x="4836" y="246"/>
                  </a:lnTo>
                  <a:lnTo>
                    <a:pt x="4657" y="275"/>
                  </a:lnTo>
                  <a:lnTo>
                    <a:pt x="4480" y="305"/>
                  </a:lnTo>
                  <a:lnTo>
                    <a:pt x="4307" y="336"/>
                  </a:lnTo>
                  <a:lnTo>
                    <a:pt x="4135" y="369"/>
                  </a:lnTo>
                  <a:lnTo>
                    <a:pt x="3966" y="404"/>
                  </a:lnTo>
                  <a:lnTo>
                    <a:pt x="3801" y="439"/>
                  </a:lnTo>
                  <a:lnTo>
                    <a:pt x="3638" y="476"/>
                  </a:lnTo>
                  <a:lnTo>
                    <a:pt x="3476" y="515"/>
                  </a:lnTo>
                  <a:lnTo>
                    <a:pt x="3318" y="554"/>
                  </a:lnTo>
                  <a:lnTo>
                    <a:pt x="3163" y="595"/>
                  </a:lnTo>
                  <a:lnTo>
                    <a:pt x="3011" y="637"/>
                  </a:lnTo>
                  <a:lnTo>
                    <a:pt x="2861" y="681"/>
                  </a:lnTo>
                  <a:lnTo>
                    <a:pt x="2715" y="725"/>
                  </a:lnTo>
                  <a:lnTo>
                    <a:pt x="2572" y="771"/>
                  </a:lnTo>
                  <a:lnTo>
                    <a:pt x="2433" y="817"/>
                  </a:lnTo>
                  <a:lnTo>
                    <a:pt x="2364" y="842"/>
                  </a:lnTo>
                  <a:lnTo>
                    <a:pt x="2295" y="866"/>
                  </a:lnTo>
                  <a:lnTo>
                    <a:pt x="2228" y="890"/>
                  </a:lnTo>
                  <a:lnTo>
                    <a:pt x="2163" y="915"/>
                  </a:lnTo>
                  <a:lnTo>
                    <a:pt x="2096" y="940"/>
                  </a:lnTo>
                  <a:lnTo>
                    <a:pt x="2032" y="965"/>
                  </a:lnTo>
                  <a:lnTo>
                    <a:pt x="1968" y="991"/>
                  </a:lnTo>
                  <a:lnTo>
                    <a:pt x="1905" y="1017"/>
                  </a:lnTo>
                  <a:lnTo>
                    <a:pt x="1843" y="1043"/>
                  </a:lnTo>
                  <a:lnTo>
                    <a:pt x="1781" y="1070"/>
                  </a:lnTo>
                  <a:lnTo>
                    <a:pt x="1721" y="1096"/>
                  </a:lnTo>
                  <a:lnTo>
                    <a:pt x="1662" y="1123"/>
                  </a:lnTo>
                  <a:lnTo>
                    <a:pt x="1604" y="1151"/>
                  </a:lnTo>
                  <a:lnTo>
                    <a:pt x="1547" y="1177"/>
                  </a:lnTo>
                  <a:lnTo>
                    <a:pt x="1489" y="1205"/>
                  </a:lnTo>
                  <a:lnTo>
                    <a:pt x="1433" y="1234"/>
                  </a:lnTo>
                  <a:lnTo>
                    <a:pt x="1379" y="1261"/>
                  </a:lnTo>
                  <a:lnTo>
                    <a:pt x="1325" y="1290"/>
                  </a:lnTo>
                  <a:lnTo>
                    <a:pt x="1272" y="1319"/>
                  </a:lnTo>
                  <a:lnTo>
                    <a:pt x="1220" y="1348"/>
                  </a:lnTo>
                  <a:lnTo>
                    <a:pt x="1169" y="1377"/>
                  </a:lnTo>
                  <a:lnTo>
                    <a:pt x="1119" y="1406"/>
                  </a:lnTo>
                  <a:lnTo>
                    <a:pt x="1070" y="1437"/>
                  </a:lnTo>
                  <a:lnTo>
                    <a:pt x="1022" y="1467"/>
                  </a:lnTo>
                  <a:lnTo>
                    <a:pt x="973" y="1497"/>
                  </a:lnTo>
                  <a:lnTo>
                    <a:pt x="928" y="1527"/>
                  </a:lnTo>
                  <a:lnTo>
                    <a:pt x="883" y="1558"/>
                  </a:lnTo>
                  <a:lnTo>
                    <a:pt x="838" y="1590"/>
                  </a:lnTo>
                  <a:lnTo>
                    <a:pt x="795" y="1620"/>
                  </a:lnTo>
                  <a:lnTo>
                    <a:pt x="753" y="1652"/>
                  </a:lnTo>
                  <a:lnTo>
                    <a:pt x="712" y="1684"/>
                  </a:lnTo>
                  <a:lnTo>
                    <a:pt x="672" y="1716"/>
                  </a:lnTo>
                  <a:lnTo>
                    <a:pt x="632" y="1748"/>
                  </a:lnTo>
                  <a:lnTo>
                    <a:pt x="595" y="1780"/>
                  </a:lnTo>
                  <a:lnTo>
                    <a:pt x="558" y="1813"/>
                  </a:lnTo>
                  <a:lnTo>
                    <a:pt x="522" y="1846"/>
                  </a:lnTo>
                  <a:lnTo>
                    <a:pt x="486" y="1880"/>
                  </a:lnTo>
                  <a:lnTo>
                    <a:pt x="454" y="1913"/>
                  </a:lnTo>
                  <a:lnTo>
                    <a:pt x="421" y="1946"/>
                  </a:lnTo>
                  <a:lnTo>
                    <a:pt x="389" y="1980"/>
                  </a:lnTo>
                  <a:lnTo>
                    <a:pt x="359" y="2014"/>
                  </a:lnTo>
                  <a:lnTo>
                    <a:pt x="330" y="2049"/>
                  </a:lnTo>
                  <a:lnTo>
                    <a:pt x="301" y="2084"/>
                  </a:lnTo>
                  <a:lnTo>
                    <a:pt x="275" y="2119"/>
                  </a:lnTo>
                  <a:lnTo>
                    <a:pt x="248" y="2155"/>
                  </a:lnTo>
                  <a:lnTo>
                    <a:pt x="224" y="2190"/>
                  </a:lnTo>
                  <a:lnTo>
                    <a:pt x="200" y="2225"/>
                  </a:lnTo>
                  <a:lnTo>
                    <a:pt x="179" y="2262"/>
                  </a:lnTo>
                  <a:lnTo>
                    <a:pt x="157" y="2298"/>
                  </a:lnTo>
                  <a:lnTo>
                    <a:pt x="138" y="2335"/>
                  </a:lnTo>
                  <a:lnTo>
                    <a:pt x="118" y="2372"/>
                  </a:lnTo>
                  <a:lnTo>
                    <a:pt x="102" y="2409"/>
                  </a:lnTo>
                  <a:lnTo>
                    <a:pt x="86" y="2446"/>
                  </a:lnTo>
                  <a:lnTo>
                    <a:pt x="72" y="2484"/>
                  </a:lnTo>
                  <a:lnTo>
                    <a:pt x="58" y="2522"/>
                  </a:lnTo>
                  <a:lnTo>
                    <a:pt x="46" y="2560"/>
                  </a:lnTo>
                  <a:lnTo>
                    <a:pt x="36" y="2598"/>
                  </a:lnTo>
                  <a:lnTo>
                    <a:pt x="27" y="2637"/>
                  </a:lnTo>
                  <a:lnTo>
                    <a:pt x="18" y="2676"/>
                  </a:lnTo>
                  <a:lnTo>
                    <a:pt x="11" y="2714"/>
                  </a:lnTo>
                  <a:lnTo>
                    <a:pt x="7" y="2753"/>
                  </a:lnTo>
                  <a:lnTo>
                    <a:pt x="3" y="2793"/>
                  </a:lnTo>
                  <a:lnTo>
                    <a:pt x="1" y="2832"/>
                  </a:lnTo>
                  <a:lnTo>
                    <a:pt x="0" y="2871"/>
                  </a:lnTo>
                  <a:lnTo>
                    <a:pt x="197" y="2871"/>
                  </a:lnTo>
                  <a:lnTo>
                    <a:pt x="197" y="2839"/>
                  </a:lnTo>
                  <a:lnTo>
                    <a:pt x="199" y="2806"/>
                  </a:lnTo>
                  <a:lnTo>
                    <a:pt x="202" y="2775"/>
                  </a:lnTo>
                  <a:lnTo>
                    <a:pt x="206" y="2742"/>
                  </a:lnTo>
                  <a:lnTo>
                    <a:pt x="211" y="2711"/>
                  </a:lnTo>
                  <a:lnTo>
                    <a:pt x="218" y="2679"/>
                  </a:lnTo>
                  <a:lnTo>
                    <a:pt x="226" y="2647"/>
                  </a:lnTo>
                  <a:lnTo>
                    <a:pt x="235" y="2615"/>
                  </a:lnTo>
                  <a:lnTo>
                    <a:pt x="244" y="2584"/>
                  </a:lnTo>
                  <a:lnTo>
                    <a:pt x="255" y="2553"/>
                  </a:lnTo>
                  <a:lnTo>
                    <a:pt x="268" y="2521"/>
                  </a:lnTo>
                  <a:lnTo>
                    <a:pt x="281" y="2489"/>
                  </a:lnTo>
                  <a:lnTo>
                    <a:pt x="296" y="2457"/>
                  </a:lnTo>
                  <a:lnTo>
                    <a:pt x="312" y="2426"/>
                  </a:lnTo>
                  <a:lnTo>
                    <a:pt x="329" y="2395"/>
                  </a:lnTo>
                  <a:lnTo>
                    <a:pt x="347" y="2363"/>
                  </a:lnTo>
                  <a:lnTo>
                    <a:pt x="367" y="2332"/>
                  </a:lnTo>
                  <a:lnTo>
                    <a:pt x="387" y="2300"/>
                  </a:lnTo>
                  <a:lnTo>
                    <a:pt x="409" y="2269"/>
                  </a:lnTo>
                  <a:lnTo>
                    <a:pt x="431" y="2238"/>
                  </a:lnTo>
                  <a:lnTo>
                    <a:pt x="456" y="2207"/>
                  </a:lnTo>
                  <a:lnTo>
                    <a:pt x="480" y="2175"/>
                  </a:lnTo>
                  <a:lnTo>
                    <a:pt x="507" y="2144"/>
                  </a:lnTo>
                  <a:lnTo>
                    <a:pt x="534" y="2114"/>
                  </a:lnTo>
                  <a:lnTo>
                    <a:pt x="563" y="2083"/>
                  </a:lnTo>
                  <a:lnTo>
                    <a:pt x="592" y="2052"/>
                  </a:lnTo>
                  <a:lnTo>
                    <a:pt x="624" y="2021"/>
                  </a:lnTo>
                  <a:lnTo>
                    <a:pt x="656" y="1991"/>
                  </a:lnTo>
                  <a:lnTo>
                    <a:pt x="690" y="1960"/>
                  </a:lnTo>
                  <a:lnTo>
                    <a:pt x="723" y="1929"/>
                  </a:lnTo>
                  <a:lnTo>
                    <a:pt x="759" y="1899"/>
                  </a:lnTo>
                  <a:lnTo>
                    <a:pt x="795" y="1870"/>
                  </a:lnTo>
                  <a:lnTo>
                    <a:pt x="833" y="1839"/>
                  </a:lnTo>
                  <a:lnTo>
                    <a:pt x="871" y="1809"/>
                  </a:lnTo>
                  <a:lnTo>
                    <a:pt x="911" y="1779"/>
                  </a:lnTo>
                  <a:lnTo>
                    <a:pt x="952" y="1750"/>
                  </a:lnTo>
                  <a:lnTo>
                    <a:pt x="994" y="1721"/>
                  </a:lnTo>
                  <a:lnTo>
                    <a:pt x="1037" y="1691"/>
                  </a:lnTo>
                  <a:lnTo>
                    <a:pt x="1081" y="1662"/>
                  </a:lnTo>
                  <a:lnTo>
                    <a:pt x="1126" y="1634"/>
                  </a:lnTo>
                  <a:lnTo>
                    <a:pt x="1172" y="1605"/>
                  </a:lnTo>
                  <a:lnTo>
                    <a:pt x="1219" y="1576"/>
                  </a:lnTo>
                  <a:lnTo>
                    <a:pt x="1267" y="1549"/>
                  </a:lnTo>
                  <a:lnTo>
                    <a:pt x="1316" y="1520"/>
                  </a:lnTo>
                  <a:lnTo>
                    <a:pt x="1367" y="1492"/>
                  </a:lnTo>
                  <a:lnTo>
                    <a:pt x="1417" y="1464"/>
                  </a:lnTo>
                  <a:lnTo>
                    <a:pt x="1470" y="1437"/>
                  </a:lnTo>
                  <a:lnTo>
                    <a:pt x="1522" y="1410"/>
                  </a:lnTo>
                  <a:lnTo>
                    <a:pt x="1576" y="1382"/>
                  </a:lnTo>
                  <a:lnTo>
                    <a:pt x="1631" y="1356"/>
                  </a:lnTo>
                  <a:lnTo>
                    <a:pt x="1686" y="1329"/>
                  </a:lnTo>
                  <a:lnTo>
                    <a:pt x="1744" y="1302"/>
                  </a:lnTo>
                  <a:lnTo>
                    <a:pt x="1802" y="1277"/>
                  </a:lnTo>
                  <a:lnTo>
                    <a:pt x="1860" y="1250"/>
                  </a:lnTo>
                  <a:lnTo>
                    <a:pt x="1920" y="1225"/>
                  </a:lnTo>
                  <a:lnTo>
                    <a:pt x="1981" y="1199"/>
                  </a:lnTo>
                  <a:lnTo>
                    <a:pt x="2042" y="1174"/>
                  </a:lnTo>
                  <a:lnTo>
                    <a:pt x="2104" y="1150"/>
                  </a:lnTo>
                  <a:lnTo>
                    <a:pt x="2168" y="1124"/>
                  </a:lnTo>
                  <a:lnTo>
                    <a:pt x="2231" y="1100"/>
                  </a:lnTo>
                  <a:lnTo>
                    <a:pt x="2296" y="1076"/>
                  </a:lnTo>
                  <a:lnTo>
                    <a:pt x="2362" y="1051"/>
                  </a:lnTo>
                  <a:lnTo>
                    <a:pt x="2428" y="1028"/>
                  </a:lnTo>
                  <a:lnTo>
                    <a:pt x="2496" y="1005"/>
                  </a:lnTo>
                  <a:lnTo>
                    <a:pt x="2633" y="959"/>
                  </a:lnTo>
                  <a:lnTo>
                    <a:pt x="2773" y="914"/>
                  </a:lnTo>
                  <a:lnTo>
                    <a:pt x="2917" y="870"/>
                  </a:lnTo>
                  <a:lnTo>
                    <a:pt x="3065" y="828"/>
                  </a:lnTo>
                  <a:lnTo>
                    <a:pt x="3214" y="786"/>
                  </a:lnTo>
                  <a:lnTo>
                    <a:pt x="3367" y="746"/>
                  </a:lnTo>
                  <a:lnTo>
                    <a:pt x="3522" y="707"/>
                  </a:lnTo>
                  <a:lnTo>
                    <a:pt x="3681" y="669"/>
                  </a:lnTo>
                  <a:lnTo>
                    <a:pt x="3842" y="633"/>
                  </a:lnTo>
                  <a:lnTo>
                    <a:pt x="4006" y="597"/>
                  </a:lnTo>
                  <a:lnTo>
                    <a:pt x="4173" y="564"/>
                  </a:lnTo>
                  <a:lnTo>
                    <a:pt x="4342" y="531"/>
                  </a:lnTo>
                  <a:lnTo>
                    <a:pt x="4514" y="499"/>
                  </a:lnTo>
                  <a:lnTo>
                    <a:pt x="4689" y="470"/>
                  </a:lnTo>
                  <a:lnTo>
                    <a:pt x="4865" y="442"/>
                  </a:lnTo>
                  <a:lnTo>
                    <a:pt x="5044" y="414"/>
                  </a:lnTo>
                  <a:lnTo>
                    <a:pt x="5226" y="390"/>
                  </a:lnTo>
                  <a:lnTo>
                    <a:pt x="5409" y="365"/>
                  </a:lnTo>
                  <a:lnTo>
                    <a:pt x="5595" y="343"/>
                  </a:lnTo>
                  <a:lnTo>
                    <a:pt x="5783" y="322"/>
                  </a:lnTo>
                  <a:lnTo>
                    <a:pt x="5972" y="303"/>
                  </a:lnTo>
                  <a:lnTo>
                    <a:pt x="6164" y="285"/>
                  </a:lnTo>
                  <a:lnTo>
                    <a:pt x="6357" y="269"/>
                  </a:lnTo>
                  <a:lnTo>
                    <a:pt x="6552" y="254"/>
                  </a:lnTo>
                  <a:lnTo>
                    <a:pt x="6749" y="241"/>
                  </a:lnTo>
                  <a:lnTo>
                    <a:pt x="6948" y="230"/>
                  </a:lnTo>
                  <a:lnTo>
                    <a:pt x="7148" y="219"/>
                  </a:lnTo>
                  <a:lnTo>
                    <a:pt x="7350" y="212"/>
                  </a:lnTo>
                  <a:lnTo>
                    <a:pt x="7553" y="206"/>
                  </a:lnTo>
                  <a:lnTo>
                    <a:pt x="7758" y="201"/>
                  </a:lnTo>
                  <a:lnTo>
                    <a:pt x="7965" y="199"/>
                  </a:lnTo>
                  <a:lnTo>
                    <a:pt x="8172" y="198"/>
                  </a:lnTo>
                  <a:lnTo>
                    <a:pt x="8172" y="198"/>
                  </a:lnTo>
                  <a:lnTo>
                    <a:pt x="8172" y="0"/>
                  </a:lnTo>
                  <a:lnTo>
                    <a:pt x="8172" y="0"/>
                  </a:lnTo>
                  <a:lnTo>
                    <a:pt x="8172" y="0"/>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4038480" y="2971800"/>
              <a:ext cx="533160" cy="199080"/>
            </a:xfrm>
            <a:custGeom>
              <a:avLst/>
              <a:gdLst/>
              <a:ahLst/>
              <a:rect l="l" t="t" r="r" b="b"/>
              <a:pathLst>
                <a:path w="8172" h="2871">
                  <a:moveTo>
                    <a:pt x="8172" y="2871"/>
                  </a:moveTo>
                  <a:lnTo>
                    <a:pt x="8172" y="2871"/>
                  </a:lnTo>
                  <a:lnTo>
                    <a:pt x="8171" y="2832"/>
                  </a:lnTo>
                  <a:lnTo>
                    <a:pt x="8169" y="2793"/>
                  </a:lnTo>
                  <a:lnTo>
                    <a:pt x="8165" y="2753"/>
                  </a:lnTo>
                  <a:lnTo>
                    <a:pt x="8161" y="2714"/>
                  </a:lnTo>
                  <a:lnTo>
                    <a:pt x="8154" y="2676"/>
                  </a:lnTo>
                  <a:lnTo>
                    <a:pt x="8145" y="2637"/>
                  </a:lnTo>
                  <a:lnTo>
                    <a:pt x="8136" y="2598"/>
                  </a:lnTo>
                  <a:lnTo>
                    <a:pt x="8126" y="2560"/>
                  </a:lnTo>
                  <a:lnTo>
                    <a:pt x="8114" y="2522"/>
                  </a:lnTo>
                  <a:lnTo>
                    <a:pt x="8100" y="2484"/>
                  </a:lnTo>
                  <a:lnTo>
                    <a:pt x="8086" y="2446"/>
                  </a:lnTo>
                  <a:lnTo>
                    <a:pt x="8070" y="2409"/>
                  </a:lnTo>
                  <a:lnTo>
                    <a:pt x="8052" y="2372"/>
                  </a:lnTo>
                  <a:lnTo>
                    <a:pt x="8034" y="2335"/>
                  </a:lnTo>
                  <a:lnTo>
                    <a:pt x="8015" y="2298"/>
                  </a:lnTo>
                  <a:lnTo>
                    <a:pt x="7993" y="2262"/>
                  </a:lnTo>
                  <a:lnTo>
                    <a:pt x="7972" y="2225"/>
                  </a:lnTo>
                  <a:lnTo>
                    <a:pt x="7948" y="2190"/>
                  </a:lnTo>
                  <a:lnTo>
                    <a:pt x="7924" y="2155"/>
                  </a:lnTo>
                  <a:lnTo>
                    <a:pt x="7897" y="2119"/>
                  </a:lnTo>
                  <a:lnTo>
                    <a:pt x="7871" y="2084"/>
                  </a:lnTo>
                  <a:lnTo>
                    <a:pt x="7842" y="2049"/>
                  </a:lnTo>
                  <a:lnTo>
                    <a:pt x="7813" y="2014"/>
                  </a:lnTo>
                  <a:lnTo>
                    <a:pt x="7783" y="1980"/>
                  </a:lnTo>
                  <a:lnTo>
                    <a:pt x="7751" y="1946"/>
                  </a:lnTo>
                  <a:lnTo>
                    <a:pt x="7718" y="1913"/>
                  </a:lnTo>
                  <a:lnTo>
                    <a:pt x="7685" y="1880"/>
                  </a:lnTo>
                  <a:lnTo>
                    <a:pt x="7650" y="1846"/>
                  </a:lnTo>
                  <a:lnTo>
                    <a:pt x="7614" y="1813"/>
                  </a:lnTo>
                  <a:lnTo>
                    <a:pt x="7577" y="1780"/>
                  </a:lnTo>
                  <a:lnTo>
                    <a:pt x="7540" y="1748"/>
                  </a:lnTo>
                  <a:lnTo>
                    <a:pt x="7500" y="1716"/>
                  </a:lnTo>
                  <a:lnTo>
                    <a:pt x="7460" y="1684"/>
                  </a:lnTo>
                  <a:lnTo>
                    <a:pt x="7419" y="1652"/>
                  </a:lnTo>
                  <a:lnTo>
                    <a:pt x="7377" y="1620"/>
                  </a:lnTo>
                  <a:lnTo>
                    <a:pt x="7333" y="1590"/>
                  </a:lnTo>
                  <a:lnTo>
                    <a:pt x="7289" y="1558"/>
                  </a:lnTo>
                  <a:lnTo>
                    <a:pt x="7244" y="1527"/>
                  </a:lnTo>
                  <a:lnTo>
                    <a:pt x="7199" y="1497"/>
                  </a:lnTo>
                  <a:lnTo>
                    <a:pt x="7151" y="1467"/>
                  </a:lnTo>
                  <a:lnTo>
                    <a:pt x="7102" y="1437"/>
                  </a:lnTo>
                  <a:lnTo>
                    <a:pt x="7053" y="1406"/>
                  </a:lnTo>
                  <a:lnTo>
                    <a:pt x="7003" y="1377"/>
                  </a:lnTo>
                  <a:lnTo>
                    <a:pt x="6952" y="1348"/>
                  </a:lnTo>
                  <a:lnTo>
                    <a:pt x="6900" y="1319"/>
                  </a:lnTo>
                  <a:lnTo>
                    <a:pt x="6847" y="1290"/>
                  </a:lnTo>
                  <a:lnTo>
                    <a:pt x="6793" y="1261"/>
                  </a:lnTo>
                  <a:lnTo>
                    <a:pt x="6738" y="1234"/>
                  </a:lnTo>
                  <a:lnTo>
                    <a:pt x="6683" y="1205"/>
                  </a:lnTo>
                  <a:lnTo>
                    <a:pt x="6625" y="1177"/>
                  </a:lnTo>
                  <a:lnTo>
                    <a:pt x="6568" y="1151"/>
                  </a:lnTo>
                  <a:lnTo>
                    <a:pt x="6510" y="1123"/>
                  </a:lnTo>
                  <a:lnTo>
                    <a:pt x="6450" y="1096"/>
                  </a:lnTo>
                  <a:lnTo>
                    <a:pt x="6389" y="1070"/>
                  </a:lnTo>
                  <a:lnTo>
                    <a:pt x="6329" y="1043"/>
                  </a:lnTo>
                  <a:lnTo>
                    <a:pt x="6267" y="1017"/>
                  </a:lnTo>
                  <a:lnTo>
                    <a:pt x="6204" y="991"/>
                  </a:lnTo>
                  <a:lnTo>
                    <a:pt x="6140" y="965"/>
                  </a:lnTo>
                  <a:lnTo>
                    <a:pt x="6076" y="940"/>
                  </a:lnTo>
                  <a:lnTo>
                    <a:pt x="6009" y="915"/>
                  </a:lnTo>
                  <a:lnTo>
                    <a:pt x="5943" y="890"/>
                  </a:lnTo>
                  <a:lnTo>
                    <a:pt x="5877" y="866"/>
                  </a:lnTo>
                  <a:lnTo>
                    <a:pt x="5808" y="842"/>
                  </a:lnTo>
                  <a:lnTo>
                    <a:pt x="5739" y="817"/>
                  </a:lnTo>
                  <a:lnTo>
                    <a:pt x="5600" y="771"/>
                  </a:lnTo>
                  <a:lnTo>
                    <a:pt x="5456" y="725"/>
                  </a:lnTo>
                  <a:lnTo>
                    <a:pt x="5310" y="681"/>
                  </a:lnTo>
                  <a:lnTo>
                    <a:pt x="5161" y="637"/>
                  </a:lnTo>
                  <a:lnTo>
                    <a:pt x="5008" y="595"/>
                  </a:lnTo>
                  <a:lnTo>
                    <a:pt x="4854" y="554"/>
                  </a:lnTo>
                  <a:lnTo>
                    <a:pt x="4696" y="515"/>
                  </a:lnTo>
                  <a:lnTo>
                    <a:pt x="4534" y="476"/>
                  </a:lnTo>
                  <a:lnTo>
                    <a:pt x="4371" y="439"/>
                  </a:lnTo>
                  <a:lnTo>
                    <a:pt x="4206" y="404"/>
                  </a:lnTo>
                  <a:lnTo>
                    <a:pt x="4036" y="369"/>
                  </a:lnTo>
                  <a:lnTo>
                    <a:pt x="3865" y="336"/>
                  </a:lnTo>
                  <a:lnTo>
                    <a:pt x="3692" y="305"/>
                  </a:lnTo>
                  <a:lnTo>
                    <a:pt x="3515" y="275"/>
                  </a:lnTo>
                  <a:lnTo>
                    <a:pt x="3336" y="246"/>
                  </a:lnTo>
                  <a:lnTo>
                    <a:pt x="3155" y="219"/>
                  </a:lnTo>
                  <a:lnTo>
                    <a:pt x="2973" y="194"/>
                  </a:lnTo>
                  <a:lnTo>
                    <a:pt x="2787" y="169"/>
                  </a:lnTo>
                  <a:lnTo>
                    <a:pt x="2600" y="147"/>
                  </a:lnTo>
                  <a:lnTo>
                    <a:pt x="2411" y="125"/>
                  </a:lnTo>
                  <a:lnTo>
                    <a:pt x="2219" y="106"/>
                  </a:lnTo>
                  <a:lnTo>
                    <a:pt x="2026" y="88"/>
                  </a:lnTo>
                  <a:lnTo>
                    <a:pt x="1831" y="72"/>
                  </a:lnTo>
                  <a:lnTo>
                    <a:pt x="1633" y="56"/>
                  </a:lnTo>
                  <a:lnTo>
                    <a:pt x="1434" y="44"/>
                  </a:lnTo>
                  <a:lnTo>
                    <a:pt x="1234" y="33"/>
                  </a:lnTo>
                  <a:lnTo>
                    <a:pt x="1032" y="23"/>
                  </a:lnTo>
                  <a:lnTo>
                    <a:pt x="828" y="14"/>
                  </a:lnTo>
                  <a:lnTo>
                    <a:pt x="623" y="8"/>
                  </a:lnTo>
                  <a:lnTo>
                    <a:pt x="417" y="4"/>
                  </a:lnTo>
                  <a:lnTo>
                    <a:pt x="209" y="1"/>
                  </a:lnTo>
                  <a:lnTo>
                    <a:pt x="0" y="0"/>
                  </a:lnTo>
                  <a:lnTo>
                    <a:pt x="0" y="198"/>
                  </a:lnTo>
                  <a:lnTo>
                    <a:pt x="207" y="199"/>
                  </a:lnTo>
                  <a:lnTo>
                    <a:pt x="414" y="201"/>
                  </a:lnTo>
                  <a:lnTo>
                    <a:pt x="619" y="206"/>
                  </a:lnTo>
                  <a:lnTo>
                    <a:pt x="822" y="212"/>
                  </a:lnTo>
                  <a:lnTo>
                    <a:pt x="1024" y="219"/>
                  </a:lnTo>
                  <a:lnTo>
                    <a:pt x="1224" y="230"/>
                  </a:lnTo>
                  <a:lnTo>
                    <a:pt x="1423" y="241"/>
                  </a:lnTo>
                  <a:lnTo>
                    <a:pt x="1620" y="254"/>
                  </a:lnTo>
                  <a:lnTo>
                    <a:pt x="1815" y="269"/>
                  </a:lnTo>
                  <a:lnTo>
                    <a:pt x="2008" y="285"/>
                  </a:lnTo>
                  <a:lnTo>
                    <a:pt x="2200" y="303"/>
                  </a:lnTo>
                  <a:lnTo>
                    <a:pt x="2389" y="322"/>
                  </a:lnTo>
                  <a:lnTo>
                    <a:pt x="2577" y="343"/>
                  </a:lnTo>
                  <a:lnTo>
                    <a:pt x="2763" y="365"/>
                  </a:lnTo>
                  <a:lnTo>
                    <a:pt x="2946" y="390"/>
                  </a:lnTo>
                  <a:lnTo>
                    <a:pt x="3128" y="414"/>
                  </a:lnTo>
                  <a:lnTo>
                    <a:pt x="3307" y="442"/>
                  </a:lnTo>
                  <a:lnTo>
                    <a:pt x="3483" y="470"/>
                  </a:lnTo>
                  <a:lnTo>
                    <a:pt x="3657" y="499"/>
                  </a:lnTo>
                  <a:lnTo>
                    <a:pt x="3830" y="531"/>
                  </a:lnTo>
                  <a:lnTo>
                    <a:pt x="3998" y="564"/>
                  </a:lnTo>
                  <a:lnTo>
                    <a:pt x="4166" y="597"/>
                  </a:lnTo>
                  <a:lnTo>
                    <a:pt x="4329" y="633"/>
                  </a:lnTo>
                  <a:lnTo>
                    <a:pt x="4491" y="669"/>
                  </a:lnTo>
                  <a:lnTo>
                    <a:pt x="4650" y="707"/>
                  </a:lnTo>
                  <a:lnTo>
                    <a:pt x="4805" y="746"/>
                  </a:lnTo>
                  <a:lnTo>
                    <a:pt x="4958" y="786"/>
                  </a:lnTo>
                  <a:lnTo>
                    <a:pt x="5108" y="828"/>
                  </a:lnTo>
                  <a:lnTo>
                    <a:pt x="5255" y="870"/>
                  </a:lnTo>
                  <a:lnTo>
                    <a:pt x="5399" y="914"/>
                  </a:lnTo>
                  <a:lnTo>
                    <a:pt x="5539" y="959"/>
                  </a:lnTo>
                  <a:lnTo>
                    <a:pt x="5676" y="1005"/>
                  </a:lnTo>
                  <a:lnTo>
                    <a:pt x="5744" y="1028"/>
                  </a:lnTo>
                  <a:lnTo>
                    <a:pt x="5810" y="1051"/>
                  </a:lnTo>
                  <a:lnTo>
                    <a:pt x="5876" y="1076"/>
                  </a:lnTo>
                  <a:lnTo>
                    <a:pt x="5941" y="1100"/>
                  </a:lnTo>
                  <a:lnTo>
                    <a:pt x="6004" y="1124"/>
                  </a:lnTo>
                  <a:lnTo>
                    <a:pt x="6068" y="1150"/>
                  </a:lnTo>
                  <a:lnTo>
                    <a:pt x="6130" y="1174"/>
                  </a:lnTo>
                  <a:lnTo>
                    <a:pt x="6191" y="1199"/>
                  </a:lnTo>
                  <a:lnTo>
                    <a:pt x="6252" y="1225"/>
                  </a:lnTo>
                  <a:lnTo>
                    <a:pt x="6312" y="1250"/>
                  </a:lnTo>
                  <a:lnTo>
                    <a:pt x="6370" y="1277"/>
                  </a:lnTo>
                  <a:lnTo>
                    <a:pt x="6428" y="1302"/>
                  </a:lnTo>
                  <a:lnTo>
                    <a:pt x="6484" y="1329"/>
                  </a:lnTo>
                  <a:lnTo>
                    <a:pt x="6541" y="1356"/>
                  </a:lnTo>
                  <a:lnTo>
                    <a:pt x="6596" y="1382"/>
                  </a:lnTo>
                  <a:lnTo>
                    <a:pt x="6650" y="1410"/>
                  </a:lnTo>
                  <a:lnTo>
                    <a:pt x="6702" y="1437"/>
                  </a:lnTo>
                  <a:lnTo>
                    <a:pt x="6754" y="1464"/>
                  </a:lnTo>
                  <a:lnTo>
                    <a:pt x="6806" y="1492"/>
                  </a:lnTo>
                  <a:lnTo>
                    <a:pt x="6856" y="1520"/>
                  </a:lnTo>
                  <a:lnTo>
                    <a:pt x="6904" y="1549"/>
                  </a:lnTo>
                  <a:lnTo>
                    <a:pt x="6953" y="1576"/>
                  </a:lnTo>
                  <a:lnTo>
                    <a:pt x="7000" y="1605"/>
                  </a:lnTo>
                  <a:lnTo>
                    <a:pt x="7046" y="1634"/>
                  </a:lnTo>
                  <a:lnTo>
                    <a:pt x="7091" y="1662"/>
                  </a:lnTo>
                  <a:lnTo>
                    <a:pt x="7135" y="1691"/>
                  </a:lnTo>
                  <a:lnTo>
                    <a:pt x="7178" y="1721"/>
                  </a:lnTo>
                  <a:lnTo>
                    <a:pt x="7220" y="1750"/>
                  </a:lnTo>
                  <a:lnTo>
                    <a:pt x="7261" y="1779"/>
                  </a:lnTo>
                  <a:lnTo>
                    <a:pt x="7301" y="1809"/>
                  </a:lnTo>
                  <a:lnTo>
                    <a:pt x="7339" y="1839"/>
                  </a:lnTo>
                  <a:lnTo>
                    <a:pt x="7377" y="1870"/>
                  </a:lnTo>
                  <a:lnTo>
                    <a:pt x="7413" y="1899"/>
                  </a:lnTo>
                  <a:lnTo>
                    <a:pt x="7449" y="1929"/>
                  </a:lnTo>
                  <a:lnTo>
                    <a:pt x="7482" y="1960"/>
                  </a:lnTo>
                  <a:lnTo>
                    <a:pt x="7516" y="1991"/>
                  </a:lnTo>
                  <a:lnTo>
                    <a:pt x="7548" y="2021"/>
                  </a:lnTo>
                  <a:lnTo>
                    <a:pt x="7580" y="2052"/>
                  </a:lnTo>
                  <a:lnTo>
                    <a:pt x="7609" y="2083"/>
                  </a:lnTo>
                  <a:lnTo>
                    <a:pt x="7638" y="2114"/>
                  </a:lnTo>
                  <a:lnTo>
                    <a:pt x="7664" y="2144"/>
                  </a:lnTo>
                  <a:lnTo>
                    <a:pt x="7691" y="2175"/>
                  </a:lnTo>
                  <a:lnTo>
                    <a:pt x="7716" y="2207"/>
                  </a:lnTo>
                  <a:lnTo>
                    <a:pt x="7741" y="2238"/>
                  </a:lnTo>
                  <a:lnTo>
                    <a:pt x="7763" y="2269"/>
                  </a:lnTo>
                  <a:lnTo>
                    <a:pt x="7785" y="2300"/>
                  </a:lnTo>
                  <a:lnTo>
                    <a:pt x="7805" y="2332"/>
                  </a:lnTo>
                  <a:lnTo>
                    <a:pt x="7825" y="2363"/>
                  </a:lnTo>
                  <a:lnTo>
                    <a:pt x="7843" y="2395"/>
                  </a:lnTo>
                  <a:lnTo>
                    <a:pt x="7860" y="2426"/>
                  </a:lnTo>
                  <a:lnTo>
                    <a:pt x="7876" y="2457"/>
                  </a:lnTo>
                  <a:lnTo>
                    <a:pt x="7890" y="2489"/>
                  </a:lnTo>
                  <a:lnTo>
                    <a:pt x="7903" y="2521"/>
                  </a:lnTo>
                  <a:lnTo>
                    <a:pt x="7917" y="2553"/>
                  </a:lnTo>
                  <a:lnTo>
                    <a:pt x="7928" y="2584"/>
                  </a:lnTo>
                  <a:lnTo>
                    <a:pt x="7937" y="2615"/>
                  </a:lnTo>
                  <a:lnTo>
                    <a:pt x="7946" y="2647"/>
                  </a:lnTo>
                  <a:lnTo>
                    <a:pt x="7953" y="2679"/>
                  </a:lnTo>
                  <a:lnTo>
                    <a:pt x="7961" y="2711"/>
                  </a:lnTo>
                  <a:lnTo>
                    <a:pt x="7966" y="2742"/>
                  </a:lnTo>
                  <a:lnTo>
                    <a:pt x="7970" y="2775"/>
                  </a:lnTo>
                  <a:lnTo>
                    <a:pt x="7973" y="2806"/>
                  </a:lnTo>
                  <a:lnTo>
                    <a:pt x="7975" y="2839"/>
                  </a:lnTo>
                  <a:lnTo>
                    <a:pt x="7975" y="2871"/>
                  </a:lnTo>
                  <a:lnTo>
                    <a:pt x="7975" y="2871"/>
                  </a:lnTo>
                  <a:lnTo>
                    <a:pt x="8172" y="2871"/>
                  </a:lnTo>
                  <a:lnTo>
                    <a:pt x="8172" y="2871"/>
                  </a:lnTo>
                  <a:lnTo>
                    <a:pt x="8172" y="2871"/>
                  </a:lnTo>
                  <a:close/>
                </a:path>
              </a:pathLst>
            </a:custGeom>
            <a:solidFill>
              <a:srgbClr val="add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4052160" y="3031560"/>
              <a:ext cx="345600" cy="123840"/>
            </a:xfrm>
            <a:custGeom>
              <a:avLst/>
              <a:gdLst/>
              <a:ahLst/>
              <a:rect l="l" t="t" r="r" b="b"/>
              <a:pathLst>
                <a:path w="5313" h="1800">
                  <a:moveTo>
                    <a:pt x="0" y="1404"/>
                  </a:moveTo>
                  <a:lnTo>
                    <a:pt x="1189" y="1800"/>
                  </a:lnTo>
                  <a:lnTo>
                    <a:pt x="4001" y="676"/>
                  </a:lnTo>
                  <a:lnTo>
                    <a:pt x="5313" y="997"/>
                  </a:lnTo>
                  <a:lnTo>
                    <a:pt x="4621" y="0"/>
                  </a:lnTo>
                  <a:lnTo>
                    <a:pt x="1235" y="0"/>
                  </a:lnTo>
                  <a:lnTo>
                    <a:pt x="2650" y="346"/>
                  </a:lnTo>
                  <a:lnTo>
                    <a:pt x="0" y="140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3674160" y="3180600"/>
              <a:ext cx="345600" cy="124560"/>
            </a:xfrm>
            <a:custGeom>
              <a:avLst/>
              <a:gdLst/>
              <a:ahLst/>
              <a:rect l="l" t="t" r="r" b="b"/>
              <a:pathLst>
                <a:path w="5313" h="1800">
                  <a:moveTo>
                    <a:pt x="5313" y="395"/>
                  </a:moveTo>
                  <a:lnTo>
                    <a:pt x="4124" y="0"/>
                  </a:lnTo>
                  <a:lnTo>
                    <a:pt x="1313" y="1123"/>
                  </a:lnTo>
                  <a:lnTo>
                    <a:pt x="0" y="802"/>
                  </a:lnTo>
                  <a:lnTo>
                    <a:pt x="693" y="1800"/>
                  </a:lnTo>
                  <a:lnTo>
                    <a:pt x="4078" y="1800"/>
                  </a:lnTo>
                  <a:lnTo>
                    <a:pt x="2663" y="1453"/>
                  </a:lnTo>
                  <a:lnTo>
                    <a:pt x="5313" y="3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3693240" y="3026520"/>
              <a:ext cx="344880" cy="123840"/>
            </a:xfrm>
            <a:custGeom>
              <a:avLst/>
              <a:gdLst/>
              <a:ahLst/>
              <a:rect l="l" t="t" r="r" b="b"/>
              <a:pathLst>
                <a:path w="5313" h="1800">
                  <a:moveTo>
                    <a:pt x="0" y="396"/>
                  </a:moveTo>
                  <a:lnTo>
                    <a:pt x="1189" y="0"/>
                  </a:lnTo>
                  <a:lnTo>
                    <a:pt x="4002" y="1123"/>
                  </a:lnTo>
                  <a:lnTo>
                    <a:pt x="5313" y="803"/>
                  </a:lnTo>
                  <a:lnTo>
                    <a:pt x="4621" y="1800"/>
                  </a:lnTo>
                  <a:lnTo>
                    <a:pt x="1235" y="1800"/>
                  </a:lnTo>
                  <a:lnTo>
                    <a:pt x="2650" y="1453"/>
                  </a:lnTo>
                  <a:lnTo>
                    <a:pt x="0" y="3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4040640" y="3188520"/>
              <a:ext cx="347760" cy="123840"/>
            </a:xfrm>
            <a:custGeom>
              <a:avLst/>
              <a:gdLst/>
              <a:ahLst/>
              <a:rect l="l" t="t" r="r" b="b"/>
              <a:pathLst>
                <a:path w="5313" h="1800">
                  <a:moveTo>
                    <a:pt x="5313" y="1405"/>
                  </a:moveTo>
                  <a:lnTo>
                    <a:pt x="4124" y="1800"/>
                  </a:lnTo>
                  <a:lnTo>
                    <a:pt x="1312" y="677"/>
                  </a:lnTo>
                  <a:lnTo>
                    <a:pt x="0" y="998"/>
                  </a:lnTo>
                  <a:lnTo>
                    <a:pt x="692" y="0"/>
                  </a:lnTo>
                  <a:lnTo>
                    <a:pt x="4079" y="0"/>
                  </a:lnTo>
                  <a:lnTo>
                    <a:pt x="2663" y="347"/>
                  </a:lnTo>
                  <a:lnTo>
                    <a:pt x="5313" y="14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4059720" y="3036600"/>
              <a:ext cx="344880" cy="123840"/>
            </a:xfrm>
            <a:custGeom>
              <a:avLst/>
              <a:gdLst/>
              <a:ahLst/>
              <a:rect l="l" t="t" r="r" b="b"/>
              <a:pathLst>
                <a:path w="5313" h="1800">
                  <a:moveTo>
                    <a:pt x="0" y="1405"/>
                  </a:moveTo>
                  <a:lnTo>
                    <a:pt x="1190" y="1800"/>
                  </a:lnTo>
                  <a:lnTo>
                    <a:pt x="4002" y="677"/>
                  </a:lnTo>
                  <a:lnTo>
                    <a:pt x="5313" y="998"/>
                  </a:lnTo>
                  <a:lnTo>
                    <a:pt x="4622" y="0"/>
                  </a:lnTo>
                  <a:lnTo>
                    <a:pt x="1235" y="0"/>
                  </a:lnTo>
                  <a:lnTo>
                    <a:pt x="2650" y="346"/>
                  </a:lnTo>
                  <a:lnTo>
                    <a:pt x="0" y="14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3678840" y="3185640"/>
              <a:ext cx="347760" cy="124560"/>
            </a:xfrm>
            <a:custGeom>
              <a:avLst/>
              <a:gdLst/>
              <a:ahLst/>
              <a:rect l="l" t="t" r="r" b="b"/>
              <a:pathLst>
                <a:path w="5313" h="1800">
                  <a:moveTo>
                    <a:pt x="5313" y="395"/>
                  </a:moveTo>
                  <a:lnTo>
                    <a:pt x="4124" y="0"/>
                  </a:lnTo>
                  <a:lnTo>
                    <a:pt x="1312" y="1123"/>
                  </a:lnTo>
                  <a:lnTo>
                    <a:pt x="0" y="802"/>
                  </a:lnTo>
                  <a:lnTo>
                    <a:pt x="692" y="1800"/>
                  </a:lnTo>
                  <a:lnTo>
                    <a:pt x="4078" y="1800"/>
                  </a:lnTo>
                  <a:lnTo>
                    <a:pt x="2663" y="1454"/>
                  </a:lnTo>
                  <a:lnTo>
                    <a:pt x="5313"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a:off x="3697560" y="3033720"/>
              <a:ext cx="347760" cy="124560"/>
            </a:xfrm>
            <a:custGeom>
              <a:avLst/>
              <a:gdLst/>
              <a:ahLst/>
              <a:rect l="l" t="t" r="r" b="b"/>
              <a:pathLst>
                <a:path w="5314" h="1799">
                  <a:moveTo>
                    <a:pt x="0" y="394"/>
                  </a:moveTo>
                  <a:lnTo>
                    <a:pt x="1190" y="0"/>
                  </a:lnTo>
                  <a:lnTo>
                    <a:pt x="4002" y="1122"/>
                  </a:lnTo>
                  <a:lnTo>
                    <a:pt x="5314" y="801"/>
                  </a:lnTo>
                  <a:lnTo>
                    <a:pt x="4622" y="1799"/>
                  </a:lnTo>
                  <a:lnTo>
                    <a:pt x="1235" y="1799"/>
                  </a:lnTo>
                  <a:lnTo>
                    <a:pt x="2650" y="1453"/>
                  </a:lnTo>
                  <a:lnTo>
                    <a:pt x="0" y="3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4047480" y="3195720"/>
              <a:ext cx="345600" cy="123840"/>
            </a:xfrm>
            <a:custGeom>
              <a:avLst/>
              <a:gdLst/>
              <a:ahLst/>
              <a:rect l="l" t="t" r="r" b="b"/>
              <a:pathLst>
                <a:path w="5313" h="1800">
                  <a:moveTo>
                    <a:pt x="5313" y="1405"/>
                  </a:moveTo>
                  <a:lnTo>
                    <a:pt x="4124" y="1800"/>
                  </a:lnTo>
                  <a:lnTo>
                    <a:pt x="1311" y="677"/>
                  </a:lnTo>
                  <a:lnTo>
                    <a:pt x="0" y="998"/>
                  </a:lnTo>
                  <a:lnTo>
                    <a:pt x="691" y="0"/>
                  </a:lnTo>
                  <a:lnTo>
                    <a:pt x="4078" y="0"/>
                  </a:lnTo>
                  <a:lnTo>
                    <a:pt x="2663" y="347"/>
                  </a:lnTo>
                  <a:lnTo>
                    <a:pt x="5313" y="14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528" name="" descr=""/>
          <p:cNvPicPr/>
          <p:nvPr/>
        </p:nvPicPr>
        <p:blipFill>
          <a:blip r:embed="rId1"/>
          <a:stretch/>
        </p:blipFill>
        <p:spPr>
          <a:xfrm>
            <a:off x="7391520" y="4038480"/>
            <a:ext cx="838080" cy="462240"/>
          </a:xfrm>
          <a:prstGeom prst="rect">
            <a:avLst/>
          </a:prstGeom>
          <a:ln w="0">
            <a:noFill/>
          </a:ln>
        </p:spPr>
      </p:pic>
      <p:pic>
        <p:nvPicPr>
          <p:cNvPr id="529" name="" descr=""/>
          <p:cNvPicPr/>
          <p:nvPr/>
        </p:nvPicPr>
        <p:blipFill>
          <a:blip r:embed="rId2"/>
          <a:stretch/>
        </p:blipFill>
        <p:spPr>
          <a:xfrm>
            <a:off x="7391520" y="2362320"/>
            <a:ext cx="838080" cy="461880"/>
          </a:xfrm>
          <a:prstGeom prst="rect">
            <a:avLst/>
          </a:prstGeom>
          <a:ln w="0">
            <a:noFill/>
          </a:ln>
        </p:spPr>
      </p:pic>
      <p:sp>
        <p:nvSpPr>
          <p:cNvPr id="530" name=""/>
          <p:cNvSpPr/>
          <p:nvPr/>
        </p:nvSpPr>
        <p:spPr>
          <a:xfrm>
            <a:off x="7086600" y="1905120"/>
            <a:ext cx="160020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on Hold</a:t>
            </a:r>
            <a:endParaRPr b="0" lang="en-US" sz="1600" spc="-1" strike="noStrike">
              <a:solidFill>
                <a:srgbClr val="000000"/>
              </a:solidFill>
              <a:latin typeface="Arial"/>
            </a:endParaRPr>
          </a:p>
        </p:txBody>
      </p:sp>
      <p:sp>
        <p:nvSpPr>
          <p:cNvPr id="531" name=""/>
          <p:cNvSpPr/>
          <p:nvPr/>
        </p:nvSpPr>
        <p:spPr>
          <a:xfrm>
            <a:off x="7238880" y="4648320"/>
            <a:ext cx="160020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hone on Hold</a:t>
            </a:r>
            <a:endParaRPr b="0" lang="en-US" sz="1600" spc="-1" strike="noStrike">
              <a:solidFill>
                <a:srgbClr val="000000"/>
              </a:solidFill>
              <a:latin typeface="Arial"/>
            </a:endParaRPr>
          </a:p>
        </p:txBody>
      </p:sp>
      <p:sp>
        <p:nvSpPr>
          <p:cNvPr id="532" name=""/>
          <p:cNvSpPr/>
          <p:nvPr/>
        </p:nvSpPr>
        <p:spPr>
          <a:xfrm flipV="1">
            <a:off x="6629400" y="2819160"/>
            <a:ext cx="685800" cy="68580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533" name=""/>
          <p:cNvSpPr/>
          <p:nvPr/>
        </p:nvSpPr>
        <p:spPr>
          <a:xfrm>
            <a:off x="6629400" y="3505320"/>
            <a:ext cx="685800" cy="68580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534" name=""/>
          <p:cNvSpPr/>
          <p:nvPr/>
        </p:nvSpPr>
        <p:spPr>
          <a:xfrm flipH="1">
            <a:off x="4571640" y="3505320"/>
            <a:ext cx="2057400" cy="0"/>
          </a:xfrm>
          <a:prstGeom prst="line">
            <a:avLst/>
          </a:prstGeom>
          <a:ln w="38160">
            <a:solidFill>
              <a:srgbClr val="ff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535" name=""/>
          <p:cNvSpPr/>
          <p:nvPr/>
        </p:nvSpPr>
        <p:spPr>
          <a:xfrm>
            <a:off x="4572000" y="3048120"/>
            <a:ext cx="220968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unicast or multicast</a:t>
            </a:r>
            <a:endParaRPr b="0" lang="en-US" sz="1600" spc="-1" strike="noStrike">
              <a:solidFill>
                <a:srgbClr val="000000"/>
              </a:solidFill>
              <a:latin typeface="Arial"/>
            </a:endParaRPr>
          </a:p>
        </p:txBody>
      </p:sp>
      <p:sp>
        <p:nvSpPr>
          <p:cNvPr id="536" name=""/>
          <p:cNvSpPr/>
          <p:nvPr/>
        </p:nvSpPr>
        <p:spPr>
          <a:xfrm>
            <a:off x="1828800" y="3505320"/>
            <a:ext cx="1676520" cy="0"/>
          </a:xfrm>
          <a:prstGeom prst="line">
            <a:avLst/>
          </a:prstGeom>
          <a:ln w="38160">
            <a:solidFill>
              <a:srgbClr val="ff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pic>
        <p:nvPicPr>
          <p:cNvPr id="537" name="" descr=""/>
          <p:cNvPicPr/>
          <p:nvPr/>
        </p:nvPicPr>
        <p:blipFill>
          <a:blip r:embed="rId3"/>
          <a:stretch/>
        </p:blipFill>
        <p:spPr>
          <a:xfrm>
            <a:off x="739800" y="3193920"/>
            <a:ext cx="1143000" cy="671760"/>
          </a:xfrm>
          <a:prstGeom prst="rect">
            <a:avLst/>
          </a:prstGeom>
          <a:ln w="0">
            <a:noFill/>
          </a:ln>
        </p:spPr>
      </p:pic>
      <p:sp>
        <p:nvSpPr>
          <p:cNvPr id="538" name=""/>
          <p:cNvSpPr/>
          <p:nvPr/>
        </p:nvSpPr>
        <p:spPr>
          <a:xfrm>
            <a:off x="1752480" y="2209680"/>
            <a:ext cx="2057400" cy="739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amp;M port - 4-wire, immediate start, auto-cut through</a:t>
            </a:r>
            <a:endParaRPr b="0" lang="en-US" sz="1600" spc="-1" strike="noStrike">
              <a:solidFill>
                <a:srgbClr val="000000"/>
              </a:solidFill>
              <a:latin typeface="Arial"/>
            </a:endParaRPr>
          </a:p>
        </p:txBody>
      </p:sp>
      <p:sp>
        <p:nvSpPr>
          <p:cNvPr id="539" name=""/>
          <p:cNvSpPr/>
          <p:nvPr/>
        </p:nvSpPr>
        <p:spPr>
          <a:xfrm>
            <a:off x="457200" y="1523880"/>
            <a:ext cx="693432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a live source</a:t>
            </a:r>
            <a:endParaRPr b="0" lang="en-US" sz="2600" spc="-1" strike="noStrike">
              <a:solidFill>
                <a:srgbClr val="000000"/>
              </a:solidFill>
              <a:latin typeface="Arial"/>
            </a:endParaRPr>
          </a:p>
        </p:txBody>
      </p:sp>
      <p:sp>
        <p:nvSpPr>
          <p:cNvPr id="540" name=""/>
          <p:cNvSpPr/>
          <p:nvPr/>
        </p:nvSpPr>
        <p:spPr>
          <a:xfrm>
            <a:off x="2209680" y="4038480"/>
            <a:ext cx="3581640" cy="2204280"/>
          </a:xfrm>
          <a:prstGeom prst="rect">
            <a:avLst/>
          </a:prstGeom>
          <a:noFill/>
          <a:ln w="2844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ce-port 1/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uto-cut-throug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peration 4-wi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ignal immedi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al-peer 7777 voice po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estination-pattern 777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ort 1/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phone-dn 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umber 999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oh out-call 7777</a:t>
            </a:r>
            <a:endParaRPr b="0" lang="en-US" sz="1400" spc="-1" strike="noStrike">
              <a:solidFill>
                <a:srgbClr val="000000"/>
              </a:solidFill>
              <a:latin typeface="Arial"/>
            </a:endParaRPr>
          </a:p>
        </p:txBody>
      </p:sp>
      <p:sp>
        <p:nvSpPr>
          <p:cNvPr id="541" name=""/>
          <p:cNvSpPr/>
          <p:nvPr/>
        </p:nvSpPr>
        <p:spPr>
          <a:xfrm>
            <a:off x="2666880" y="3505320"/>
            <a:ext cx="1067040" cy="410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amp;M port 1/1/1</a:t>
            </a:r>
            <a:endParaRPr b="0" lang="en-US" sz="1200" spc="-1" strike="noStrike">
              <a:solidFill>
                <a:srgbClr val="000000"/>
              </a:solidFill>
              <a:latin typeface="Arial"/>
            </a:endParaRPr>
          </a:p>
        </p:txBody>
      </p:sp>
      <p:sp>
        <p:nvSpPr>
          <p:cNvPr id="542" name=""/>
          <p:cNvSpPr/>
          <p:nvPr/>
        </p:nvSpPr>
        <p:spPr>
          <a:xfrm>
            <a:off x="4521240" y="5137200"/>
            <a:ext cx="457200" cy="196920"/>
          </a:xfrm>
          <a:prstGeom prst="rect">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43" name=""/>
          <p:cNvSpPr/>
          <p:nvPr/>
        </p:nvSpPr>
        <p:spPr>
          <a:xfrm>
            <a:off x="3778200" y="5981760"/>
            <a:ext cx="457200" cy="196920"/>
          </a:xfrm>
          <a:prstGeom prst="rect">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44" name=""/>
          <p:cNvSpPr/>
          <p:nvPr/>
        </p:nvSpPr>
        <p:spPr>
          <a:xfrm>
            <a:off x="2876400" y="5340240"/>
            <a:ext cx="679680" cy="22860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45" name=""/>
          <p:cNvSpPr/>
          <p:nvPr/>
        </p:nvSpPr>
        <p:spPr>
          <a:xfrm>
            <a:off x="3390840" y="4057560"/>
            <a:ext cx="679680" cy="228600"/>
          </a:xfrm>
          <a:prstGeom prst="ellipse">
            <a:avLst/>
          </a:prstGeom>
          <a:noFill/>
          <a:ln w="38160">
            <a:solidFill>
              <a:srgbClr val="ff0000"/>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45"/>
                                        </p:tgtEl>
                                        <p:attrNameLst>
                                          <p:attrName>style.visibility</p:attrName>
                                        </p:attrNameLst>
                                      </p:cBhvr>
                                      <p:to>
                                        <p:strVal val="visible"/>
                                      </p:to>
                                    </p:set>
                                    <p:anim calcmode="lin" valueType="num">
                                      <p:cBhvr additive="base">
                                        <p:cTn id="143" dur="500" fill="hold"/>
                                        <p:tgtEl>
                                          <p:spTgt spid="545"/>
                                        </p:tgtEl>
                                        <p:attrNameLst>
                                          <p:attrName>ppt_x</p:attrName>
                                        </p:attrNameLst>
                                      </p:cBhvr>
                                      <p:tavLst>
                                        <p:tav tm="0">
                                          <p:val>
                                            <p:strVal val="#ppt_x"/>
                                          </p:val>
                                        </p:tav>
                                        <p:tav tm="100000">
                                          <p:val>
                                            <p:strVal val="#ppt_x"/>
                                          </p:val>
                                        </p:tav>
                                      </p:tavLst>
                                    </p:anim>
                                    <p:anim calcmode="lin" valueType="num">
                                      <p:cBhvr additive="base">
                                        <p:cTn id="144" dur="500" fill="hold"/>
                                        <p:tgtEl>
                                          <p:spTgt spid="545"/>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544"/>
                                        </p:tgtEl>
                                        <p:attrNameLst>
                                          <p:attrName>style.visibility</p:attrName>
                                        </p:attrNameLst>
                                      </p:cBhvr>
                                      <p:to>
                                        <p:strVal val="visible"/>
                                      </p:to>
                                    </p:set>
                                    <p:anim calcmode="lin" valueType="num">
                                      <p:cBhvr additive="base">
                                        <p:cTn id="147" dur="500" fill="hold"/>
                                        <p:tgtEl>
                                          <p:spTgt spid="544"/>
                                        </p:tgtEl>
                                        <p:attrNameLst>
                                          <p:attrName>ppt_x</p:attrName>
                                        </p:attrNameLst>
                                      </p:cBhvr>
                                      <p:tavLst>
                                        <p:tav tm="0">
                                          <p:val>
                                            <p:strVal val="#ppt_x"/>
                                          </p:val>
                                        </p:tav>
                                        <p:tav tm="100000">
                                          <p:val>
                                            <p:strVal val="#ppt_x"/>
                                          </p:val>
                                        </p:tav>
                                      </p:tavLst>
                                    </p:anim>
                                    <p:anim calcmode="lin" valueType="num">
                                      <p:cBhvr additive="base">
                                        <p:cTn id="148" dur="500" fill="hold"/>
                                        <p:tgtEl>
                                          <p:spTgt spid="544"/>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542"/>
                                        </p:tgtEl>
                                        <p:attrNameLst>
                                          <p:attrName>style.visibility</p:attrName>
                                        </p:attrNameLst>
                                      </p:cBhvr>
                                      <p:to>
                                        <p:strVal val="visible"/>
                                      </p:to>
                                    </p:set>
                                    <p:anim calcmode="lin" valueType="num">
                                      <p:cBhvr additive="base">
                                        <p:cTn id="151" dur="500" fill="hold"/>
                                        <p:tgtEl>
                                          <p:spTgt spid="542"/>
                                        </p:tgtEl>
                                        <p:attrNameLst>
                                          <p:attrName>ppt_x</p:attrName>
                                        </p:attrNameLst>
                                      </p:cBhvr>
                                      <p:tavLst>
                                        <p:tav tm="0">
                                          <p:val>
                                            <p:strVal val="#ppt_x"/>
                                          </p:val>
                                        </p:tav>
                                        <p:tav tm="100000">
                                          <p:val>
                                            <p:strVal val="#ppt_x"/>
                                          </p:val>
                                        </p:tav>
                                      </p:tavLst>
                                    </p:anim>
                                    <p:anim calcmode="lin" valueType="num">
                                      <p:cBhvr additive="base">
                                        <p:cTn id="152" dur="500" fill="hold"/>
                                        <p:tgtEl>
                                          <p:spTgt spid="542"/>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543"/>
                                        </p:tgtEl>
                                        <p:attrNameLst>
                                          <p:attrName>style.visibility</p:attrName>
                                        </p:attrNameLst>
                                      </p:cBhvr>
                                      <p:to>
                                        <p:strVal val="visible"/>
                                      </p:to>
                                    </p:set>
                                    <p:anim calcmode="lin" valueType="num">
                                      <p:cBhvr additive="base">
                                        <p:cTn id="155" dur="500" fill="hold"/>
                                        <p:tgtEl>
                                          <p:spTgt spid="543"/>
                                        </p:tgtEl>
                                        <p:attrNameLst>
                                          <p:attrName>ppt_x</p:attrName>
                                        </p:attrNameLst>
                                      </p:cBhvr>
                                      <p:tavLst>
                                        <p:tav tm="0">
                                          <p:val>
                                            <p:strVal val="#ppt_x"/>
                                          </p:val>
                                        </p:tav>
                                        <p:tav tm="100000">
                                          <p:val>
                                            <p:strVal val="#ppt_x"/>
                                          </p:val>
                                        </p:tav>
                                      </p:tavLst>
                                    </p:anim>
                                    <p:anim calcmode="lin" valueType="num">
                                      <p:cBhvr additive="base">
                                        <p:cTn id="156"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457200" y="23652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voice-port </a:t>
            </a:r>
            <a:r>
              <a:rPr b="1" i="1" lang="en-GB" sz="1800" spc="-1" strike="noStrike">
                <a:solidFill>
                  <a:srgbClr val="000000"/>
                </a:solidFill>
                <a:latin typeface="Courier New"/>
              </a:rPr>
              <a:t>port</a:t>
            </a:r>
            <a:r>
              <a:rPr b="1" lang="en-US" sz="1800" spc="-1" strike="noStrike">
                <a:solidFill>
                  <a:srgbClr val="000000"/>
                </a:solidFill>
                <a:latin typeface="Courier New"/>
              </a:rPr>
              <a:t> </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547" name=""/>
          <p:cNvSpPr/>
          <p:nvPr/>
        </p:nvSpPr>
        <p:spPr>
          <a:xfrm>
            <a:off x="396720" y="193212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a:t>
            </a:r>
            <a:endParaRPr b="0" lang="en-US" sz="1600" spc="-1" strike="noStrike">
              <a:solidFill>
                <a:srgbClr val="000000"/>
              </a:solidFill>
              <a:latin typeface="Arial"/>
            </a:endParaRPr>
          </a:p>
        </p:txBody>
      </p:sp>
      <p:sp>
        <p:nvSpPr>
          <p:cNvPr id="548" name=""/>
          <p:cNvSpPr/>
          <p:nvPr/>
        </p:nvSpPr>
        <p:spPr>
          <a:xfrm>
            <a:off x="380880" y="284148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s voice port config mode for the E&amp;M port</a:t>
            </a:r>
            <a:endParaRPr b="0" lang="en-US" sz="2400" spc="-1" strike="noStrike">
              <a:solidFill>
                <a:srgbClr val="000000"/>
              </a:solidFill>
              <a:latin typeface="Arial"/>
            </a:endParaRPr>
          </a:p>
        </p:txBody>
      </p:sp>
      <p:sp>
        <p:nvSpPr>
          <p:cNvPr id="549" name=""/>
          <p:cNvSpPr/>
          <p:nvPr/>
        </p:nvSpPr>
        <p:spPr>
          <a:xfrm>
            <a:off x="457200" y="38289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input gain </a:t>
            </a:r>
            <a:r>
              <a:rPr b="1" i="1" lang="en-US" sz="1800" spc="-1" strike="noStrike">
                <a:solidFill>
                  <a:srgbClr val="000000"/>
                </a:solidFill>
                <a:latin typeface="Courier New"/>
              </a:rPr>
              <a:t>decibels </a:t>
            </a:r>
            <a:endParaRPr b="0" lang="en-US" sz="1800" spc="-1" strike="noStrike">
              <a:solidFill>
                <a:srgbClr val="000000"/>
              </a:solidFill>
              <a:latin typeface="Arial"/>
            </a:endParaRPr>
          </a:p>
        </p:txBody>
      </p:sp>
      <p:sp>
        <p:nvSpPr>
          <p:cNvPr id="550" name=""/>
          <p:cNvSpPr/>
          <p:nvPr/>
        </p:nvSpPr>
        <p:spPr>
          <a:xfrm>
            <a:off x="380880" y="339552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voice-port)#</a:t>
            </a:r>
            <a:endParaRPr b="0" lang="en-US" sz="1600" spc="-1" strike="noStrike">
              <a:solidFill>
                <a:srgbClr val="000000"/>
              </a:solidFill>
              <a:latin typeface="Arial"/>
            </a:endParaRPr>
          </a:p>
        </p:txBody>
      </p:sp>
      <p:sp>
        <p:nvSpPr>
          <p:cNvPr id="551" name=""/>
          <p:cNvSpPr/>
          <p:nvPr/>
        </p:nvSpPr>
        <p:spPr>
          <a:xfrm>
            <a:off x="380880" y="430524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sets gain on the MoH signal</a:t>
            </a:r>
            <a:endParaRPr b="0" lang="en-US" sz="2400" spc="-1" strike="noStrike">
              <a:solidFill>
                <a:srgbClr val="000000"/>
              </a:solidFill>
              <a:latin typeface="Arial"/>
            </a:endParaRPr>
          </a:p>
        </p:txBody>
      </p:sp>
      <p:sp>
        <p:nvSpPr>
          <p:cNvPr id="5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sp>
        <p:nvSpPr>
          <p:cNvPr id="553" name=""/>
          <p:cNvSpPr/>
          <p:nvPr/>
        </p:nvSpPr>
        <p:spPr>
          <a:xfrm>
            <a:off x="457200" y="1425600"/>
            <a:ext cx="693432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a live source</a:t>
            </a:r>
            <a:endParaRPr b="0" lang="en-US" sz="2600" spc="-1" strike="noStrike">
              <a:solidFill>
                <a:srgbClr val="000000"/>
              </a:solidFill>
              <a:latin typeface="Arial"/>
            </a:endParaRPr>
          </a:p>
        </p:txBody>
      </p:sp>
      <p:sp>
        <p:nvSpPr>
          <p:cNvPr id="554" name=""/>
          <p:cNvSpPr/>
          <p:nvPr/>
        </p:nvSpPr>
        <p:spPr>
          <a:xfrm>
            <a:off x="533520" y="529272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auto-cut-through</a:t>
            </a:r>
            <a:endParaRPr b="0" lang="en-US" sz="1800" spc="-1" strike="noStrike">
              <a:solidFill>
                <a:srgbClr val="000000"/>
              </a:solidFill>
              <a:latin typeface="Arial"/>
            </a:endParaRPr>
          </a:p>
        </p:txBody>
      </p:sp>
      <p:sp>
        <p:nvSpPr>
          <p:cNvPr id="555" name=""/>
          <p:cNvSpPr/>
          <p:nvPr/>
        </p:nvSpPr>
        <p:spPr>
          <a:xfrm>
            <a:off x="457200" y="48592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voice port)#</a:t>
            </a:r>
            <a:endParaRPr b="0" lang="en-US" sz="1600" spc="-1" strike="noStrike">
              <a:solidFill>
                <a:srgbClr val="000000"/>
              </a:solidFill>
              <a:latin typeface="Arial"/>
            </a:endParaRPr>
          </a:p>
        </p:txBody>
      </p:sp>
      <p:sp>
        <p:nvSpPr>
          <p:cNvPr id="556" name=""/>
          <p:cNvSpPr/>
          <p:nvPr/>
        </p:nvSpPr>
        <p:spPr>
          <a:xfrm>
            <a:off x="457200" y="57690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call completion when no M-lead response is sent</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457200" y="24638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operation 4-wire</a:t>
            </a:r>
            <a:r>
              <a:rPr b="1" lang="en-US" sz="1800" spc="-1" strike="noStrike">
                <a:solidFill>
                  <a:srgbClr val="000000"/>
                </a:solidFill>
                <a:latin typeface="Courier New"/>
              </a:rPr>
              <a:t> </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558" name=""/>
          <p:cNvSpPr/>
          <p:nvPr/>
        </p:nvSpPr>
        <p:spPr>
          <a:xfrm>
            <a:off x="396720" y="203040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voice-port)#</a:t>
            </a:r>
            <a:endParaRPr b="0" lang="en-US" sz="1600" spc="-1" strike="noStrike">
              <a:solidFill>
                <a:srgbClr val="000000"/>
              </a:solidFill>
              <a:latin typeface="Arial"/>
            </a:endParaRPr>
          </a:p>
        </p:txBody>
      </p:sp>
      <p:sp>
        <p:nvSpPr>
          <p:cNvPr id="559" name=""/>
          <p:cNvSpPr/>
          <p:nvPr/>
        </p:nvSpPr>
        <p:spPr>
          <a:xfrm>
            <a:off x="380880" y="294012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s the E&amp;M port to use a 4-wire scheme</a:t>
            </a:r>
            <a:endParaRPr b="0" lang="en-US" sz="2400" spc="-1" strike="noStrike">
              <a:solidFill>
                <a:srgbClr val="000000"/>
              </a:solidFill>
              <a:latin typeface="Arial"/>
            </a:endParaRPr>
          </a:p>
        </p:txBody>
      </p:sp>
      <p:sp>
        <p:nvSpPr>
          <p:cNvPr id="560" name=""/>
          <p:cNvSpPr/>
          <p:nvPr/>
        </p:nvSpPr>
        <p:spPr>
          <a:xfrm>
            <a:off x="457200" y="39276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signal immediate</a:t>
            </a:r>
            <a:endParaRPr b="0" lang="en-US" sz="1800" spc="-1" strike="noStrike">
              <a:solidFill>
                <a:srgbClr val="000000"/>
              </a:solidFill>
              <a:latin typeface="Arial"/>
            </a:endParaRPr>
          </a:p>
        </p:txBody>
      </p:sp>
      <p:sp>
        <p:nvSpPr>
          <p:cNvPr id="561" name=""/>
          <p:cNvSpPr/>
          <p:nvPr/>
        </p:nvSpPr>
        <p:spPr>
          <a:xfrm>
            <a:off x="380880" y="349416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voice-port)#</a:t>
            </a:r>
            <a:endParaRPr b="0" lang="en-US" sz="1600" spc="-1" strike="noStrike">
              <a:solidFill>
                <a:srgbClr val="000000"/>
              </a:solidFill>
              <a:latin typeface="Arial"/>
            </a:endParaRPr>
          </a:p>
        </p:txBody>
      </p:sp>
      <p:sp>
        <p:nvSpPr>
          <p:cNvPr id="562" name=""/>
          <p:cNvSpPr/>
          <p:nvPr/>
        </p:nvSpPr>
        <p:spPr>
          <a:xfrm>
            <a:off x="380880" y="440388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s calling side to seize the E-lead and send DTMF digits</a:t>
            </a:r>
            <a:endParaRPr b="0" lang="en-US" sz="2400" spc="-1" strike="noStrike">
              <a:solidFill>
                <a:srgbClr val="000000"/>
              </a:solidFill>
              <a:latin typeface="Arial"/>
            </a:endParaRPr>
          </a:p>
        </p:txBody>
      </p:sp>
      <p:sp>
        <p:nvSpPr>
          <p:cNvPr id="5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sp>
        <p:nvSpPr>
          <p:cNvPr id="564" name=""/>
          <p:cNvSpPr/>
          <p:nvPr/>
        </p:nvSpPr>
        <p:spPr>
          <a:xfrm>
            <a:off x="457200" y="1523880"/>
            <a:ext cx="807732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a live source</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CallManager Express GUI Prerequisites</a:t>
            </a:r>
            <a:endParaRPr b="1" lang="en-US" sz="3000" spc="-1" strike="noStrike">
              <a:solidFill>
                <a:srgbClr val="ffffff"/>
              </a:solidFill>
              <a:latin typeface="Arial"/>
            </a:endParaRPr>
          </a:p>
        </p:txBody>
      </p:sp>
      <p:sp>
        <p:nvSpPr>
          <p:cNvPr id="118" name="PlaceHolder 2"/>
          <p:cNvSpPr>
            <a:spLocks noGrp="1"/>
          </p:cNvSpPr>
          <p:nvPr>
            <p:ph/>
          </p:nvPr>
        </p:nvSpPr>
        <p:spPr>
          <a:xfrm>
            <a:off x="655560" y="2590560"/>
            <a:ext cx="7940880" cy="261756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sure the proper files are in flash on the Cisco CallManager route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gure and enable the HTTP server on the route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TTP Server Authentication Method (Optional)</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gure System Administrator Credentials </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9" name=""/>
          <p:cNvSpPr/>
          <p:nvPr/>
        </p:nvSpPr>
        <p:spPr>
          <a:xfrm>
            <a:off x="685800" y="1623960"/>
            <a:ext cx="7854840" cy="120348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The following tasks should be completed before the GUI is available</a:t>
            </a:r>
            <a:endParaRPr b="0" lang="en-US" sz="2600" spc="-1" strike="noStrike">
              <a:solidFill>
                <a:srgbClr val="000000"/>
              </a:solidFill>
              <a:latin typeface="Arial"/>
            </a:endParaRPr>
          </a:p>
          <a:p>
            <a:pPr>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457200" y="24638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dial-peer voice </a:t>
            </a:r>
            <a:r>
              <a:rPr b="1" i="1" lang="en-GB" sz="1800" spc="-1" strike="noStrike">
                <a:solidFill>
                  <a:srgbClr val="000000"/>
                </a:solidFill>
                <a:latin typeface="Courier New"/>
              </a:rPr>
              <a:t>tag </a:t>
            </a:r>
            <a:r>
              <a:rPr b="1" lang="en-GB" sz="1800" spc="-1" strike="noStrike">
                <a:solidFill>
                  <a:srgbClr val="000000"/>
                </a:solidFill>
                <a:latin typeface="Courier New"/>
              </a:rPr>
              <a:t>pots</a:t>
            </a:r>
            <a:r>
              <a:rPr b="1" lang="en-US" sz="1800" spc="-1" strike="noStrike">
                <a:solidFill>
                  <a:srgbClr val="000000"/>
                </a:solidFill>
                <a:latin typeface="Courier New"/>
              </a:rPr>
              <a:t> </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566" name=""/>
          <p:cNvSpPr/>
          <p:nvPr/>
        </p:nvSpPr>
        <p:spPr>
          <a:xfrm>
            <a:off x="396720" y="203040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a:t>
            </a:r>
            <a:endParaRPr b="0" lang="en-US" sz="1600" spc="-1" strike="noStrike">
              <a:solidFill>
                <a:srgbClr val="000000"/>
              </a:solidFill>
              <a:latin typeface="Arial"/>
            </a:endParaRPr>
          </a:p>
        </p:txBody>
      </p:sp>
      <p:sp>
        <p:nvSpPr>
          <p:cNvPr id="567" name=""/>
          <p:cNvSpPr/>
          <p:nvPr/>
        </p:nvSpPr>
        <p:spPr>
          <a:xfrm>
            <a:off x="380880" y="294012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s the dial peer for the MOH  connection</a:t>
            </a:r>
            <a:endParaRPr b="0" lang="en-US" sz="2400" spc="-1" strike="noStrike">
              <a:solidFill>
                <a:srgbClr val="000000"/>
              </a:solidFill>
              <a:latin typeface="Arial"/>
            </a:endParaRPr>
          </a:p>
        </p:txBody>
      </p:sp>
      <p:sp>
        <p:nvSpPr>
          <p:cNvPr id="568" name=""/>
          <p:cNvSpPr/>
          <p:nvPr/>
        </p:nvSpPr>
        <p:spPr>
          <a:xfrm>
            <a:off x="457200" y="39276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port </a:t>
            </a:r>
            <a:r>
              <a:rPr b="1" i="1" lang="en-US" sz="1800" spc="-1" strike="noStrike">
                <a:solidFill>
                  <a:srgbClr val="000000"/>
                </a:solidFill>
                <a:latin typeface="Courier New"/>
              </a:rPr>
              <a:t>port</a:t>
            </a:r>
            <a:endParaRPr b="0" lang="en-US" sz="1800" spc="-1" strike="noStrike">
              <a:solidFill>
                <a:srgbClr val="000000"/>
              </a:solidFill>
              <a:latin typeface="Arial"/>
            </a:endParaRPr>
          </a:p>
        </p:txBody>
      </p:sp>
      <p:sp>
        <p:nvSpPr>
          <p:cNvPr id="569" name=""/>
          <p:cNvSpPr/>
          <p:nvPr/>
        </p:nvSpPr>
        <p:spPr>
          <a:xfrm>
            <a:off x="380880" y="349416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dial-peer)#</a:t>
            </a:r>
            <a:endParaRPr b="0" lang="en-US" sz="1600" spc="-1" strike="noStrike">
              <a:solidFill>
                <a:srgbClr val="000000"/>
              </a:solidFill>
              <a:latin typeface="Arial"/>
            </a:endParaRPr>
          </a:p>
        </p:txBody>
      </p:sp>
      <p:sp>
        <p:nvSpPr>
          <p:cNvPr id="570" name=""/>
          <p:cNvSpPr/>
          <p:nvPr/>
        </p:nvSpPr>
        <p:spPr>
          <a:xfrm>
            <a:off x="380880" y="440388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s the voice port to the dial peer</a:t>
            </a:r>
            <a:endParaRPr b="0" lang="en-US" sz="2400" spc="-1" strike="noStrike">
              <a:solidFill>
                <a:srgbClr val="000000"/>
              </a:solidFill>
              <a:latin typeface="Arial"/>
            </a:endParaRPr>
          </a:p>
        </p:txBody>
      </p:sp>
      <p:sp>
        <p:nvSpPr>
          <p:cNvPr id="57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sp>
        <p:nvSpPr>
          <p:cNvPr id="572" name=""/>
          <p:cNvSpPr/>
          <p:nvPr/>
        </p:nvSpPr>
        <p:spPr>
          <a:xfrm>
            <a:off x="457200" y="1523880"/>
            <a:ext cx="800100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a live source</a:t>
            </a:r>
            <a:endParaRPr b="0" lang="en-US" sz="2600" spc="-1" strike="noStrike">
              <a:solidFill>
                <a:srgbClr val="000000"/>
              </a:solidFill>
              <a:latin typeface="Arial"/>
            </a:endParaRPr>
          </a:p>
        </p:txBody>
      </p:sp>
      <p:sp>
        <p:nvSpPr>
          <p:cNvPr id="573" name=""/>
          <p:cNvSpPr/>
          <p:nvPr/>
        </p:nvSpPr>
        <p:spPr>
          <a:xfrm>
            <a:off x="533520" y="53910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destination-pattern </a:t>
            </a:r>
            <a:r>
              <a:rPr b="1" i="1" lang="en-US" sz="1800" spc="-1" strike="noStrike">
                <a:solidFill>
                  <a:srgbClr val="000000"/>
                </a:solidFill>
                <a:latin typeface="Courier New"/>
              </a:rPr>
              <a:t>string</a:t>
            </a:r>
            <a:endParaRPr b="0" lang="en-US" sz="1800" spc="-1" strike="noStrike">
              <a:solidFill>
                <a:srgbClr val="000000"/>
              </a:solidFill>
              <a:latin typeface="Arial"/>
            </a:endParaRPr>
          </a:p>
        </p:txBody>
      </p:sp>
      <p:sp>
        <p:nvSpPr>
          <p:cNvPr id="574" name=""/>
          <p:cNvSpPr/>
          <p:nvPr/>
        </p:nvSpPr>
        <p:spPr>
          <a:xfrm>
            <a:off x="457200" y="495792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dial-peer)#</a:t>
            </a:r>
            <a:endParaRPr b="0" lang="en-US" sz="1600" spc="-1" strike="noStrike">
              <a:solidFill>
                <a:srgbClr val="000000"/>
              </a:solidFill>
              <a:latin typeface="Arial"/>
            </a:endParaRPr>
          </a:p>
        </p:txBody>
      </p:sp>
      <p:sp>
        <p:nvSpPr>
          <p:cNvPr id="575" name=""/>
          <p:cNvSpPr/>
          <p:nvPr/>
        </p:nvSpPr>
        <p:spPr>
          <a:xfrm>
            <a:off x="457200" y="586728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es the DN of the MoH source</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57200" y="22827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ephone-dn </a:t>
            </a:r>
            <a:r>
              <a:rPr b="1" i="1" lang="en-GB" sz="1800" spc="-1" strike="noStrike">
                <a:solidFill>
                  <a:srgbClr val="000000"/>
                </a:solidFill>
                <a:latin typeface="Courier New"/>
              </a:rPr>
              <a:t>tag</a:t>
            </a:r>
            <a:r>
              <a:rPr b="1" lang="en-US" sz="1800" spc="-1" strike="noStrike">
                <a:solidFill>
                  <a:srgbClr val="000000"/>
                </a:solidFill>
                <a:latin typeface="Courier New"/>
              </a:rPr>
              <a:t> </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577" name=""/>
          <p:cNvSpPr/>
          <p:nvPr/>
        </p:nvSpPr>
        <p:spPr>
          <a:xfrm>
            <a:off x="396720" y="184932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a:t>
            </a:r>
            <a:endParaRPr b="0" lang="en-US" sz="1600" spc="-1" strike="noStrike">
              <a:solidFill>
                <a:srgbClr val="000000"/>
              </a:solidFill>
              <a:latin typeface="Arial"/>
            </a:endParaRPr>
          </a:p>
        </p:txBody>
      </p:sp>
      <p:sp>
        <p:nvSpPr>
          <p:cNvPr id="578" name=""/>
          <p:cNvSpPr/>
          <p:nvPr/>
        </p:nvSpPr>
        <p:spPr>
          <a:xfrm>
            <a:off x="380880" y="275904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s an ephone-dn</a:t>
            </a:r>
            <a:endParaRPr b="0" lang="en-US" sz="2400" spc="-1" strike="noStrike">
              <a:solidFill>
                <a:srgbClr val="000000"/>
              </a:solidFill>
              <a:latin typeface="Arial"/>
            </a:endParaRPr>
          </a:p>
        </p:txBody>
      </p:sp>
      <p:sp>
        <p:nvSpPr>
          <p:cNvPr id="579" name=""/>
          <p:cNvSpPr/>
          <p:nvPr/>
        </p:nvSpPr>
        <p:spPr>
          <a:xfrm>
            <a:off x="457200" y="36320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number </a:t>
            </a:r>
            <a:r>
              <a:rPr b="1" i="1" lang="en-US" sz="1800" spc="-1" strike="noStrike">
                <a:solidFill>
                  <a:srgbClr val="000000"/>
                </a:solidFill>
                <a:latin typeface="Courier New"/>
              </a:rPr>
              <a:t>number</a:t>
            </a:r>
            <a:endParaRPr b="0" lang="en-US" sz="1800" spc="-1" strike="noStrike">
              <a:solidFill>
                <a:srgbClr val="000000"/>
              </a:solidFill>
              <a:latin typeface="Arial"/>
            </a:endParaRPr>
          </a:p>
        </p:txBody>
      </p:sp>
      <p:sp>
        <p:nvSpPr>
          <p:cNvPr id="580" name=""/>
          <p:cNvSpPr/>
          <p:nvPr/>
        </p:nvSpPr>
        <p:spPr>
          <a:xfrm>
            <a:off x="380880" y="319896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581" name=""/>
          <p:cNvSpPr/>
          <p:nvPr/>
        </p:nvSpPr>
        <p:spPr>
          <a:xfrm>
            <a:off x="380880" y="4108320"/>
            <a:ext cx="8229600" cy="4597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s a dummy DN for this ephone-dn instance</a:t>
            </a:r>
            <a:endParaRPr b="0" lang="en-US" sz="2400" spc="-1" strike="noStrike">
              <a:solidFill>
                <a:srgbClr val="000000"/>
              </a:solidFill>
              <a:latin typeface="Arial"/>
            </a:endParaRPr>
          </a:p>
        </p:txBody>
      </p:sp>
      <p:sp>
        <p:nvSpPr>
          <p:cNvPr id="58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usic on Hold (Cont.)</a:t>
            </a:r>
            <a:endParaRPr b="1" lang="en-US" sz="3000" spc="-1" strike="noStrike">
              <a:solidFill>
                <a:srgbClr val="ffffff"/>
              </a:solidFill>
              <a:latin typeface="Arial"/>
            </a:endParaRPr>
          </a:p>
        </p:txBody>
      </p:sp>
      <p:sp>
        <p:nvSpPr>
          <p:cNvPr id="583" name=""/>
          <p:cNvSpPr/>
          <p:nvPr/>
        </p:nvSpPr>
        <p:spPr>
          <a:xfrm>
            <a:off x="457200" y="1343160"/>
            <a:ext cx="8001000" cy="438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nfiguring MoH from a live source</a:t>
            </a:r>
            <a:endParaRPr b="0" lang="en-US" sz="2600" spc="-1" strike="noStrike">
              <a:solidFill>
                <a:srgbClr val="000000"/>
              </a:solidFill>
              <a:latin typeface="Arial"/>
            </a:endParaRPr>
          </a:p>
        </p:txBody>
      </p:sp>
      <p:sp>
        <p:nvSpPr>
          <p:cNvPr id="584" name=""/>
          <p:cNvSpPr/>
          <p:nvPr/>
        </p:nvSpPr>
        <p:spPr>
          <a:xfrm>
            <a:off x="533520" y="51246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moh [out-call </a:t>
            </a:r>
            <a:r>
              <a:rPr b="1" i="1" lang="en-US" sz="1800" spc="-1" strike="noStrike">
                <a:solidFill>
                  <a:srgbClr val="000000"/>
                </a:solidFill>
                <a:latin typeface="Courier New"/>
              </a:rPr>
              <a:t>outcall-number</a:t>
            </a: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585" name=""/>
          <p:cNvSpPr/>
          <p:nvPr/>
        </p:nvSpPr>
        <p:spPr>
          <a:xfrm>
            <a:off x="457200" y="469116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MERouter(config-ephone-dn)#</a:t>
            </a:r>
            <a:endParaRPr b="0" lang="en-US" sz="1600" spc="-1" strike="noStrike">
              <a:solidFill>
                <a:srgbClr val="000000"/>
              </a:solidFill>
              <a:latin typeface="Arial"/>
            </a:endParaRPr>
          </a:p>
        </p:txBody>
      </p:sp>
      <p:sp>
        <p:nvSpPr>
          <p:cNvPr id="586" name=""/>
          <p:cNvSpPr/>
          <p:nvPr/>
        </p:nvSpPr>
        <p:spPr>
          <a:xfrm>
            <a:off x="380880" y="5638680"/>
            <a:ext cx="851544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es this ephone-dn is used for an incoming or outgoing call that is to be the source for a MOH stream</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 descr=""/>
          <p:cNvPicPr/>
          <p:nvPr/>
        </p:nvPicPr>
        <p:blipFill>
          <a:blip r:embed="rId1"/>
          <a:stretch/>
        </p:blipFill>
        <p:spPr>
          <a:xfrm>
            <a:off x="2476440" y="2076480"/>
            <a:ext cx="4381560" cy="2590920"/>
          </a:xfrm>
          <a:prstGeom prst="rect">
            <a:avLst/>
          </a:prstGeom>
          <a:ln w="0">
            <a:noFill/>
          </a:ln>
        </p:spPr>
      </p:pic>
      <p:sp>
        <p:nvSpPr>
          <p:cNvPr id="588"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8640" y="1828800"/>
            <a:ext cx="815832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ip http server</a:t>
            </a:r>
            <a:r>
              <a:rPr b="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21" name=""/>
          <p:cNvSpPr/>
          <p:nvPr/>
        </p:nvSpPr>
        <p:spPr>
          <a:xfrm>
            <a:off x="380880" y="1523880"/>
            <a:ext cx="4848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a:t>
            </a:r>
            <a:endParaRPr b="0" lang="en-US" sz="1600" spc="-1" strike="noStrike">
              <a:solidFill>
                <a:srgbClr val="000000"/>
              </a:solidFill>
              <a:latin typeface="Arial"/>
            </a:endParaRPr>
          </a:p>
        </p:txBody>
      </p:sp>
      <p:sp>
        <p:nvSpPr>
          <p:cNvPr id="122" name=""/>
          <p:cNvSpPr/>
          <p:nvPr/>
        </p:nvSpPr>
        <p:spPr>
          <a:xfrm>
            <a:off x="458640" y="3429000"/>
            <a:ext cx="815832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ip http path flash:</a:t>
            </a:r>
            <a:r>
              <a:rPr b="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23" name=""/>
          <p:cNvSpPr/>
          <p:nvPr/>
        </p:nvSpPr>
        <p:spPr>
          <a:xfrm>
            <a:off x="380880" y="3124080"/>
            <a:ext cx="4145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a:t>
            </a:r>
            <a:endParaRPr b="0" lang="en-US" sz="1600" spc="-1" strike="noStrike">
              <a:solidFill>
                <a:srgbClr val="000000"/>
              </a:solidFill>
              <a:latin typeface="Arial"/>
            </a:endParaRPr>
          </a:p>
        </p:txBody>
      </p:sp>
      <p:sp>
        <p:nvSpPr>
          <p:cNvPr id="124" name=""/>
          <p:cNvSpPr/>
          <p:nvPr/>
        </p:nvSpPr>
        <p:spPr>
          <a:xfrm>
            <a:off x="458640" y="5029200"/>
            <a:ext cx="815832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600" spc="-1" strike="noStrike">
                <a:solidFill>
                  <a:srgbClr val="000000"/>
                </a:solidFill>
                <a:latin typeface="Courier New"/>
              </a:rPr>
              <a:t>ip http </a:t>
            </a:r>
            <a:r>
              <a:rPr b="1" lang="en-US" sz="1800" spc="-1" strike="noStrike">
                <a:solidFill>
                  <a:srgbClr val="000000"/>
                </a:solidFill>
                <a:latin typeface="Courier New"/>
              </a:rPr>
              <a:t>authentication</a:t>
            </a:r>
            <a:r>
              <a:rPr b="1" lang="en-US" sz="1600" spc="-1" strike="noStrike">
                <a:solidFill>
                  <a:srgbClr val="000000"/>
                </a:solidFill>
                <a:latin typeface="Courier New"/>
              </a:rPr>
              <a:t> </a:t>
            </a:r>
            <a:r>
              <a:rPr b="0" lang="en-US" sz="1600" spc="-1" strike="noStrike">
                <a:solidFill>
                  <a:srgbClr val="000000"/>
                </a:solidFill>
                <a:latin typeface="Courier New"/>
              </a:rPr>
              <a:t>{</a:t>
            </a:r>
            <a:r>
              <a:rPr b="1" lang="en-US" sz="1600" spc="-1" strike="noStrike">
                <a:solidFill>
                  <a:srgbClr val="000000"/>
                </a:solidFill>
                <a:latin typeface="Courier New"/>
              </a:rPr>
              <a:t>aaa </a:t>
            </a:r>
            <a:r>
              <a:rPr b="0" lang="en-US" sz="1600" spc="-1" strike="noStrike">
                <a:solidFill>
                  <a:srgbClr val="000000"/>
                </a:solidFill>
                <a:latin typeface="Courier New"/>
              </a:rPr>
              <a:t>| </a:t>
            </a:r>
            <a:r>
              <a:rPr b="1" lang="en-US" sz="1600" spc="-1" strike="noStrike">
                <a:solidFill>
                  <a:srgbClr val="000000"/>
                </a:solidFill>
                <a:latin typeface="Courier New"/>
              </a:rPr>
              <a:t>enable </a:t>
            </a:r>
            <a:r>
              <a:rPr b="0" lang="en-US" sz="1600" spc="-1" strike="noStrike">
                <a:solidFill>
                  <a:srgbClr val="000000"/>
                </a:solidFill>
                <a:latin typeface="Courier New"/>
              </a:rPr>
              <a:t>| </a:t>
            </a:r>
            <a:r>
              <a:rPr b="1" lang="en-US" sz="1600" spc="-1" strike="noStrike">
                <a:solidFill>
                  <a:srgbClr val="000000"/>
                </a:solidFill>
                <a:latin typeface="Courier New"/>
              </a:rPr>
              <a:t>local </a:t>
            </a:r>
            <a:r>
              <a:rPr b="0" lang="en-US" sz="1600" spc="-1" strike="noStrike">
                <a:solidFill>
                  <a:srgbClr val="000000"/>
                </a:solidFill>
                <a:latin typeface="Courier New"/>
              </a:rPr>
              <a:t>| </a:t>
            </a:r>
            <a:r>
              <a:rPr b="1" lang="en-US" sz="1600" spc="-1" strike="noStrike">
                <a:solidFill>
                  <a:srgbClr val="000000"/>
                </a:solidFill>
                <a:latin typeface="Courier New"/>
              </a:rPr>
              <a:t>tacacs</a:t>
            </a:r>
            <a:r>
              <a:rPr b="0" lang="en-US" sz="16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25" name=""/>
          <p:cNvSpPr/>
          <p:nvPr/>
        </p:nvSpPr>
        <p:spPr>
          <a:xfrm>
            <a:off x="380880" y="4724280"/>
            <a:ext cx="4145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a:t>
            </a:r>
            <a:endParaRPr b="0" lang="en-US" sz="1600" spc="-1" strike="noStrike">
              <a:solidFill>
                <a:srgbClr val="000000"/>
              </a:solidFill>
              <a:latin typeface="Arial"/>
            </a:endParaRPr>
          </a:p>
        </p:txBody>
      </p:sp>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CallManager Express GUI Prerequisites (Cont.) </a:t>
            </a:r>
            <a:endParaRPr b="1" lang="en-US" sz="3000" spc="-1" strike="noStrike">
              <a:solidFill>
                <a:srgbClr val="ffffff"/>
              </a:solidFill>
              <a:latin typeface="Arial"/>
            </a:endParaRPr>
          </a:p>
        </p:txBody>
      </p:sp>
      <p:sp>
        <p:nvSpPr>
          <p:cNvPr id="127" name="PlaceHolder 2"/>
          <p:cNvSpPr>
            <a:spLocks noGrp="1"/>
          </p:cNvSpPr>
          <p:nvPr>
            <p:ph/>
          </p:nvPr>
        </p:nvSpPr>
        <p:spPr>
          <a:xfrm>
            <a:off x="533160" y="2362320"/>
            <a:ext cx="7940520" cy="63648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ables the HTTP server on the router</a:t>
            </a:r>
            <a:endParaRPr b="1" lang="en-US" sz="2400" spc="-1" strike="noStrike">
              <a:solidFill>
                <a:srgbClr val="000000"/>
              </a:solidFill>
              <a:latin typeface="Arial"/>
            </a:endParaRPr>
          </a:p>
        </p:txBody>
      </p:sp>
      <p:sp>
        <p:nvSpPr>
          <p:cNvPr id="128" name=""/>
          <p:cNvSpPr/>
          <p:nvPr/>
        </p:nvSpPr>
        <p:spPr>
          <a:xfrm>
            <a:off x="533520" y="3886200"/>
            <a:ext cx="7940520" cy="63648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ts the http server path to the flash memory</a:t>
            </a:r>
            <a:endParaRPr b="0" lang="en-US" sz="2400" spc="-1" strike="noStrike">
              <a:solidFill>
                <a:srgbClr val="000000"/>
              </a:solidFill>
              <a:latin typeface="Arial"/>
            </a:endParaRPr>
          </a:p>
        </p:txBody>
      </p:sp>
      <p:sp>
        <p:nvSpPr>
          <p:cNvPr id="129" name=""/>
          <p:cNvSpPr/>
          <p:nvPr/>
        </p:nvSpPr>
        <p:spPr>
          <a:xfrm>
            <a:off x="533520" y="5562720"/>
            <a:ext cx="7940520" cy="636480"/>
          </a:xfrm>
          <a:prstGeom prst="rect">
            <a:avLst/>
          </a:prstGeom>
          <a:noFill/>
          <a:ln w="0">
            <a:noFill/>
          </a:ln>
        </p:spPr>
        <p:style>
          <a:lnRef idx="0"/>
          <a:fillRef idx="0"/>
          <a:effectRef idx="0"/>
          <a:fontRef idx="minor"/>
        </p:style>
        <p:txBody>
          <a:bodyPr lIns="82080" rIns="82080" tIns="41040" bIns="41040" anchor="t">
            <a:normAutofit fontScale="79000"/>
          </a:bodyPr>
          <a:p>
            <a:pPr marL="186840" indent="-18684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termines the method type of authentication used by the HTTP Server</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telephony-service</a:t>
            </a:r>
            <a:r>
              <a:rPr b="0" i="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31" name=""/>
          <p:cNvSpPr/>
          <p:nvPr/>
        </p:nvSpPr>
        <p:spPr>
          <a:xfrm>
            <a:off x="39672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a:t>
            </a:r>
            <a:endParaRPr b="0" lang="en-US" sz="1600" spc="-1" strike="noStrike">
              <a:solidFill>
                <a:srgbClr val="000000"/>
              </a:solidFill>
              <a:latin typeface="Arial"/>
            </a:endParaRPr>
          </a:p>
        </p:txBody>
      </p:sp>
      <p:sp>
        <p:nvSpPr>
          <p:cNvPr id="132" name=""/>
          <p:cNvSpPr/>
          <p:nvPr/>
        </p:nvSpPr>
        <p:spPr>
          <a:xfrm>
            <a:off x="450720" y="4154400"/>
            <a:ext cx="8159760" cy="6411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web admin system name </a:t>
            </a:r>
            <a:r>
              <a:rPr b="1" i="1" lang="en-US" sz="1800" spc="-1" strike="noStrike">
                <a:solidFill>
                  <a:srgbClr val="000000"/>
                </a:solidFill>
                <a:latin typeface="Courier New"/>
              </a:rPr>
              <a:t>username </a:t>
            </a:r>
            <a:r>
              <a:rPr b="1" lang="en-US" sz="1800" spc="-1" strike="noStrike">
                <a:solidFill>
                  <a:srgbClr val="000000"/>
                </a:solidFill>
                <a:latin typeface="Courier New"/>
              </a:rPr>
              <a:t>{password </a:t>
            </a:r>
            <a:r>
              <a:rPr b="1" i="1" lang="en-US" sz="1800" spc="-1" strike="noStrike">
                <a:solidFill>
                  <a:srgbClr val="000000"/>
                </a:solidFill>
                <a:latin typeface="Courier New"/>
              </a:rPr>
              <a:t>string | </a:t>
            </a:r>
            <a:r>
              <a:rPr b="1" lang="en-US" sz="1800" spc="-1" strike="noStrike">
                <a:solidFill>
                  <a:srgbClr val="000000"/>
                </a:solidFill>
                <a:latin typeface="Courier New"/>
              </a:rPr>
              <a:t>secret {0 | 5} </a:t>
            </a:r>
            <a:r>
              <a:rPr b="1" i="1" lang="en-US" sz="1800" spc="-1" strike="noStrike">
                <a:solidFill>
                  <a:srgbClr val="000000"/>
                </a:solidFill>
                <a:latin typeface="Courier New"/>
              </a:rPr>
              <a:t>string}</a:t>
            </a:r>
            <a:endParaRPr b="0" lang="en-US" sz="1800" spc="-1" strike="noStrike">
              <a:solidFill>
                <a:srgbClr val="000000"/>
              </a:solidFill>
              <a:latin typeface="Arial"/>
            </a:endParaRPr>
          </a:p>
        </p:txBody>
      </p:sp>
      <p:sp>
        <p:nvSpPr>
          <p:cNvPr id="133" name=""/>
          <p:cNvSpPr/>
          <p:nvPr/>
        </p:nvSpPr>
        <p:spPr>
          <a:xfrm>
            <a:off x="396720" y="38098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1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CallManager Express GUI Prerequisites (Cont.)</a:t>
            </a:r>
            <a:endParaRPr b="1" lang="en-US" sz="3000" spc="-1" strike="noStrike">
              <a:solidFill>
                <a:srgbClr val="ffffff"/>
              </a:solidFill>
              <a:latin typeface="Arial"/>
            </a:endParaRPr>
          </a:p>
        </p:txBody>
      </p:sp>
      <p:sp>
        <p:nvSpPr>
          <p:cNvPr id="135" name="PlaceHolder 2"/>
          <p:cNvSpPr>
            <a:spLocks noGrp="1"/>
          </p:cNvSpPr>
          <p:nvPr>
            <p:ph/>
          </p:nvPr>
        </p:nvSpPr>
        <p:spPr>
          <a:xfrm>
            <a:off x="533160" y="3021120"/>
            <a:ext cx="7940520" cy="63648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ters telephony-service configuration mode</a:t>
            </a:r>
            <a:endParaRPr b="1" lang="en-US" sz="2400" spc="-1" strike="noStrike">
              <a:solidFill>
                <a:srgbClr val="000000"/>
              </a:solidFill>
              <a:latin typeface="Arial"/>
            </a:endParaRPr>
          </a:p>
        </p:txBody>
      </p:sp>
      <p:sp>
        <p:nvSpPr>
          <p:cNvPr id="136" name=""/>
          <p:cNvSpPr/>
          <p:nvPr/>
        </p:nvSpPr>
        <p:spPr>
          <a:xfrm>
            <a:off x="533520" y="4925880"/>
            <a:ext cx="7940520" cy="636840"/>
          </a:xfrm>
          <a:prstGeom prst="rect">
            <a:avLst/>
          </a:prstGeom>
          <a:noFill/>
          <a:ln w="0">
            <a:noFill/>
          </a:ln>
        </p:spPr>
        <p:style>
          <a:lnRef idx="0"/>
          <a:fillRef idx="0"/>
          <a:effectRef idx="0"/>
          <a:fontRef idx="minor"/>
        </p:style>
        <p:txBody>
          <a:bodyPr lIns="82080" rIns="82080" tIns="41040" bIns="41040" anchor="t">
            <a:normAutofit fontScale="80000"/>
          </a:bodyPr>
          <a:p>
            <a:pPr marL="189000" indent="-1890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ts a username and password for the GUI system administrator</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0720" y="251316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dn-webedit</a:t>
            </a:r>
            <a:endParaRPr b="0" lang="en-US" sz="1800" spc="-1" strike="noStrike">
              <a:solidFill>
                <a:srgbClr val="000000"/>
              </a:solidFill>
              <a:latin typeface="Arial"/>
            </a:endParaRPr>
          </a:p>
        </p:txBody>
      </p:sp>
      <p:sp>
        <p:nvSpPr>
          <p:cNvPr id="138" name=""/>
          <p:cNvSpPr/>
          <p:nvPr/>
        </p:nvSpPr>
        <p:spPr>
          <a:xfrm>
            <a:off x="396720" y="216864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139" name=""/>
          <p:cNvSpPr/>
          <p:nvPr/>
        </p:nvSpPr>
        <p:spPr>
          <a:xfrm>
            <a:off x="380880" y="29718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Enables the ability to add ephone directory numbers through the CallManager Express GUI</a:t>
            </a:r>
            <a:endParaRPr b="0" lang="en-US" sz="2400" spc="-1" strike="noStrike">
              <a:solidFill>
                <a:srgbClr val="000000"/>
              </a:solidFill>
              <a:latin typeface="Arial"/>
            </a:endParaRPr>
          </a:p>
        </p:txBody>
      </p:sp>
      <p:sp>
        <p:nvSpPr>
          <p:cNvPr id="140" name=""/>
          <p:cNvSpPr/>
          <p:nvPr/>
        </p:nvSpPr>
        <p:spPr>
          <a:xfrm>
            <a:off x="450720" y="415440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rPr>
              <a:t>time-webedit</a:t>
            </a:r>
            <a:endParaRPr b="0" lang="en-US" sz="1800" spc="-1" strike="noStrike">
              <a:solidFill>
                <a:srgbClr val="000000"/>
              </a:solidFill>
              <a:latin typeface="Arial"/>
            </a:endParaRPr>
          </a:p>
        </p:txBody>
      </p:sp>
      <p:sp>
        <p:nvSpPr>
          <p:cNvPr id="141" name=""/>
          <p:cNvSpPr/>
          <p:nvPr/>
        </p:nvSpPr>
        <p:spPr>
          <a:xfrm>
            <a:off x="396720" y="380988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config-telephony-service)#</a:t>
            </a:r>
            <a:endParaRPr b="0" lang="en-US" sz="1600" spc="-1" strike="noStrike">
              <a:solidFill>
                <a:srgbClr val="000000"/>
              </a:solidFill>
              <a:latin typeface="Arial"/>
            </a:endParaRPr>
          </a:p>
        </p:txBody>
      </p:sp>
      <p:sp>
        <p:nvSpPr>
          <p:cNvPr id="142" name=""/>
          <p:cNvSpPr/>
          <p:nvPr/>
        </p:nvSpPr>
        <p:spPr>
          <a:xfrm>
            <a:off x="380880" y="4613400"/>
            <a:ext cx="8229600" cy="825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Enables the ability to set the system time through the CallManager Express GUI</a:t>
            </a:r>
            <a:endParaRPr b="0" lang="en-US" sz="2400" spc="-1" strike="noStrike">
              <a:solidFill>
                <a:srgbClr val="000000"/>
              </a:solidFill>
              <a:latin typeface="Arial"/>
            </a:endParaRPr>
          </a:p>
        </p:txBody>
      </p:sp>
      <p:sp>
        <p:nvSpPr>
          <p:cNvPr id="14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CallManager Express GUI Prerequisites (Cont.)</a:t>
            </a:r>
            <a:endParaRPr b="1"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7T20:14:29Z</dcterms:created>
  <dc:creator>Cisco</dc:creator>
  <dc:description/>
  <cp:keywords/>
  <dc:language>en-US</dc:language>
  <cp:lastModifiedBy>Ching H. Wu</cp:lastModifiedBy>
  <cp:lastPrinted>1999-01-27T00:54:54Z</cp:lastPrinted>
  <dcterms:modified xsi:type="dcterms:W3CDTF">2005-06-14T21:45:08Z</dcterms:modified>
  <cp:revision>38</cp:revision>
  <dc:subject>IP Telephony</dc:subject>
  <dc:title>Configuring CME Additional Featu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92453415</vt:r8>
  </property>
  <property fmtid="{D5CDD505-2E9C-101B-9397-08002B2CF9AE}" pid="3" name="_AuthorEmail">
    <vt:lpwstr>Eric@duarte.com</vt:lpwstr>
  </property>
  <property fmtid="{D5CDD505-2E9C-101B-9397-08002B2CF9AE}" pid="4" name="_AuthorEmailDisplayName">
    <vt:lpwstr>Eric Albertson</vt:lpwstr>
  </property>
  <property fmtid="{D5CDD505-2E9C-101B-9397-08002B2CF9AE}" pid="5" name="_EmailSubject">
    <vt:lpwstr>Re: Guidelines for template</vt:lpwstr>
  </property>
  <property fmtid="{D5CDD505-2E9C-101B-9397-08002B2CF9AE}" pid="6" name="_PreviousAdHocReviewCycleID">
    <vt:r8>-1483814466</vt:r8>
  </property>
  <property fmtid="{D5CDD505-2E9C-101B-9397-08002B2CF9AE}" pid="7" name="_ReviewingToolsShownOnce">
    <vt:lpwstr/>
  </property>
</Properties>
</file>